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media/image25.jpeg" ContentType="image/jpeg"/>
  <Override PartName="/ppt/media/image24.jpeg" ContentType="image/jpeg"/>
  <Override PartName="/ppt/media/image22.png" ContentType="image/png"/>
  <Override PartName="/ppt/media/image21.png" ContentType="image/png"/>
  <Override PartName="/ppt/media/image20.jpeg" ContentType="image/jpeg"/>
  <Override PartName="/ppt/media/image19.jpeg" ContentType="image/jpeg"/>
  <Override PartName="/ppt/media/image18.jpeg" ContentType="image/jpeg"/>
  <Override PartName="/ppt/media/image30.wmf" ContentType="image/x-wmf"/>
  <Override PartName="/ppt/media/image6.jpeg" ContentType="image/jpeg"/>
  <Override PartName="/ppt/media/image28.wmf" ContentType="image/x-wmf"/>
  <Override PartName="/ppt/media/image16.wmf" ContentType="image/x-wmf"/>
  <Override PartName="/ppt/media/image8.png" ContentType="image/png"/>
  <Override PartName="/ppt/media/image10.jpeg" ContentType="image/jpeg"/>
  <Override PartName="/ppt/media/image13.wmf" ContentType="image/x-wmf"/>
  <Override PartName="/ppt/media/image31.jpeg" ContentType="image/jpeg"/>
  <Override PartName="/ppt/media/image5.wmf" ContentType="image/x-wmf"/>
  <Override PartName="/ppt/media/image35.wmf" ContentType="image/x-wmf"/>
  <Override PartName="/ppt/media/image11.wmf" ContentType="image/x-wmf"/>
  <Override PartName="/ppt/media/image34.jpeg" ContentType="image/jpeg"/>
  <Override PartName="/ppt/media/image12.wmf" ContentType="image/x-wmf"/>
  <Override PartName="/ppt/media/image36.wmf" ContentType="image/x-wmf"/>
  <Override PartName="/ppt/media/image4.wmf" ContentType="image/x-wmf"/>
  <Override PartName="/ppt/media/image27.wmf" ContentType="image/x-wmf"/>
  <Override PartName="/ppt/media/image29.jpeg" ContentType="image/jpeg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9.jpeg" ContentType="image/jpeg"/>
  <Override PartName="/ppt/media/image23.wmf" ContentType="image/x-wmf"/>
  <Override PartName="/ppt/media/image7.jpeg" ContentType="image/jpeg"/>
  <Override PartName="/ppt/media/image1.wmf" ContentType="image/x-wmf"/>
  <Override PartName="/ppt/media/image14.wmf" ContentType="image/x-wmf"/>
  <Override PartName="/ppt/media/image15.wmf" ContentType="image/x-wmf"/>
  <Override PartName="/ppt/media/image17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9601200" cy="7315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A1FFEE-9CF3-4E02-ACAD-26611449E2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280" y="243000"/>
            <a:ext cx="88934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302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33160" y="3915360"/>
            <a:ext cx="8302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F22F13-1F24-4D96-A634-2873FA0004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8280" y="243000"/>
            <a:ext cx="88934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4051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87640" y="1447560"/>
            <a:ext cx="4051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33160" y="3915360"/>
            <a:ext cx="4051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87640" y="3915360"/>
            <a:ext cx="4051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F69291-D705-4B0D-A019-8CE93101F4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8280" y="243000"/>
            <a:ext cx="88934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2673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40440" y="1447560"/>
            <a:ext cx="2673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48080" y="1447560"/>
            <a:ext cx="2673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33160" y="3915360"/>
            <a:ext cx="2673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40440" y="3915360"/>
            <a:ext cx="2673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48080" y="3915360"/>
            <a:ext cx="2673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DA9F89-DFD6-4A9D-B9A0-8D84EBC7CFB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8280" y="243000"/>
            <a:ext cx="88934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533160" y="1447560"/>
            <a:ext cx="830268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E70D04-BA4C-4C54-A395-9808084639D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8280" y="243000"/>
            <a:ext cx="88934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3026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C8A2EB-3D48-4535-9A74-C4B2261A20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280" y="243000"/>
            <a:ext cx="88934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40514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87640" y="1447560"/>
            <a:ext cx="40514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728DA3-570C-4F95-B860-BE6A2E18A1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8280" y="243000"/>
            <a:ext cx="88934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D6155D-FD54-474D-9C70-06EE70ADDF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98280" y="304560"/>
            <a:ext cx="8893440" cy="297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A6033F-4FD7-40E6-AFD6-A4CF6D37BC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8280" y="243000"/>
            <a:ext cx="88934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4051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87640" y="1447560"/>
            <a:ext cx="40514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33160" y="3915360"/>
            <a:ext cx="4051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ACED51-B01F-476B-96CF-7D2F4F502C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280" y="243000"/>
            <a:ext cx="88934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40514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87640" y="1447560"/>
            <a:ext cx="4051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87640" y="3915360"/>
            <a:ext cx="4051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3B194A-ECFE-49A3-BCDC-0A9E55FF4E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280" y="243000"/>
            <a:ext cx="88934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4051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7640" y="1447560"/>
            <a:ext cx="4051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33160" y="3915360"/>
            <a:ext cx="8302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FF8384-75DC-4E7B-BBA2-D5F846D6E6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8280" y="304560"/>
            <a:ext cx="889344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160" y="1447560"/>
            <a:ext cx="83026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901"/>
              </a:spcBef>
              <a:buClr>
                <a:srgbClr val="003366"/>
              </a:buClr>
              <a:buFont typeface="Arial"/>
              <a:buChar char="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901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426520" y="6535800"/>
            <a:ext cx="630000" cy="30456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6C9E9-3D2C-4614-9D77-6F37AC0A9D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418600" y="6531120"/>
            <a:ext cx="547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1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2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13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14.wmf"/><Relationship Id="rId1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image" Target="../media/image6.jpeg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15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16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17.wmf"/><Relationship Id="rId18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eb.mit.edu/8.02t/www/802TEAL3D/visualizations/magnetostatics/barmagontable/barmagontable.htm" TargetMode="External"/><Relationship Id="rId2" Type="http://schemas.openxmlformats.org/officeDocument/2006/relationships/image" Target="../media/image22.png"/><Relationship Id="rId3" Type="http://schemas.openxmlformats.org/officeDocument/2006/relationships/hyperlink" Target="http://web.mit.edu/8.02t/www/802TEAL3D/visualizations/magnetostatics/barmagontable/barmagontable.htm" TargetMode="External"/><Relationship Id="rId4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wmf"/><Relationship Id="rId5" Type="http://schemas.openxmlformats.org/officeDocument/2006/relationships/image" Target="../media/image29.jpeg"/><Relationship Id="rId6" Type="http://schemas.openxmlformats.org/officeDocument/2006/relationships/oleObject" Target="../embeddings/oleObject3.bin"/><Relationship Id="rId7" Type="http://schemas.openxmlformats.org/officeDocument/2006/relationships/image" Target="../media/image30.wmf"/><Relationship Id="rId8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image" Target="../media/image31.jpeg"/><Relationship Id="rId4" Type="http://schemas.openxmlformats.org/officeDocument/2006/relationships/hyperlink" Target="http://web.mit.edu/8.02t/www/802TEAL3D/visualizations/vectorfields/CrossProduct/crossProd.htm" TargetMode="External"/><Relationship Id="rId5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3.wmf"/><Relationship Id="rId7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6.wmf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image" Target="../media/image6.jpeg"/><Relationship Id="rId1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8280" y="304560"/>
            <a:ext cx="889344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ass 14:  Outline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379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ur 1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gnetic Fiel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pt. 5:  Magnetic Fiel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ur 2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ges moving in B Fiel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 Re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553F71-7E1B-4BA4-B58B-D87601FD59AB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90360" y="457200"/>
            <a:ext cx="776916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  <a:ea typeface="新細明體"/>
              </a:rPr>
              <a:t>Magnetic Monopoles?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5029200" y="1954080"/>
            <a:ext cx="3645000" cy="6652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952880" y="2639880"/>
            <a:ext cx="3810240" cy="66672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827640" y="4052880"/>
            <a:ext cx="717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Magnetic monopoles do not exist in iso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828800" y="2065320"/>
            <a:ext cx="685800" cy="6858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62120" y="2065320"/>
            <a:ext cx="685800" cy="685800"/>
          </a:xfrm>
          <a:prstGeom prst="ellipse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066680" y="1913040"/>
            <a:ext cx="1143000" cy="0"/>
          </a:xfrm>
          <a:prstGeom prst="line">
            <a:avLst/>
          </a:prstGeom>
          <a:ln w="63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304920" y="1649520"/>
          <a:ext cx="428400" cy="685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1649520"/>
                    <a:ext cx="42840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"/>
          <p:cNvSpPr/>
          <p:nvPr/>
        </p:nvSpPr>
        <p:spPr>
          <a:xfrm>
            <a:off x="345240" y="1222200"/>
            <a:ext cx="277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ctric Dipo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523880" y="2065320"/>
            <a:ext cx="177840" cy="685800"/>
          </a:xfrm>
          <a:custGeom>
            <a:avLst/>
            <a:gdLst/>
            <a:ahLst/>
            <a:rect l="l" t="t" r="r" b="b"/>
            <a:pathLst>
              <a:path w="112" h="432">
                <a:moveTo>
                  <a:pt x="112" y="0"/>
                </a:moveTo>
                <a:cubicBezTo>
                  <a:pt x="72" y="36"/>
                  <a:pt x="32" y="72"/>
                  <a:pt x="16" y="96"/>
                </a:cubicBezTo>
                <a:cubicBezTo>
                  <a:pt x="0" y="120"/>
                  <a:pt x="8" y="120"/>
                  <a:pt x="16" y="144"/>
                </a:cubicBezTo>
                <a:cubicBezTo>
                  <a:pt x="24" y="168"/>
                  <a:pt x="56" y="216"/>
                  <a:pt x="64" y="240"/>
                </a:cubicBezTo>
                <a:cubicBezTo>
                  <a:pt x="72" y="264"/>
                  <a:pt x="72" y="272"/>
                  <a:pt x="64" y="288"/>
                </a:cubicBezTo>
                <a:cubicBezTo>
                  <a:pt x="56" y="304"/>
                  <a:pt x="16" y="312"/>
                  <a:pt x="16" y="336"/>
                </a:cubicBezTo>
                <a:cubicBezTo>
                  <a:pt x="16" y="360"/>
                  <a:pt x="40" y="396"/>
                  <a:pt x="64" y="432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55160" y="2827440"/>
            <a:ext cx="382464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ut: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monopoles (charg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4419720" y="1954080"/>
          <a:ext cx="428400" cy="685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19720" y="1954080"/>
                    <a:ext cx="42840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" name=""/>
          <p:cNvSpPr/>
          <p:nvPr/>
        </p:nvSpPr>
        <p:spPr>
          <a:xfrm>
            <a:off x="5258880" y="1219320"/>
            <a:ext cx="309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gnetic Dipo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182200" y="3352680"/>
            <a:ext cx="340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ut:  2 dipo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26400" y="4433760"/>
            <a:ext cx="59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Another Maxwell’s Equation! (2 of 4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304920" y="4876920"/>
          <a:ext cx="2895480" cy="1388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4920" y="4876920"/>
                    <a:ext cx="2895480" cy="13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2" name=""/>
          <p:cNvGraphicFramePr/>
          <p:nvPr/>
        </p:nvGraphicFramePr>
        <p:xfrm>
          <a:off x="5346720" y="5105520"/>
          <a:ext cx="2577960" cy="11905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346720" y="5105520"/>
                    <a:ext cx="2577960" cy="119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599040" y="6161040"/>
            <a:ext cx="221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auss’s La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955400" y="6172200"/>
            <a:ext cx="376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gnetic Gauss’s La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F79BEF-41FB-43B8-99A8-7F073AF5C24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8280" y="304560"/>
            <a:ext cx="889344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Fields: Grav., Electric, Magnetic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1614600" y="1657440"/>
          <a:ext cx="2212920" cy="116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4600" y="1657440"/>
                    <a:ext cx="2212920" cy="116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" name=""/>
          <p:cNvSpPr/>
          <p:nvPr/>
        </p:nvSpPr>
        <p:spPr>
          <a:xfrm>
            <a:off x="1752480" y="1066680"/>
            <a:ext cx="526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s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Charg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q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±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145040" y="1655640"/>
          <a:ext cx="2027160" cy="1163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45040" y="1655640"/>
                    <a:ext cx="2027160" cy="116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2" name=""/>
          <p:cNvGraphicFramePr/>
          <p:nvPr/>
        </p:nvGraphicFramePr>
        <p:xfrm>
          <a:off x="1600200" y="2917800"/>
          <a:ext cx="1614600" cy="787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600200" y="2917800"/>
                    <a:ext cx="1614600" cy="78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4" name=""/>
          <p:cNvGraphicFramePr/>
          <p:nvPr/>
        </p:nvGraphicFramePr>
        <p:xfrm>
          <a:off x="4137120" y="2914560"/>
          <a:ext cx="1577880" cy="749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137120" y="2914560"/>
                    <a:ext cx="1577880" cy="74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"/>
          <p:cNvSpPr/>
          <p:nvPr/>
        </p:nvSpPr>
        <p:spPr>
          <a:xfrm>
            <a:off x="230760" y="1967040"/>
            <a:ext cx="134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30760" y="3019320"/>
            <a:ext cx="9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e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90880" y="3868560"/>
            <a:ext cx="819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saw…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pol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pole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4087800" y="5843520"/>
          <a:ext cx="2084400" cy="8622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087800" y="5843520"/>
                    <a:ext cx="2084400" cy="86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230760" y="4572000"/>
            <a:ext cx="134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30760" y="5624640"/>
            <a:ext cx="9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e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1"/>
          <a:stretch/>
        </p:blipFill>
        <p:spPr>
          <a:xfrm>
            <a:off x="5257800" y="4419720"/>
            <a:ext cx="2514600" cy="1353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4" name=""/>
          <p:cNvGraphicFramePr/>
          <p:nvPr/>
        </p:nvGraphicFramePr>
        <p:xfrm>
          <a:off x="6705720" y="5843520"/>
          <a:ext cx="2084400" cy="86220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6705720" y="5843520"/>
                    <a:ext cx="2084400" cy="86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"/>
          <p:cNvSpPr/>
          <p:nvPr/>
        </p:nvSpPr>
        <p:spPr>
          <a:xfrm>
            <a:off x="6629400" y="1143000"/>
            <a:ext cx="2362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Magnetic Monopol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4191120" y="4724280"/>
          <a:ext cx="977760" cy="63684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4191120" y="4724280"/>
                    <a:ext cx="977760" cy="63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9" name=""/>
          <p:cNvGraphicFramePr/>
          <p:nvPr/>
        </p:nvGraphicFramePr>
        <p:xfrm>
          <a:off x="7772400" y="4664160"/>
          <a:ext cx="1101600" cy="72216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7772400" y="4664160"/>
                    <a:ext cx="1101600" cy="72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88AB89-609A-44F8-BEFA-C9CBF8B0157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4379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66"/>
                </a:solidFill>
                <a:latin typeface="Arial"/>
                <a:ea typeface="新細明體"/>
              </a:rPr>
              <a:t>What else is magnetic?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B78AA4-A498-43FE-8F56-D22BF9D71A1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040" y="380880"/>
            <a:ext cx="776916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  <a:ea typeface="新細明體"/>
              </a:rPr>
              <a:t>Magnetic Field of the Earth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5800" y="1447920"/>
            <a:ext cx="4705200" cy="419724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321480" y="5969160"/>
            <a:ext cx="84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North magnetic pole located in southern hemisp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867280" y="2209680"/>
            <a:ext cx="1920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so a magnetic dipole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2A0B64-4F11-4663-AAD6-332F05646E1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4311720" y="1676520"/>
            <a:ext cx="3689280" cy="39621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4278240" y="1371600"/>
            <a:ext cx="3757680" cy="434340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040" y="380880"/>
            <a:ext cx="776916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  <a:ea typeface="新細明體"/>
              </a:rPr>
              <a:t>Earth’s Field at MIT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450440" y="6095880"/>
            <a:ext cx="5801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We will measure these compon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228600" y="990720"/>
            <a:ext cx="2354400" cy="25336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4"/>
          <a:stretch/>
        </p:blipFill>
        <p:spPr>
          <a:xfrm>
            <a:off x="838080" y="3429000"/>
            <a:ext cx="2895840" cy="2583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2C4BAD-88C9-4D04-BFBE-0BB32479259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213012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Experiment 5:</a:t>
            </a:r>
            <a:br>
              <a:rPr sz="4400"/>
            </a:b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Bar Magnet &amp; </a:t>
            </a:r>
            <a:br>
              <a:rPr sz="4400"/>
            </a:b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Earth’s Magnetic Field 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807C5E-43CC-430F-8C0C-7A64262A74FF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447920" y="2514600"/>
            <a:ext cx="6057720" cy="3774960"/>
          </a:xfrm>
          <a:prstGeom prst="rect">
            <a:avLst/>
          </a:prstGeom>
          <a:ln w="0">
            <a:noFill/>
          </a:ln>
        </p:spPr>
      </p:pic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Visualization:Bar Magnet &amp; </a:t>
            </a:r>
            <a:br>
              <a:rPr sz="4000"/>
            </a:b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Earth’s Magnetic Field </a:t>
            </a:r>
            <a:br>
              <a:rPr sz="4000"/>
            </a:b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(</a:t>
            </a:r>
            <a:r>
              <a:rPr b="1" lang="en-US" sz="4000" spc="-1" strike="noStrike" u="sng">
                <a:solidFill>
                  <a:srgbClr val="003366"/>
                </a:solidFill>
                <a:uFillTx/>
                <a:latin typeface="Arial"/>
                <a:hlinkClick r:id="rId3"/>
              </a:rPr>
              <a:t>Link</a:t>
            </a: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)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AEA8BD-DC86-4252-BAD9-BF132634893A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90360" y="457200"/>
            <a:ext cx="776916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  <a:ea typeface="新細明體"/>
              </a:rPr>
              <a:t>Magnetic Field B Thus Far…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04920" y="137160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r Magnets (Magnetic Dipoles)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228600" y="2197080"/>
            <a:ext cx="4114800" cy="382284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343400" y="2133720"/>
            <a:ext cx="4800600" cy="11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eate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pole Field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eel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 Orient with Fiel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861080" y="3646440"/>
            <a:ext cx="3902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oes anything else create or feel a magnetic field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4750B1-238D-4B91-A08F-983B5C2312B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4379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66"/>
                </a:solidFill>
                <a:latin typeface="Arial"/>
                <a:ea typeface="新細明體"/>
              </a:rPr>
              <a:t>Demonstration:</a:t>
            </a:r>
            <a:br>
              <a:rPr sz="4800"/>
            </a:br>
            <a:r>
              <a:rPr b="0" lang="en-US" sz="4800" spc="-1" strike="noStrike">
                <a:solidFill>
                  <a:srgbClr val="000066"/>
                </a:solidFill>
                <a:latin typeface="Arial"/>
                <a:ea typeface="新細明體"/>
              </a:rPr>
              <a:t>TV in Field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23529E-EFF5-454B-9771-72B656D839B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88394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66"/>
                </a:solidFill>
                <a:latin typeface="Arial"/>
                <a:ea typeface="新細明體"/>
              </a:rPr>
              <a:t>Moving Charges Feel Magnetic Force</a:t>
            </a:r>
            <a:endParaRPr b="1" lang="en-US" sz="38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4419720" y="3886200"/>
          <a:ext cx="4095720" cy="129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19720" y="3886200"/>
                    <a:ext cx="4095720" cy="1292400"/>
                  </a:xfrm>
                  <a:prstGeom prst="rect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54" name=""/>
          <p:cNvSpPr/>
          <p:nvPr/>
        </p:nvSpPr>
        <p:spPr>
          <a:xfrm>
            <a:off x="685800" y="5562720"/>
            <a:ext cx="7924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Magnetic force perpendicular both t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Velocity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of charge and magnetic field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>
            <a:off x="685800" y="1143000"/>
            <a:ext cx="3102120" cy="403848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4"/>
          <a:stretch/>
        </p:blipFill>
        <p:spPr>
          <a:xfrm>
            <a:off x="5486400" y="1143000"/>
            <a:ext cx="2754360" cy="2403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D7E753-3B94-4EEE-A081-74EF5BD6CF8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4379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66"/>
                </a:solidFill>
                <a:latin typeface="Arial"/>
                <a:ea typeface="新細明體"/>
              </a:rPr>
              <a:t>A New Topic:</a:t>
            </a:r>
            <a:br>
              <a:rPr sz="4800"/>
            </a:br>
            <a:r>
              <a:rPr b="0" lang="en-US" sz="4800" spc="-1" strike="noStrike">
                <a:solidFill>
                  <a:srgbClr val="000066"/>
                </a:solidFill>
                <a:latin typeface="Arial"/>
                <a:ea typeface="新細明體"/>
              </a:rPr>
              <a:t>Magnetic Fields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9412B8-69AE-43E0-8937-9BFB511A101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609480"/>
            <a:ext cx="776952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  <a:ea typeface="新細明體"/>
              </a:rPr>
              <a:t>Magnetic Field B:  Units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980000" y="4221000"/>
            <a:ext cx="460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This is called 1 Tesla (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209680" y="5181480"/>
          <a:ext cx="4267440" cy="663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181480"/>
                    <a:ext cx="4267440" cy="66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1" name=""/>
          <p:cNvSpPr/>
          <p:nvPr/>
        </p:nvSpPr>
        <p:spPr>
          <a:xfrm>
            <a:off x="517680" y="1995480"/>
            <a:ext cx="146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Sin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1752480" y="1722600"/>
          <a:ext cx="3200400" cy="100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52480" y="1722600"/>
                    <a:ext cx="3200400" cy="100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228600" y="2819520"/>
                <a:ext cx="8763120" cy="110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 Units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newton</m:t>
                        </m:r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ulomb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eter/second</m:t>
                            </m:r>
                          </m:e>
                        </m:d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f>
                      <m:num>
                        <m:r>
                          <m:t xml:space="preserve">N</m:t>
                        </m:r>
                      </m:num>
                      <m:den>
                        <m:r>
                          <m:t xml:space="preserve">C</m:t>
                        </m:r>
                        <m:r>
                          <m:t xml:space="preserve">⋅</m:t>
                        </m:r>
                        <m:r>
                          <m:t xml:space="preserve">m</m:t>
                        </m:r>
                        <m:r>
                          <m:t xml:space="preserve">/</m:t>
                        </m:r>
                        <m:r>
                          <m:t xml:space="preserve">s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f>
                      <m:num>
                        <m:r>
                          <m:t xml:space="preserve">N</m:t>
                        </m:r>
                      </m:num>
                      <m:den>
                        <m:r>
                          <m:t xml:space="preserve">A</m:t>
                        </m:r>
                        <m:r>
                          <m:t xml:space="preserve">⋅</m:t>
                        </m:r>
                        <m:r>
                          <m:t xml:space="preserve">m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87C7CD-0E3B-4DAD-91F3-7CC2E364B88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4379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66"/>
                </a:solidFill>
                <a:latin typeface="Arial"/>
                <a:ea typeface="新細明體"/>
              </a:rPr>
              <a:t>Recall:</a:t>
            </a:r>
            <a:br>
              <a:rPr sz="4800"/>
            </a:br>
            <a:r>
              <a:rPr b="0" lang="en-US" sz="4800" spc="-1" strike="noStrike">
                <a:solidFill>
                  <a:srgbClr val="000066"/>
                </a:solidFill>
                <a:latin typeface="Arial"/>
                <a:ea typeface="新細明體"/>
              </a:rPr>
              <a:t>Cross Product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486E81-3FDF-4457-B04C-BD99615DE3C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39360" y="304560"/>
            <a:ext cx="788508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  <a:ea typeface="新細明體"/>
              </a:rPr>
              <a:t>Notation Demonstration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1898640" y="2133720"/>
            <a:ext cx="228600" cy="228600"/>
            <a:chOff x="1898640" y="2133720"/>
            <a:chExt cx="228600" cy="228600"/>
          </a:xfrm>
        </p:grpSpPr>
        <p:sp>
          <p:nvSpPr>
            <p:cNvPr id="168" name=""/>
            <p:cNvSpPr/>
            <p:nvPr/>
          </p:nvSpPr>
          <p:spPr>
            <a:xfrm>
              <a:off x="1898640" y="213372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992600" y="2222640"/>
              <a:ext cx="45360" cy="45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203560" y="2133720"/>
            <a:ext cx="228600" cy="228600"/>
            <a:chOff x="2203560" y="2133720"/>
            <a:chExt cx="228600" cy="228600"/>
          </a:xfrm>
        </p:grpSpPr>
        <p:sp>
          <p:nvSpPr>
            <p:cNvPr id="171" name=""/>
            <p:cNvSpPr/>
            <p:nvPr/>
          </p:nvSpPr>
          <p:spPr>
            <a:xfrm>
              <a:off x="2203560" y="213372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297520" y="2222640"/>
              <a:ext cx="45360" cy="45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2508120" y="2133720"/>
            <a:ext cx="228600" cy="228600"/>
            <a:chOff x="2508120" y="2133720"/>
            <a:chExt cx="228600" cy="228600"/>
          </a:xfrm>
        </p:grpSpPr>
        <p:sp>
          <p:nvSpPr>
            <p:cNvPr id="174" name=""/>
            <p:cNvSpPr/>
            <p:nvPr/>
          </p:nvSpPr>
          <p:spPr>
            <a:xfrm>
              <a:off x="2508120" y="213372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602080" y="2222640"/>
              <a:ext cx="45360" cy="45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2813040" y="2133720"/>
            <a:ext cx="228600" cy="228600"/>
            <a:chOff x="2813040" y="2133720"/>
            <a:chExt cx="228600" cy="228600"/>
          </a:xfrm>
        </p:grpSpPr>
        <p:sp>
          <p:nvSpPr>
            <p:cNvPr id="177" name=""/>
            <p:cNvSpPr/>
            <p:nvPr/>
          </p:nvSpPr>
          <p:spPr>
            <a:xfrm>
              <a:off x="2813040" y="213372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907000" y="2222640"/>
              <a:ext cx="45360" cy="45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1898640" y="2438280"/>
            <a:ext cx="228600" cy="228600"/>
            <a:chOff x="1898640" y="2438280"/>
            <a:chExt cx="228600" cy="228600"/>
          </a:xfrm>
        </p:grpSpPr>
        <p:sp>
          <p:nvSpPr>
            <p:cNvPr id="180" name=""/>
            <p:cNvSpPr/>
            <p:nvPr/>
          </p:nvSpPr>
          <p:spPr>
            <a:xfrm>
              <a:off x="1898640" y="243828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992600" y="2527200"/>
              <a:ext cx="45360" cy="45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2203560" y="2438280"/>
            <a:ext cx="228600" cy="228600"/>
            <a:chOff x="2203560" y="2438280"/>
            <a:chExt cx="228600" cy="228600"/>
          </a:xfrm>
        </p:grpSpPr>
        <p:sp>
          <p:nvSpPr>
            <p:cNvPr id="183" name=""/>
            <p:cNvSpPr/>
            <p:nvPr/>
          </p:nvSpPr>
          <p:spPr>
            <a:xfrm>
              <a:off x="2203560" y="243828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297520" y="2527200"/>
              <a:ext cx="45360" cy="45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2508120" y="2438280"/>
            <a:ext cx="228600" cy="228600"/>
            <a:chOff x="2508120" y="2438280"/>
            <a:chExt cx="228600" cy="228600"/>
          </a:xfrm>
        </p:grpSpPr>
        <p:sp>
          <p:nvSpPr>
            <p:cNvPr id="186" name=""/>
            <p:cNvSpPr/>
            <p:nvPr/>
          </p:nvSpPr>
          <p:spPr>
            <a:xfrm>
              <a:off x="2508120" y="243828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602080" y="2527200"/>
              <a:ext cx="45360" cy="45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2813040" y="2438280"/>
            <a:ext cx="228600" cy="228600"/>
            <a:chOff x="2813040" y="2438280"/>
            <a:chExt cx="228600" cy="228600"/>
          </a:xfrm>
        </p:grpSpPr>
        <p:sp>
          <p:nvSpPr>
            <p:cNvPr id="189" name=""/>
            <p:cNvSpPr/>
            <p:nvPr/>
          </p:nvSpPr>
          <p:spPr>
            <a:xfrm>
              <a:off x="2813040" y="243828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907000" y="2527200"/>
              <a:ext cx="45360" cy="45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898640" y="2743200"/>
            <a:ext cx="228600" cy="228600"/>
            <a:chOff x="1898640" y="2743200"/>
            <a:chExt cx="228600" cy="228600"/>
          </a:xfrm>
        </p:grpSpPr>
        <p:sp>
          <p:nvSpPr>
            <p:cNvPr id="192" name=""/>
            <p:cNvSpPr/>
            <p:nvPr/>
          </p:nvSpPr>
          <p:spPr>
            <a:xfrm>
              <a:off x="1898640" y="274320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992600" y="2832120"/>
              <a:ext cx="45360" cy="45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4" name=""/>
          <p:cNvGrpSpPr/>
          <p:nvPr/>
        </p:nvGrpSpPr>
        <p:grpSpPr>
          <a:xfrm>
            <a:off x="2203560" y="2743200"/>
            <a:ext cx="228600" cy="228600"/>
            <a:chOff x="2203560" y="2743200"/>
            <a:chExt cx="228600" cy="228600"/>
          </a:xfrm>
        </p:grpSpPr>
        <p:sp>
          <p:nvSpPr>
            <p:cNvPr id="195" name=""/>
            <p:cNvSpPr/>
            <p:nvPr/>
          </p:nvSpPr>
          <p:spPr>
            <a:xfrm>
              <a:off x="2203560" y="274320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297520" y="2832120"/>
              <a:ext cx="45360" cy="45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2508120" y="2743200"/>
            <a:ext cx="228600" cy="228600"/>
            <a:chOff x="2508120" y="2743200"/>
            <a:chExt cx="228600" cy="228600"/>
          </a:xfrm>
        </p:grpSpPr>
        <p:sp>
          <p:nvSpPr>
            <p:cNvPr id="198" name=""/>
            <p:cNvSpPr/>
            <p:nvPr/>
          </p:nvSpPr>
          <p:spPr>
            <a:xfrm>
              <a:off x="2508120" y="274320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602080" y="2832120"/>
              <a:ext cx="45360" cy="45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0" name=""/>
          <p:cNvGrpSpPr/>
          <p:nvPr/>
        </p:nvGrpSpPr>
        <p:grpSpPr>
          <a:xfrm>
            <a:off x="2813040" y="2743200"/>
            <a:ext cx="228600" cy="228600"/>
            <a:chOff x="2813040" y="2743200"/>
            <a:chExt cx="228600" cy="228600"/>
          </a:xfrm>
        </p:grpSpPr>
        <p:sp>
          <p:nvSpPr>
            <p:cNvPr id="201" name=""/>
            <p:cNvSpPr/>
            <p:nvPr/>
          </p:nvSpPr>
          <p:spPr>
            <a:xfrm>
              <a:off x="2813040" y="274320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907000" y="2832120"/>
              <a:ext cx="45360" cy="45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3" name=""/>
          <p:cNvSpPr/>
          <p:nvPr/>
        </p:nvSpPr>
        <p:spPr>
          <a:xfrm>
            <a:off x="1288800" y="3657600"/>
            <a:ext cx="259776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 of p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row Head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797440" y="213372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102360" y="213372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102360" y="243828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797440" y="243828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407280" y="213372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711840" y="213372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11840" y="243828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407280" y="243828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797440" y="274320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102360" y="274320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102360" y="304812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797440" y="304812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407280" y="274320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711840" y="274320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711840" y="304812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407280" y="304812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1898640" y="3048120"/>
            <a:ext cx="228600" cy="228600"/>
            <a:chOff x="1898640" y="3048120"/>
            <a:chExt cx="228600" cy="228600"/>
          </a:xfrm>
        </p:grpSpPr>
        <p:sp>
          <p:nvSpPr>
            <p:cNvPr id="221" name=""/>
            <p:cNvSpPr/>
            <p:nvPr/>
          </p:nvSpPr>
          <p:spPr>
            <a:xfrm>
              <a:off x="1898640" y="304812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92600" y="3137040"/>
              <a:ext cx="45360" cy="45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203560" y="3048120"/>
            <a:ext cx="228600" cy="228600"/>
            <a:chOff x="2203560" y="3048120"/>
            <a:chExt cx="228600" cy="228600"/>
          </a:xfrm>
        </p:grpSpPr>
        <p:sp>
          <p:nvSpPr>
            <p:cNvPr id="224" name=""/>
            <p:cNvSpPr/>
            <p:nvPr/>
          </p:nvSpPr>
          <p:spPr>
            <a:xfrm>
              <a:off x="2203560" y="304812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297520" y="3137040"/>
              <a:ext cx="45360" cy="45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2508120" y="3048120"/>
            <a:ext cx="228600" cy="228600"/>
            <a:chOff x="2508120" y="3048120"/>
            <a:chExt cx="228600" cy="228600"/>
          </a:xfrm>
        </p:grpSpPr>
        <p:sp>
          <p:nvSpPr>
            <p:cNvPr id="227" name=""/>
            <p:cNvSpPr/>
            <p:nvPr/>
          </p:nvSpPr>
          <p:spPr>
            <a:xfrm>
              <a:off x="2508120" y="304812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02080" y="3137040"/>
              <a:ext cx="45360" cy="45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2813040" y="3048120"/>
            <a:ext cx="228600" cy="228600"/>
            <a:chOff x="2813040" y="3048120"/>
            <a:chExt cx="228600" cy="228600"/>
          </a:xfrm>
        </p:grpSpPr>
        <p:sp>
          <p:nvSpPr>
            <p:cNvPr id="230" name=""/>
            <p:cNvSpPr/>
            <p:nvPr/>
          </p:nvSpPr>
          <p:spPr>
            <a:xfrm>
              <a:off x="2813040" y="304812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907000" y="3137040"/>
              <a:ext cx="45360" cy="45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5257800" y="3657600"/>
            <a:ext cx="228096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O p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row Tail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A1AA14-A41A-4345-B0BD-E8F6057433B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39360" y="304560"/>
            <a:ext cx="788508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  <a:ea typeface="新細明體"/>
              </a:rPr>
              <a:t>Cross Product: Magnitude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85800" y="121932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Computing magnitude of cross product A x B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1600200" y="2057400"/>
          <a:ext cx="2147760" cy="77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2057400"/>
                    <a:ext cx="2147760" cy="77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7" name=""/>
          <p:cNvGraphicFramePr/>
          <p:nvPr/>
        </p:nvGraphicFramePr>
        <p:xfrm>
          <a:off x="4648320" y="1905120"/>
          <a:ext cx="3749400" cy="1092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905120"/>
                    <a:ext cx="3749400" cy="109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39" name="" descr=""/>
          <p:cNvPicPr/>
          <p:nvPr/>
        </p:nvPicPr>
        <p:blipFill>
          <a:blip r:embed="rId5"/>
          <a:stretch/>
        </p:blipFill>
        <p:spPr>
          <a:xfrm>
            <a:off x="2286000" y="3200400"/>
            <a:ext cx="4346640" cy="211932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3127680" y="5996160"/>
            <a:ext cx="354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area of parallelo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2209680" y="5943600"/>
          <a:ext cx="762120" cy="579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42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209680" y="5943600"/>
                    <a:ext cx="762120" cy="57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405926-B1C8-4116-ABBB-4B7C58F8AB3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39360" y="304560"/>
            <a:ext cx="788508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  <a:ea typeface="新細明體"/>
              </a:rPr>
              <a:t>Cross Product: Direction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762840" y="1295280"/>
            <a:ext cx="383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ght Hand Rule #1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5" name=""/>
          <p:cNvGraphicFramePr/>
          <p:nvPr/>
        </p:nvGraphicFramePr>
        <p:xfrm>
          <a:off x="5181480" y="914400"/>
          <a:ext cx="3124440" cy="112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81480" y="914400"/>
                    <a:ext cx="3124440" cy="112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7" name=""/>
          <p:cNvSpPr/>
          <p:nvPr/>
        </p:nvSpPr>
        <p:spPr>
          <a:xfrm>
            <a:off x="228600" y="2057400"/>
            <a:ext cx="5181480" cy="42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)  Curl fingers of right hand in the direction that moves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(green vector) to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red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ector)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rough the smallest angle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)  Thumb of right hand will point in direction of the cross product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(orange vector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3"/>
          <a:stretch/>
        </p:blipFill>
        <p:spPr>
          <a:xfrm>
            <a:off x="5257800" y="2209680"/>
            <a:ext cx="3581280" cy="285300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>
            <a:off x="5335200" y="5257800"/>
            <a:ext cx="309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  <a:hlinkClick r:id="rId4"/>
              </a:rPr>
              <a:t>Link to shockwa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7AF38B-5A17-45A0-AE71-8E9AC23BB47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39360" y="304560"/>
            <a:ext cx="788508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  <a:ea typeface="新細明體"/>
              </a:rPr>
              <a:t>Cross Product: Signs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1" name=""/>
              <p:cNvSpPr txBox="1"/>
              <p:nvPr/>
            </p:nvSpPr>
            <p:spPr>
              <a:xfrm>
                <a:off x="1523880" y="1676520"/>
                <a:ext cx="5486400" cy="30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i</m:t>
                            </m:r>
                          </m:e>
                        </m:acc>
                        <m:r>
                          <m:t xml:space="preserve">×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j</m:t>
                            </m:r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  <m:r>
                          <m:t xml:space="preserve"> 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j</m:t>
                            </m:r>
                          </m:e>
                        </m:acc>
                        <m:r>
                          <m:t xml:space="preserve">×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i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j</m:t>
                            </m:r>
                          </m:e>
                        </m:acc>
                        <m:r>
                          <m:t xml:space="preserve">×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i</m:t>
                            </m:r>
                          </m:e>
                        </m:acc>
                        <m:r>
                          <m:t xml:space="preserve"> 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  <m:r>
                          <m:t xml:space="preserve">×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j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i</m:t>
                            </m:r>
                          </m:e>
                        </m:acc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  <m:r>
                          <m:t xml:space="preserve">×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i</m:t>
                            </m:r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j</m:t>
                            </m:r>
                          </m:e>
                        </m:acc>
                        <m:r>
                          <m:t xml:space="preserve"> 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i</m:t>
                            </m:r>
                          </m:e>
                        </m:acc>
                        <m:r>
                          <m:t xml:space="preserve">×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j</m:t>
                            </m:r>
                          </m:e>
                        </m:acc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52" name=""/>
          <p:cNvSpPr/>
          <p:nvPr/>
        </p:nvSpPr>
        <p:spPr>
          <a:xfrm>
            <a:off x="377640" y="5181480"/>
            <a:ext cx="831132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 Product is Cyclic (left colum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ersing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hanges sign (right colum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CB0C00-7FE0-402F-8E52-889414E4FDD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PRS Questions:</a:t>
            </a:r>
            <a:br>
              <a:rPr sz="4000"/>
            </a:b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Right Hand Rule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1BCA8A-7B5D-4685-937A-179AEFCBDCB2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88394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66"/>
                </a:solidFill>
                <a:latin typeface="Arial"/>
                <a:ea typeface="新細明體"/>
              </a:rPr>
              <a:t>Putting it Together:  Lorentz Force</a:t>
            </a:r>
            <a:endParaRPr b="1" lang="en-US" sz="38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1676520" y="4114800"/>
          <a:ext cx="5591160" cy="155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4114800"/>
                    <a:ext cx="5591160" cy="1550880"/>
                  </a:xfrm>
                  <a:prstGeom prst="rect">
                    <a:avLst/>
                  </a:prstGeom>
                  <a:ln w="63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57" name=""/>
          <p:cNvSpPr/>
          <p:nvPr/>
        </p:nvSpPr>
        <p:spPr>
          <a:xfrm>
            <a:off x="304920" y="5791320"/>
            <a:ext cx="861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This is the final word on the force on a char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8" name=""/>
          <p:cNvGraphicFramePr/>
          <p:nvPr/>
        </p:nvGraphicFramePr>
        <p:xfrm>
          <a:off x="4819680" y="1679400"/>
          <a:ext cx="4095720" cy="1292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19680" y="1679400"/>
                    <a:ext cx="4095720" cy="129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0" name=""/>
          <p:cNvGraphicFramePr/>
          <p:nvPr/>
        </p:nvGraphicFramePr>
        <p:xfrm>
          <a:off x="380880" y="1679400"/>
          <a:ext cx="2990880" cy="1292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6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80880" y="1679400"/>
                    <a:ext cx="2990880" cy="129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2" name=""/>
          <p:cNvSpPr/>
          <p:nvPr/>
        </p:nvSpPr>
        <p:spPr>
          <a:xfrm>
            <a:off x="289080" y="1035000"/>
            <a:ext cx="338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harges Feel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89240" y="2860560"/>
            <a:ext cx="271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ctric Fiel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410800" y="2849400"/>
            <a:ext cx="30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gnetic Fiel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7BBEA6-7F59-4DD8-AE97-B6EA6FEF0064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883944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  <a:ea typeface="新細明體"/>
              </a:rPr>
              <a:t>Application: Velocity Selector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1"/>
          <a:srcRect l="0" t="0" r="20285" b="0"/>
          <a:stretch/>
        </p:blipFill>
        <p:spPr>
          <a:xfrm>
            <a:off x="1676520" y="1295280"/>
            <a:ext cx="5715000" cy="342108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/>
          <p:nvPr/>
        </p:nvSpPr>
        <p:spPr>
          <a:xfrm>
            <a:off x="2743200" y="5410080"/>
            <a:ext cx="394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happens her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22A696-D762-4B46-963D-0F23F468E7A0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717120" y="304560"/>
            <a:ext cx="788364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  <a:ea typeface="新細明體"/>
              </a:rPr>
              <a:t>Velocity Selector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1219320" y="1143000"/>
            <a:ext cx="7169040" cy="3421080"/>
          </a:xfrm>
          <a:prstGeom prst="rect">
            <a:avLst/>
          </a:prstGeom>
          <a:ln w="0">
            <a:noFill/>
          </a:ln>
        </p:spPr>
      </p:pic>
      <p:sp>
        <p:nvSpPr>
          <p:cNvPr id="270" name=""/>
          <p:cNvSpPr/>
          <p:nvPr/>
        </p:nvSpPr>
        <p:spPr>
          <a:xfrm>
            <a:off x="534960" y="4800600"/>
            <a:ext cx="615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Particle moves in a straight line whe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1" name=""/>
          <p:cNvGraphicFramePr/>
          <p:nvPr/>
        </p:nvGraphicFramePr>
        <p:xfrm>
          <a:off x="609480" y="5486400"/>
          <a:ext cx="5104080" cy="938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7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5486400"/>
                    <a:ext cx="5104080" cy="9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3" name=""/>
          <p:cNvGraphicFramePr/>
          <p:nvPr/>
        </p:nvGraphicFramePr>
        <p:xfrm>
          <a:off x="5257800" y="5251320"/>
          <a:ext cx="2808360" cy="1454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7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257800" y="5251320"/>
                    <a:ext cx="2808360" cy="145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684A33-52B3-4785-A4B5-EABCEF04B4C4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8280" y="304560"/>
            <a:ext cx="889344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Gravitational – Electric Fields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1614600" y="1657440"/>
          <a:ext cx="2212920" cy="116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4600" y="1657440"/>
                    <a:ext cx="2212920" cy="116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1752480" y="1066680"/>
            <a:ext cx="526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s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Charg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q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±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4145040" y="1655640"/>
          <a:ext cx="2027160" cy="1163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45040" y="1655640"/>
                    <a:ext cx="2027160" cy="116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" name=""/>
          <p:cNvGraphicFramePr/>
          <p:nvPr/>
        </p:nvGraphicFramePr>
        <p:xfrm>
          <a:off x="1600200" y="2917800"/>
          <a:ext cx="1614600" cy="787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600200" y="2917800"/>
                    <a:ext cx="1614600" cy="78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4137120" y="2914560"/>
          <a:ext cx="1577880" cy="749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137120" y="2914560"/>
                    <a:ext cx="1577880" cy="74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230760" y="1967040"/>
            <a:ext cx="134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30760" y="3019320"/>
            <a:ext cx="9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e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90520" y="3873600"/>
            <a:ext cx="5349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saw…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pol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087800" y="5843520"/>
          <a:ext cx="2084400" cy="8622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087800" y="5843520"/>
                    <a:ext cx="2084400" cy="86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230760" y="4572000"/>
            <a:ext cx="134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30760" y="5624640"/>
            <a:ext cx="9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e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1"/>
          <a:stretch/>
        </p:blipFill>
        <p:spPr>
          <a:xfrm>
            <a:off x="3809880" y="4419720"/>
            <a:ext cx="2514600" cy="1353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2E0411-B06E-43A6-AB5B-D2E5B292CAE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PRS Question:</a:t>
            </a:r>
            <a:br>
              <a:rPr sz="4000"/>
            </a:b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Hall Effect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4A2CC2-6EB3-46DF-BB88-F45AEAF83F89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4920" y="213012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Exam Review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55CC49-852D-43EB-A59A-67F4154FAA65}" type="slidenum">
              <a:t>31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360" y="457200"/>
            <a:ext cx="776916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  <a:ea typeface="新細明體"/>
              </a:rPr>
              <a:t>Magnetism – Bar Magnet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828800" y="1600200"/>
            <a:ext cx="5867280" cy="18954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676880" y="3886200"/>
            <a:ext cx="626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Like poles repel, opposite poles attra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88E96F-8BDF-4E7C-913F-F2091145AAA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379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66"/>
                </a:solidFill>
                <a:latin typeface="Arial"/>
                <a:ea typeface="新細明體"/>
              </a:rPr>
              <a:t>Demonstration:</a:t>
            </a:r>
            <a:br>
              <a:rPr sz="4800"/>
            </a:br>
            <a:r>
              <a:rPr b="0" lang="en-US" sz="4800" spc="-1" strike="noStrike">
                <a:solidFill>
                  <a:srgbClr val="000066"/>
                </a:solidFill>
                <a:latin typeface="Arial"/>
                <a:ea typeface="新細明體"/>
              </a:rPr>
              <a:t>Magnetic Field Lines</a:t>
            </a:r>
            <a:br>
              <a:rPr sz="4800"/>
            </a:br>
            <a:r>
              <a:rPr b="0" lang="en-US" sz="4800" spc="-1" strike="noStrike">
                <a:solidFill>
                  <a:srgbClr val="000066"/>
                </a:solidFill>
                <a:latin typeface="Arial"/>
                <a:ea typeface="新細明體"/>
              </a:rPr>
              <a:t>from Bar Magnet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046673-AAF4-4C91-B8B4-1A5A1D0EDA6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379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66"/>
                </a:solidFill>
                <a:latin typeface="Arial"/>
                <a:ea typeface="新細明體"/>
              </a:rPr>
              <a:t>Demonstration:</a:t>
            </a:r>
            <a:br>
              <a:rPr sz="4800"/>
            </a:br>
            <a:r>
              <a:rPr b="0" lang="en-US" sz="4800" spc="-1" strike="noStrike">
                <a:solidFill>
                  <a:srgbClr val="000066"/>
                </a:solidFill>
                <a:latin typeface="Arial"/>
                <a:ea typeface="新細明體"/>
              </a:rPr>
              <a:t>Compass (bar magnet) in Magnetic Field Lines</a:t>
            </a:r>
            <a:br>
              <a:rPr sz="4800"/>
            </a:br>
            <a:r>
              <a:rPr b="0" lang="en-US" sz="4800" spc="-1" strike="noStrike">
                <a:solidFill>
                  <a:srgbClr val="000066"/>
                </a:solidFill>
                <a:latin typeface="Arial"/>
                <a:ea typeface="新細明體"/>
              </a:rPr>
              <a:t>from Bar Magnet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574B70-F0F1-442F-BECC-F89E1BF40AB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883944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  <a:ea typeface="新細明體"/>
              </a:rPr>
              <a:t>Magnetic Field of Bar Magnet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07800" y="5638680"/>
            <a:ext cx="847116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(1)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A magnet has two poles, North (N) and South (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(2)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Magnetic field lines leave from N, end at 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676520" y="1087560"/>
            <a:ext cx="4817880" cy="4475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9AD513-6A2A-4AE4-B32D-3E969DC8B32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360" y="457200"/>
            <a:ext cx="776916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  <a:ea typeface="新細明體"/>
              </a:rPr>
              <a:t>Bar Magnets Are Dipoles!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685800" y="4952880"/>
            <a:ext cx="3645000" cy="6652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4724280" y="4952880"/>
            <a:ext cx="3810240" cy="66672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611280" y="5943600"/>
            <a:ext cx="800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NO!  Magnetic monopoles do not exist in iso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228600" y="1262160"/>
            <a:ext cx="3809880" cy="353844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4039920" y="1295280"/>
            <a:ext cx="503748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Dipole Fie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tate to orient with Fie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114800" y="2835360"/>
            <a:ext cx="4876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there magnetic “mass” or magnetic “charge?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7F8666-08D2-4B92-AC1E-6E7F520E3E5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360" y="457200"/>
            <a:ext cx="776916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  <a:ea typeface="新細明體"/>
              </a:rPr>
              <a:t>Bar Magnets Are Dipoles!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685800" y="4952880"/>
            <a:ext cx="3645000" cy="66528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724280" y="4952880"/>
            <a:ext cx="3810240" cy="6667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611280" y="5943600"/>
            <a:ext cx="800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NO!  Magnetic monopoles do not exist in iso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228600" y="1262160"/>
            <a:ext cx="3809880" cy="353844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039920" y="1295280"/>
            <a:ext cx="503748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Dipole Fie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tate to orient with Fie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114800" y="2835360"/>
            <a:ext cx="4876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there magnetic “mass” or magnetic “charge?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DEA25C-13C9-4E22-B210-20563C5D64C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23T20:04:55Z</dcterms:created>
  <dc:creator>Eric Hudson</dc:creator>
  <dc:description/>
  <cp:keywords>Magnetic Fields</cp:keywords>
  <dc:language>en-US</dc:language>
  <cp:lastModifiedBy>Sapient</cp:lastModifiedBy>
  <dcterms:modified xsi:type="dcterms:W3CDTF">2005-03-28T09:33:58Z</dcterms:modified>
  <cp:revision>2023</cp:revision>
  <dc:subject>Magnetic Fields</dc:subject>
  <dc:title>Presentation 14</dc:title>
</cp:coreProperties>
</file>