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19.jpeg" ContentType="image/jpeg"/>
  <Override PartName="/ppt/media/image28.jpeg" ContentType="image/jpeg"/>
  <Override PartName="/ppt/media/image23.wmf" ContentType="image/x-wmf"/>
  <Override PartName="/ppt/media/image17.png" ContentType="image/png"/>
  <Override PartName="/ppt/media/image15.wmf" ContentType="image/x-wmf"/>
  <Override PartName="/ppt/media/image14.jpeg" ContentType="image/jpeg"/>
  <Override PartName="/ppt/media/image41.jpeg" ContentType="image/jpeg"/>
  <Override PartName="/ppt/media/image16.wmf" ContentType="image/x-wmf"/>
  <Override PartName="/ppt/media/image12.png" ContentType="image/png"/>
  <Override PartName="/ppt/media/image8.jpeg" ContentType="image/jpeg"/>
  <Override PartName="/ppt/media/image33.wmf" ContentType="image/x-wmf"/>
  <Override PartName="/ppt/media/image29.jpeg" ContentType="image/jpeg"/>
  <Override PartName="/ppt/media/image10.jpeg" ContentType="image/jpeg"/>
  <Override PartName="/ppt/media/image36.wmf" ContentType="image/x-wmf"/>
  <Override PartName="/ppt/media/image11.jpeg" ContentType="image/jpeg"/>
  <Override PartName="/ppt/media/image40.png" ContentType="image/png"/>
  <Override PartName="/ppt/media/image38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9.png" ContentType="image/png"/>
  <Override PartName="/ppt/media/image42.wmf" ContentType="image/x-wmf"/>
  <Override PartName="/ppt/media/image43.wmf" ContentType="image/x-wmf"/>
  <Override PartName="/ppt/media/image44.png" ContentType="image/png"/>
  <Override PartName="/ppt/media/image7.wmf" ContentType="image/x-wmf"/>
  <Override PartName="/ppt/media/image37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.png" ContentType="image/png"/>
  <Override PartName="/ppt/media/image32.wmf" ContentType="image/x-wmf"/>
  <Override PartName="/ppt/media/image2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E8C5-B374-4400-8E7E-3C805003E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DFAA-F405-4824-9C26-8CB7E5329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5C18-815B-4E3A-B4BC-3CA1F83B9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F879-2A2A-4D42-9123-513281077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B4F9-0D95-4557-934F-65E999614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876F-41A2-4585-9C39-B75DB8CDD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35E1-323A-4B4E-B90B-6D7F902AE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748C-2ED5-4799-92FC-DB3735DCD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7669-F581-4D10-9EB3-01B01B15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9394-5893-40DD-809A-B414E627D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D763-0A9C-43A7-B10E-1B9F0F87E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95F8-51C4-43B6-B4CA-C0246B2C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5D1-06F0-4712-BD2B-163BA7A4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81960" y="65246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electrostatics/chargebyinduction/chargebyinduction.htm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eb.mit.edu/8.02t/www/802TEAL3D/visualizations/electrostatics/chargebyinduction/chargebyinduction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08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Time: 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3:  Faraday Ice Pai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tors &amp; Dielec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AA75-CE2B-49E0-B2C4-010C7BC333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isualization: Inductive Charg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828800"/>
            <a:ext cx="4191120" cy="3741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5943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5DBD-EA13-426B-844C-DCB116E5B6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3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araday Ice Pai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1858-5D3D-41CE-8581-1524019C0D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B15F-7066-4D0E-BAEE-98C1256015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:  Store Electric Energy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419720" y="1295280"/>
          <a:ext cx="312408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95280"/>
                    <a:ext cx="3124080" cy="19893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2862000" cy="32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5562720" y="5257800"/>
          <a:ext cx="1984320" cy="139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5257800"/>
                    <a:ext cx="1984320" cy="13986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726800" y="46483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late Capaci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9320" y="4648320"/>
            <a:ext cx="38001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Put on arbitrary ±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 Calculat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 Calcul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atteries &amp;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mentary Circui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54BF-D0EB-4C4C-BC46-9DF1700512B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Ideal Batte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26" descr=""/>
          <p:cNvPicPr/>
          <p:nvPr/>
        </p:nvPicPr>
        <p:blipFill>
          <a:blip r:embed="rId1"/>
          <a:srcRect l="0" t="67243" r="0" b="0"/>
          <a:stretch/>
        </p:blipFill>
        <p:spPr>
          <a:xfrm>
            <a:off x="685800" y="1600200"/>
            <a:ext cx="3508200" cy="1901880"/>
          </a:xfrm>
          <a:prstGeom prst="rect">
            <a:avLst/>
          </a:prstGeom>
          <a:ln w="0">
            <a:noFill/>
          </a:ln>
        </p:spPr>
      </p:pic>
      <p:pic>
        <p:nvPicPr>
          <p:cNvPr id="79" name="26" descr=""/>
          <p:cNvPicPr/>
          <p:nvPr/>
        </p:nvPicPr>
        <p:blipFill>
          <a:blip r:embed="rId2"/>
          <a:srcRect l="0" t="68423" r="0" b="0"/>
          <a:stretch/>
        </p:blipFill>
        <p:spPr>
          <a:xfrm>
            <a:off x="5029200" y="1600200"/>
            <a:ext cx="2819520" cy="1866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2120" y="3733920"/>
            <a:ext cx="87440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s potential difference between its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as much charge as necessary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Makes a mou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6BAB-B382-4629-BDEF-07474B5CC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atteries in Seri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143000"/>
            <a:ext cx="5257440" cy="1676160"/>
            <a:chOff x="1447920" y="1143000"/>
            <a:chExt cx="5257440" cy="1676160"/>
          </a:xfrm>
        </p:grpSpPr>
        <p:pic>
          <p:nvPicPr>
            <p:cNvPr id="83" name="26" descr=""/>
            <p:cNvPicPr/>
            <p:nvPr/>
          </p:nvPicPr>
          <p:blipFill>
            <a:blip r:embed="rId1"/>
            <a:srcRect l="11419" t="67243" r="0" b="0"/>
            <a:stretch/>
          </p:blipFill>
          <p:spPr>
            <a:xfrm>
              <a:off x="3987360" y="1143000"/>
              <a:ext cx="27180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26" descr=""/>
            <p:cNvPicPr/>
            <p:nvPr/>
          </p:nvPicPr>
          <p:blipFill>
            <a:blip r:embed="rId2"/>
            <a:srcRect l="0" t="67243" r="8682" b="0"/>
            <a:stretch/>
          </p:blipFill>
          <p:spPr>
            <a:xfrm>
              <a:off x="1447920" y="1143000"/>
              <a:ext cx="28022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12040" y="2025360"/>
              <a:ext cx="35028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01200" y="2025360"/>
              <a:ext cx="35028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905120" y="2971800"/>
            <a:ext cx="4038120" cy="1371240"/>
            <a:chOff x="1905120" y="2971800"/>
            <a:chExt cx="4038120" cy="1371240"/>
          </a:xfrm>
        </p:grpSpPr>
        <p:grpSp>
          <p:nvGrpSpPr>
            <p:cNvPr id="88" name=""/>
            <p:cNvGrpSpPr/>
            <p:nvPr/>
          </p:nvGrpSpPr>
          <p:grpSpPr>
            <a:xfrm>
              <a:off x="1905120" y="2971800"/>
              <a:ext cx="4038120" cy="1371240"/>
              <a:chOff x="1905120" y="2971800"/>
              <a:chExt cx="4038120" cy="1371240"/>
            </a:xfrm>
          </p:grpSpPr>
          <p:pic>
            <p:nvPicPr>
              <p:cNvPr id="89" name="26" descr=""/>
              <p:cNvPicPr/>
              <p:nvPr/>
            </p:nvPicPr>
            <p:blipFill>
              <a:blip r:embed="rId3"/>
              <a:srcRect l="18389" t="68423" r="0" b="8773"/>
              <a:stretch/>
            </p:blipFill>
            <p:spPr>
              <a:xfrm>
                <a:off x="3819600" y="2971800"/>
                <a:ext cx="2123640" cy="137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26" descr=""/>
              <p:cNvPicPr/>
              <p:nvPr/>
            </p:nvPicPr>
            <p:blipFill>
              <a:blip r:embed="rId4"/>
              <a:srcRect l="0" t="68423" r="15404" b="8773"/>
              <a:stretch/>
            </p:blipFill>
            <p:spPr>
              <a:xfrm>
                <a:off x="1905120" y="2971800"/>
                <a:ext cx="2201760" cy="137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"/>
            <p:cNvSpPr/>
            <p:nvPr/>
          </p:nvSpPr>
          <p:spPr>
            <a:xfrm>
              <a:off x="2221560" y="3124440"/>
              <a:ext cx="749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2120" y="3124440"/>
              <a:ext cx="749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31080" y="4572000"/>
            <a:ext cx="688176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voltage change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wo Mountains Sta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902A-6CFB-42BD-80EC-191D4BC4F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atteries in Paralle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859280" cy="5163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4120" y="2438280"/>
            <a:ext cx="3581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voltage sti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do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B780-BA37-494F-A339-A43D690F4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 in Paralle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26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2688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F639-4730-4D9C-B104-070D0F754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 in Paralle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26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384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5867280" y="3048120"/>
          <a:ext cx="3014640" cy="93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048120"/>
                    <a:ext cx="30146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26" descr=""/>
          <p:cNvPicPr/>
          <p:nvPr/>
        </p:nvPicPr>
        <p:blipFill>
          <a:blip r:embed="rId4"/>
          <a:stretch/>
        </p:blipFill>
        <p:spPr>
          <a:xfrm>
            <a:off x="3352680" y="1252440"/>
            <a:ext cx="239868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5040" y="137160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otenti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70AA-DEE0-4F4A-B81D-57F5AE4CE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Conducto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A6D3-79C7-4B60-9FBA-01338A990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quivalent Capacita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2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071800" cy="4343400"/>
          </a:xfrm>
          <a:prstGeom prst="rect">
            <a:avLst/>
          </a:prstGeom>
          <a:ln w="0">
            <a:noFill/>
          </a:ln>
        </p:spPr>
      </p:pic>
      <p:pic>
        <p:nvPicPr>
          <p:cNvPr id="107" name="26" descr=""/>
          <p:cNvPicPr/>
          <p:nvPr/>
        </p:nvPicPr>
        <p:blipFill>
          <a:blip r:embed="rId2"/>
          <a:stretch/>
        </p:blipFill>
        <p:spPr>
          <a:xfrm>
            <a:off x="6781680" y="1676520"/>
            <a:ext cx="20242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43200" y="2743200"/>
          <a:ext cx="37339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743200"/>
                    <a:ext cx="37339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743200" y="4191120"/>
          <a:ext cx="3657600" cy="116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191120"/>
                    <a:ext cx="3657600" cy="11635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3809880" y="1600200"/>
            <a:ext cx="1524240" cy="609480"/>
            <a:chOff x="3809880" y="1600200"/>
            <a:chExt cx="1524240" cy="609480"/>
          </a:xfrm>
        </p:grpSpPr>
        <p:sp>
          <p:nvSpPr>
            <p:cNvPr id="113" name=""/>
            <p:cNvSpPr/>
            <p:nvPr/>
          </p:nvSpPr>
          <p:spPr>
            <a:xfrm>
              <a:off x="3809880" y="2209680"/>
              <a:ext cx="15242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8520" y="1600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CD7D-0628-4B14-91C8-12D30948E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 in Seri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9608" t="0" r="0" b="0"/>
          <a:stretch/>
        </p:blipFill>
        <p:spPr>
          <a:xfrm>
            <a:off x="2133720" y="1066680"/>
            <a:ext cx="5019480" cy="5534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74680" y="3581280"/>
            <a:ext cx="38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Voltag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Q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15F4-34A9-4250-A0E2-617941880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apacitors in Seri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5928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C1FA-6090-4125-847D-995CCC138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quivalent Capacitan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2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743200" cy="3504960"/>
          </a:xfrm>
          <a:prstGeom prst="rect">
            <a:avLst/>
          </a:prstGeom>
          <a:ln w="0">
            <a:noFill/>
          </a:ln>
        </p:spPr>
      </p:pic>
      <p:pic>
        <p:nvPicPr>
          <p:cNvPr id="122" name="26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4382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124080" y="1295280"/>
          <a:ext cx="327672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95280"/>
                    <a:ext cx="32767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124080" y="2666880"/>
          <a:ext cx="31244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666880"/>
                    <a:ext cx="31244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24080" y="4038480"/>
          <a:ext cx="3124440" cy="10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038480"/>
                    <a:ext cx="3124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276720" y="5257800"/>
          <a:ext cx="2819160" cy="13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5257800"/>
                    <a:ext cx="2819160" cy="13827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053160" y="3429000"/>
            <a:ext cx="32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oltage adds in se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BD10-D6F0-44CC-ACB4-4556F6C9D4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pacitors in Series and Parallel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B59C-8A8F-4D8F-AA79-E089A89EC12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D48E-A033-482B-A84D-BF7B05BF132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electric in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B6AE-2969-4722-90A5-8184CCBDB3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95280"/>
            <a:ext cx="853416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lectric is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ductor or ins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rubber, glass, waxed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ced in a charged capacitor, the dielectric reduces the potential difference between the two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9446-2949-423F-BD57-CFD1F4389F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olecular View of 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371600"/>
            <a:ext cx="853416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Polar Dielectrics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Dielectrics with permanent electric dipole mo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Example: Water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26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8102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26" descr=""/>
          <p:cNvPicPr/>
          <p:nvPr/>
        </p:nvPicPr>
        <p:blipFill>
          <a:blip r:embed="rId2"/>
          <a:stretch/>
        </p:blipFill>
        <p:spPr>
          <a:xfrm>
            <a:off x="4800600" y="3662280"/>
            <a:ext cx="3886200" cy="25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AAA3-B2AE-471E-87E4-31850D5D7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olecular View of 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71600"/>
            <a:ext cx="81532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Non-Polar Dielec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Dielectrics with induced electric dipole mo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Example: C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26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276720" cy="2535120"/>
          </a:xfrm>
          <a:prstGeom prst="rect">
            <a:avLst/>
          </a:prstGeom>
          <a:ln w="0">
            <a:noFill/>
          </a:ln>
        </p:spPr>
      </p:pic>
      <p:pic>
        <p:nvPicPr>
          <p:cNvPr id="144" name="26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124080" cy="26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7D4C-2058-47A0-9E2B-53753BFE99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ductors in Equilibriu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7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s are equipotenti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 = 0 i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Net charge inside is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E perpendicular to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Excess charge on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0592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4191120"/>
                <a:ext cx="20574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σ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DA09-696E-446F-9816-3ECDB8DF4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electric in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638680" cy="380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5410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otential difference decreases because dielectric polarization decreases Electric Fiel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F7F7-BE31-436E-9404-91AEF80ED1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auss’s Law for Dielectric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6576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pon inserting dielectric, a charge densit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’ is induced at its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360" y="4572000"/>
          <a:ext cx="41068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4572000"/>
                    <a:ext cx="41068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23080" y="4495680"/>
                <a:ext cx="20160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7238880" cy="255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03640" y="609588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’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114800" y="4495680"/>
          <a:ext cx="2347920" cy="131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4495680"/>
                    <a:ext cx="234792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DE85-1CE4-4C50-B136-FB508604A2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electric Constant </a:t>
            </a:r>
            <a:r>
              <a:rPr b="1" i="1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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5440" y="1219320"/>
            <a:ext cx="846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Dielectric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weake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 original field by a factor </a:t>
            </a:r>
            <a:r>
              <a:rPr b="1" i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4160" y="3962520"/>
            <a:ext cx="50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auss’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新細明體"/>
              </a:rPr>
              <a:t> Law with dielectric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41785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41785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-6480" y="4435560"/>
          <a:ext cx="564516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480" y="4435560"/>
                    <a:ext cx="5645160" cy="22683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638680" y="4038480"/>
            <a:ext cx="3505320" cy="2489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electric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acu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per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yrex Glass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er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2438280"/>
          <a:ext cx="55080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438280"/>
                    <a:ext cx="5508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781600" y="2030400"/>
          <a:ext cx="2676600" cy="124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1600" y="2030400"/>
                    <a:ext cx="2676600" cy="124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788E-C2FE-4B6D-BAA5-67D24B0280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electric in a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12840"/>
            <a:ext cx="807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= constant after battery is dis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297480" y="3917880"/>
          <a:ext cx="124632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7480" y="3917880"/>
                    <a:ext cx="12463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19640" y="4145040"/>
            <a:ext cx="55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pon inserting a dielectri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43000" y="5105520"/>
          <a:ext cx="617220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105520"/>
                    <a:ext cx="6172200" cy="148572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57200" y="1981080"/>
            <a:ext cx="3962520" cy="1943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572000" y="1981080"/>
            <a:ext cx="4038480" cy="19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A3BF-556B-4B2B-A19F-EB2632EB7A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electric in a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37160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= constant when battery remains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6960" y="5715000"/>
            <a:ext cx="55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pon inserting a dielectri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26" descr=""/>
          <p:cNvPicPr/>
          <p:nvPr/>
        </p:nvPicPr>
        <p:blipFill>
          <a:blip r:embed="rId1"/>
          <a:stretch/>
        </p:blipFill>
        <p:spPr>
          <a:xfrm>
            <a:off x="152280" y="1954080"/>
            <a:ext cx="8839440" cy="20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6095880" y="5587920"/>
          <a:ext cx="213372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5587920"/>
                    <a:ext cx="2133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981080" y="4114800"/>
          <a:ext cx="4240440" cy="140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114800"/>
                    <a:ext cx="42404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FBAB-4284-46F9-8933-29A0D4E22C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electric in a Capacito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4FE-E72B-4101-BEAF-22F28102287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: Partially Filled Capacitor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5920" y="5029200"/>
            <a:ext cx="76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acitance of this capaci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61000" cy="258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430B-98CE-4F3D-B203-97D8B9822A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ductors as Sh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D778-B358-4DEE-AB25-C5378B19C9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llow Conducto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44792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placed INSIDE induces balancing charge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2895480"/>
          <a:ext cx="3090600" cy="33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309060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43400" y="2590920"/>
            <a:ext cx="3895560" cy="38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3AE3-E245-473B-8109-675CE596D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llow Conducto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447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placed OUTSIDE induces charge separation on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33720" y="3048120"/>
          <a:ext cx="448308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448308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7442-6C72-4374-A3CD-E2A2F8F216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Set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1752480"/>
          <a:ext cx="38210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38210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410080" y="224964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we put Q in the cen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FD0-25E1-43C8-8F6D-4B4938856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int Charg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side Conducto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47C3-56DE-46C8-B50B-E28281FFBC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ductive Shield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E954-9E12-40C9-8DD6-A8430C6744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Capacitor Conductor Shielding Dielectric</cp:keywords>
  <dc:language>en-US</dc:language>
  <cp:lastModifiedBy>Sapient</cp:lastModifiedBy>
  <dcterms:modified xsi:type="dcterms:W3CDTF">2005-03-28T09:24:18Z</dcterms:modified>
  <cp:revision>1832</cp:revision>
  <dc:subject>Capacitors &amp; Dielectrics</dc:subject>
  <dc:title>Presentation 09</dc:title>
</cp:coreProperties>
</file>