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jpeg" ContentType="image/jpeg"/>
  <Override PartName="/ppt/media/image21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png" ContentType="image/png"/>
  <Override PartName="/ppt/media/image22.jpeg" ContentType="image/jpeg"/>
  <Override PartName="/ppt/media/image39.png" ContentType="image/png"/>
  <Override PartName="/ppt/media/image42.wmf" ContentType="image/x-wmf"/>
  <Override PartName="/ppt/media/image15.wmf" ContentType="image/x-wmf"/>
  <Override PartName="/ppt/media/image1.jpeg" ContentType="image/jpeg"/>
  <Override PartName="/ppt/media/image9.jpeg" ContentType="image/jpeg"/>
  <Override PartName="/ppt/media/image28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38.wmf" ContentType="image/x-wmf"/>
  <Override PartName="/ppt/media/image4.jpeg" ContentType="image/jpeg"/>
  <Override PartName="/ppt/media/image40.png" ContentType="image/png"/>
  <Override PartName="/ppt/media/image35.wmf" ContentType="image/x-wmf"/>
  <Override PartName="/ppt/media/image26.png" ContentType="image/png"/>
  <Override PartName="/ppt/media/image30.jpeg" ContentType="image/jpeg"/>
  <Override PartName="/ppt/media/image37.wmf" ContentType="image/x-wmf"/>
  <Override PartName="/ppt/media/image34.wmf" ContentType="image/x-wmf"/>
  <Override PartName="/ppt/media/image36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7.jpeg" ContentType="image/jpeg"/>
  <Override PartName="/ppt/media/image31.wmf" ContentType="image/x-wmf"/>
  <Override PartName="/ppt/media/image13.png" ContentType="image/png"/>
  <Override PartName="/ppt/media/image3.wmf" ContentType="image/x-wmf"/>
  <Override PartName="/ppt/media/image29.jpeg" ContentType="image/jpeg"/>
  <Override PartName="/ppt/media/image33.wmf" ContentType="image/x-wmf"/>
  <Override PartName="/ppt/media/image12.wmf" ContentType="image/x-wmf"/>
  <Override PartName="/ppt/media/image27.png" ContentType="image/png"/>
  <Override PartName="/ppt/media/image6.jpeg" ContentType="image/jpeg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1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92BD-14BF-4FC0-B15E-D6EEFDEBB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C8AB-C975-458A-92D4-73E9D8FC3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390F-2834-4E4E-96CE-53662E1E5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044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808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044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808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27E12-55F2-41ED-9A63-D89DA3C61E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0A22-426A-48AF-9C81-95B14F4218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F5F8-2A12-4A73-AC77-7147BDF0F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DE90-1A7D-48BE-8323-72ACE6408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BDD2-2461-435F-A8E1-DFFFD383D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280" y="304560"/>
            <a:ext cx="889344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590B-3AA0-4288-9687-ADCA3E6EE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7E4B-A6A4-405F-84E9-FF6F471E9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CFC1-C844-440A-B192-A1FFC486B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E34D1-9C24-465E-B16E-7B49B6BE3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6699ff"/>
              </a:buClr>
              <a:buFont typeface="Arial"/>
              <a:buChar char="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6520" y="6535800"/>
            <a:ext cx="630000" cy="304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CEAD-0704-420A-B873-8A48A144C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18600" y="653112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fml.ru.nl/levitation-movies.html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hfml.sci.kun.nl/levitate.html" TargetMode="External"/><Relationship Id="rId2" Type="http://schemas.openxmlformats.org/officeDocument/2006/relationships/hyperlink" Target="http://www.hfml.sci.kun.nl/levitate.html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eb.mit.edu/8.02t/www/802TEAL3D/visualizations/magnetostatics/MagneticForceRepel/MagneticForceRepel.htm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eb.mit.edu/8.02t/www/802TEAL3D/visualizations/magnetostatics/MagneticForceRepel/MagneticForceRepel.htm" TargetMode="External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wmf"/><Relationship Id="rId1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7.wmf"/><Relationship Id="rId16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fml.sci.kun.nl/levitate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ass 18:  Outlin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2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i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 8:  Magnetic 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pere’s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DADE-0883-4024-8BC0-407613EEFCF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Back to Levitation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6E81-7B36-470D-9C96-F75BCF527A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Levitating a Diamagne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195840" y="1320840"/>
            <a:ext cx="4757400" cy="3352320"/>
            <a:chOff x="-195840" y="1320840"/>
            <a:chExt cx="4757400" cy="3352320"/>
          </a:xfrm>
        </p:grpSpPr>
        <p:sp>
          <p:nvSpPr>
            <p:cNvPr id="68" name=""/>
            <p:cNvSpPr/>
            <p:nvPr/>
          </p:nvSpPr>
          <p:spPr>
            <a:xfrm>
              <a:off x="-195840" y="1320840"/>
              <a:ext cx="1463760" cy="335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1713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171374"/>
                </a:path>
              </a:pathLst>
            </a:custGeom>
            <a:noFill/>
            <a:ln w="889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080" y="1320840"/>
              <a:ext cx="824760" cy="335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1713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171374"/>
                </a:path>
              </a:pathLst>
            </a:custGeom>
            <a:noFill/>
            <a:ln w="889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02720" y="1320840"/>
              <a:ext cx="275040" cy="335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1713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171374"/>
                </a:path>
              </a:pathLst>
            </a:custGeom>
            <a:noFill/>
            <a:ln w="889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81240" y="1320840"/>
              <a:ext cx="2880" cy="335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1713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171374"/>
                </a:path>
              </a:pathLst>
            </a:custGeom>
            <a:noFill/>
            <a:ln w="889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097080" y="1320840"/>
              <a:ext cx="1464480" cy="335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1713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171374"/>
                </a:path>
              </a:pathLst>
            </a:custGeom>
            <a:noFill/>
            <a:ln w="889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791800" y="1320840"/>
              <a:ext cx="824760" cy="335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1713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171374"/>
                </a:path>
              </a:pathLst>
            </a:custGeom>
            <a:noFill/>
            <a:ln w="889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487600" y="1320840"/>
              <a:ext cx="274320" cy="335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1713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171374"/>
                </a:path>
              </a:pathLst>
            </a:custGeom>
            <a:noFill/>
            <a:ln w="889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886200" y="1371600"/>
            <a:ext cx="517212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trong field       (with a field gradient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s like a dipole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ss in a frog (diamag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s like a bar magnet poin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pos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eld (for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ich balances gra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64160" y="1653840"/>
            <a:ext cx="436680" cy="103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3040" y="2220840"/>
            <a:ext cx="546480" cy="1440000"/>
          </a:xfrm>
          <a:prstGeom prst="rect">
            <a:avLst/>
          </a:prstGeom>
          <a:solidFill>
            <a:srgbClr val="99cc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7680" y="5246640"/>
            <a:ext cx="8397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mportantly, its st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ing force always towards the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20398800">
            <a:off x="1068480" y="1597680"/>
            <a:ext cx="436680" cy="103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434960" y="1142640"/>
            <a:ext cx="698760" cy="72396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0FE3C-5982-4F3A-9E8C-B3FDC8F6F7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Using </a:t>
            </a:r>
            <a:r>
              <a:rPr b="1" lang="en-US" sz="4400" spc="-1" strike="noStrike">
                <a:solidFill>
                  <a:srgbClr val="000066"/>
                </a:solidFill>
                <a:latin typeface="Symbol"/>
                <a:ea typeface="Symbol"/>
              </a:rPr>
              <a:t>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B to Levitat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0880" y="4724280"/>
            <a:ext cx="878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etails: </a:t>
            </a: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http://www.hfml.ru.nl/levitation-movi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1676520"/>
            <a:ext cx="6836040" cy="32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wbe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Dro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at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0976-8F38-4806-85F2-DF3902E954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monstrating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Levitating Magnet over Superconduc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D41F-5F59-44C8-9235-53DC455A8C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425160"/>
            <a:ext cx="77691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Perfect Diamagnetism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“Magnetic Mirrors”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4140360"/>
            <a:ext cx="5029200" cy="22860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2844720"/>
            <a:ext cx="609480" cy="914400"/>
          </a:xfrm>
          <a:prstGeom prst="rect">
            <a:avLst/>
          </a:prstGeom>
          <a:solidFill>
            <a:srgbClr val="66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714920" y="1778040"/>
            <a:ext cx="152352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01000" y="1778040"/>
            <a:ext cx="152280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0160" y="1625760"/>
            <a:ext cx="152352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514760" y="1625760"/>
            <a:ext cx="152352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-87480" y="3415320"/>
            <a:ext cx="4222800" cy="6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82" y="2"/>
                </a:moveTo>
                <a:arcTo wR="10800" hR="10800" stAng="-5469283" swAng="5469283"/>
                <a:lnTo>
                  <a:pt x="10800" y="10800"/>
                </a:lnTo>
                <a:close/>
              </a:path>
              <a:path fill="none" w="21600" h="21600">
                <a:moveTo>
                  <a:pt x="10582" y="2"/>
                </a:moveTo>
                <a:arcTo wR="10800" hR="10800" stAng="-5469283" swAng="5469283"/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-380520" y="3339000"/>
            <a:ext cx="4723920" cy="80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53440" y="2581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2400" y="345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705200" y="3415320"/>
            <a:ext cx="4222800" cy="6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82" y="2"/>
                </a:moveTo>
                <a:arcTo wR="10800" hR="10800" stAng="-5469283" swAng="5469283"/>
                <a:lnTo>
                  <a:pt x="10800" y="10800"/>
                </a:lnTo>
                <a:close/>
              </a:path>
              <a:path fill="none" w="21600" h="21600">
                <a:moveTo>
                  <a:pt x="10582" y="2"/>
                </a:moveTo>
                <a:arcTo wR="10800" hR="10800" stAng="-5469283" swAng="5469283"/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533840" y="3339000"/>
            <a:ext cx="4723920" cy="80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-380880" y="4216320"/>
            <a:ext cx="9638640" cy="2513880"/>
            <a:chOff x="-380880" y="4216320"/>
            <a:chExt cx="9638640" cy="2513880"/>
          </a:xfrm>
        </p:grpSpPr>
        <p:sp>
          <p:nvSpPr>
            <p:cNvPr id="99" name=""/>
            <p:cNvSpPr/>
            <p:nvPr/>
          </p:nvSpPr>
          <p:spPr>
            <a:xfrm flipV="1">
              <a:off x="4114800" y="4597560"/>
              <a:ext cx="609480" cy="914400"/>
            </a:xfrm>
            <a:prstGeom prst="rect">
              <a:avLst/>
            </a:prstGeom>
            <a:solidFill>
              <a:srgbClr val="66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4714920" y="4444560"/>
              <a:ext cx="1522800" cy="21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600280" y="4444560"/>
              <a:ext cx="1523520" cy="21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810520" y="4292280"/>
              <a:ext cx="1522800" cy="243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4514760" y="4292280"/>
              <a:ext cx="1523520" cy="243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87840" y="4292640"/>
              <a:ext cx="4222800" cy="64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82" y="2"/>
                  </a:moveTo>
                  <a:arcTo wR="10800" hR="10800" stAng="-5469283" swAng="5469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82" y="2"/>
                  </a:moveTo>
                  <a:arcTo wR="10800" hR="10800" stAng="-5469283" swAng="5469283"/>
                </a:path>
              </a:pathLst>
            </a:custGeom>
            <a:noFill/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-380880" y="4216320"/>
              <a:ext cx="4723920" cy="80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705200" y="4292640"/>
              <a:ext cx="4222800" cy="64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82" y="2"/>
                  </a:moveTo>
                  <a:arcTo wR="10800" hR="10800" stAng="-5469283" swAng="5469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82" y="2"/>
                  </a:moveTo>
                  <a:arcTo wR="10800" hR="10800" stAng="-5469283" swAng="5469283"/>
                </a:path>
              </a:pathLst>
            </a:custGeom>
            <a:noFill/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533840" y="4216320"/>
              <a:ext cx="4723920" cy="80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6440" y="5207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53080" y="4444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49CE-30B9-47AE-8459-BB08877C06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425160"/>
            <a:ext cx="77691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Perfect Diamagnetism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“Magnetic Mirrors”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3378240"/>
            <a:ext cx="5029200" cy="22860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3279000">
            <a:off x="4114800" y="2082600"/>
            <a:ext cx="609480" cy="914400"/>
          </a:xfrm>
          <a:prstGeom prst="rect">
            <a:avLst/>
          </a:prstGeom>
          <a:solidFill>
            <a:srgbClr val="66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2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344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 rot="18321000">
            <a:off x="4190760" y="3910680"/>
            <a:ext cx="609480" cy="914400"/>
          </a:xfrm>
          <a:prstGeom prst="rect">
            <a:avLst/>
          </a:prstGeom>
          <a:solidFill>
            <a:srgbClr val="66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9080" y="449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940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5424480"/>
            <a:ext cx="76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atter what the angle, it floats --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9079-6081-4287-B6B8-B5E4FF6BDF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3059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Using </a:t>
            </a:r>
            <a:r>
              <a:rPr b="1" lang="en-US" sz="4400" spc="-1" strike="noStrike">
                <a:solidFill>
                  <a:srgbClr val="000066"/>
                </a:solidFill>
                <a:latin typeface="Symbol"/>
                <a:ea typeface="Symbol"/>
              </a:rPr>
              <a:t>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B to Levitat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244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etails: </a:t>
            </a: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2"/>
              </a:rPr>
              <a:t>www.hfml.sci.kun.nl/levitate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1219320"/>
            <a:ext cx="34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mo Wrest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F194-87D4-4082-AD53-E71664DF2F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438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新細明體"/>
              </a:rPr>
              <a:t>Two PRS Questions Related to Experiment 8: Magnetic Forces</a:t>
            </a:r>
            <a:br>
              <a:rPr sz="4000"/>
            </a:b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AAA5-5B35-44C9-84DE-B14E45743B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173340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xperiment 8: Magnetic Forces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(Calculating </a:t>
            </a:r>
            <a:r>
              <a:rPr b="0" lang="en-US" sz="44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4400" spc="-1" strike="noStrike" baseline="-25000">
                <a:solidFill>
                  <a:srgbClr val="000066"/>
                </a:solidFill>
                <a:latin typeface="Arial"/>
                <a:ea typeface="新細明體"/>
              </a:rPr>
              <a:t>0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44640" y="62485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3"/>
              </a:rPr>
              <a:t>An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582D-799C-410A-AA5A-BEE5CF8687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Experiment Summary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Currents </a:t>
            </a:r>
            <a:r>
              <a:rPr b="0" i="1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feel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 fields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Currents also </a:t>
            </a:r>
            <a:r>
              <a:rPr b="0" i="1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create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 fields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Recall… Biot-Savar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3571-EF88-4525-AB15-C6245B7AF8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Review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Right Hand Rule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19112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que:  Thumb = torque, fingers show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:  Thumb = I, Fingers = B, Palm =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:  Thumb = I, Fingers (curl) =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ent:  Fingers (curl) = I, Thumb =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8F58-C9F5-46DA-9273-FB611D7618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39360" y="304560"/>
            <a:ext cx="78850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The Biot-Savart Law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7652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219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urrent element of leng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carrying curr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produces a magnetic fie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925800" cy="3419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343400" y="2209680"/>
                <a:ext cx="449568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434F-45CF-4595-B92D-3AC79E6ED2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oday: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4800" spc="-1" strike="noStrike" baseline="30000">
                <a:solidFill>
                  <a:srgbClr val="000066"/>
                </a:solidFill>
                <a:latin typeface="Arial"/>
              </a:rPr>
              <a:t>rd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 Maxwell Equation: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mpere’s Law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42640" y="43434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ogous (in use) to Gauss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F9ED-515D-4E82-B237-86EBB0253DA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auss’s Law – The Idea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49528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tal “flux” of field lines penetrating any of these surfaces is the same and depends only on the amount of charge in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706920" cy="37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B547-D46A-4CCB-852E-56747264E2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Ampere’s Law: The Idea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7840" y="1157400"/>
            <a:ext cx="5562720" cy="4633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867280" y="1131840"/>
            <a:ext cx="327672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have a B field around a loop, there must be current punching through the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2328-1833-40BF-9D90-D995A7BC98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Ampere’s Law: The Equa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15080" y="2819520"/>
            <a:ext cx="411480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line integral is around any closed contour bounding an open surfa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en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is current through 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4572000" cy="3808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943280" y="1143000"/>
                <a:ext cx="518148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c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44" name=""/>
          <p:cNvGraphicFramePr/>
          <p:nvPr/>
        </p:nvGraphicFramePr>
        <p:xfrm>
          <a:off x="5410080" y="5257800"/>
          <a:ext cx="2895840" cy="122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5257800"/>
                    <a:ext cx="289584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6AB6-95F9-4C21-8E8D-AEFABF3739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2743200"/>
            <a:ext cx="88930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mpere’s Law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0FB0-61ED-4F75-A824-08EFA275B4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695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Biot-Savart vs. Amper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28600" y="1447920"/>
            <a:ext cx="8686440" cy="4799880"/>
            <a:chOff x="228600" y="1447920"/>
            <a:chExt cx="8686440" cy="4799880"/>
          </a:xfrm>
        </p:grpSpPr>
        <p:grpSp>
          <p:nvGrpSpPr>
            <p:cNvPr id="149" name=""/>
            <p:cNvGrpSpPr/>
            <p:nvPr/>
          </p:nvGrpSpPr>
          <p:grpSpPr>
            <a:xfrm>
              <a:off x="236160" y="1459800"/>
              <a:ext cx="8669880" cy="4773960"/>
              <a:chOff x="236160" y="1459800"/>
              <a:chExt cx="8669880" cy="477396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236160" y="1459800"/>
                <a:ext cx="1985400" cy="2147760"/>
                <a:chOff x="236160" y="1459800"/>
                <a:chExt cx="1985400" cy="21477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46680" y="1459800"/>
                  <a:ext cx="1764720" cy="21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新細明體"/>
                    </a:rPr>
                    <a:t>Biot-Savart Law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6160" y="1459800"/>
                  <a:ext cx="1985400" cy="214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221920" y="1459800"/>
                <a:ext cx="2940480" cy="2147760"/>
                <a:chOff x="2221920" y="1459800"/>
                <a:chExt cx="2940480" cy="21477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332440" y="1459800"/>
                  <a:ext cx="2719440" cy="21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221920" y="1459800"/>
                  <a:ext cx="2940480" cy="214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5163120" y="1459800"/>
                <a:ext cx="3742920" cy="2147760"/>
                <a:chOff x="5163120" y="1459800"/>
                <a:chExt cx="3742920" cy="21477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5272920" y="1459800"/>
                  <a:ext cx="3522960" cy="21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新細明體"/>
                    </a:rPr>
                    <a:t>general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新細明體"/>
                    </a:rPr>
                    <a:t>current sourc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新細明體"/>
                    </a:rPr>
                    <a:t>ex: finite wir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新細明體"/>
                    </a:rPr>
                    <a:t>wire loop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163120" y="1459800"/>
                  <a:ext cx="3742920" cy="214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36160" y="3608280"/>
                <a:ext cx="1985400" cy="2625480"/>
                <a:chOff x="236160" y="3608280"/>
                <a:chExt cx="1985400" cy="26254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46680" y="3608280"/>
                  <a:ext cx="1764720" cy="26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新細明體"/>
                    </a:rPr>
                    <a:t>Ampere’s law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36160" y="3608280"/>
                  <a:ext cx="1985400" cy="262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221920" y="3608280"/>
                <a:ext cx="2940480" cy="2625480"/>
                <a:chOff x="2221920" y="3608280"/>
                <a:chExt cx="2940480" cy="26254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332440" y="3608280"/>
                  <a:ext cx="2719440" cy="26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21920" y="3608280"/>
                  <a:ext cx="2940480" cy="262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163120" y="3608280"/>
                <a:ext cx="3742920" cy="2625480"/>
                <a:chOff x="5163120" y="3608280"/>
                <a:chExt cx="3742920" cy="26254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272920" y="3608280"/>
                  <a:ext cx="3522960" cy="26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新細明體"/>
                    </a:rPr>
                    <a:t>symmetri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新細明體"/>
                    </a:rPr>
                    <a:t>current sourc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新細明體"/>
                    </a:rPr>
                    <a:t>ex: infinite wir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新細明體"/>
                    </a:rPr>
                    <a:t>infinite current shee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163120" y="3608280"/>
                  <a:ext cx="3742920" cy="262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8" name=""/>
            <p:cNvSpPr/>
            <p:nvPr/>
          </p:nvSpPr>
          <p:spPr>
            <a:xfrm>
              <a:off x="228600" y="1447920"/>
              <a:ext cx="8686440" cy="4799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2362320" y="2057400"/>
          <a:ext cx="266688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057400"/>
                    <a:ext cx="26668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86000" y="4495680"/>
                <a:ext cx="28195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c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1A0B-ED3A-4E2D-BD9C-516A1FED01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695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Ampere’s Law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342720" indent="-3427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regions in which to calculate B fie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B direction by right hand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mperian Loops S:  Symme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0 or constant on the loo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current enclosed by loop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Ampere’s Law to solve f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590920" y="3352680"/>
                <a:ext cx="14475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75" name=""/>
          <p:cNvGraphicFramePr/>
          <p:nvPr/>
        </p:nvGraphicFramePr>
        <p:xfrm>
          <a:off x="1828800" y="5213520"/>
          <a:ext cx="5486400" cy="15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213520"/>
                    <a:ext cx="5486400" cy="15681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8962-F24B-48AB-924D-644DA2FE44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Always True,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Occasionally Useful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1752480"/>
            <a:ext cx="8458200" cy="47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ke Gauss’s Law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pere’s Law i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lway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r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ever, it is only useful for calculation in certain specific situations, involving highly symmetric current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 are example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C308-5E0A-4293-8397-FF5BB10D48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xample: Infinite Wir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57200" y="1523880"/>
            <a:ext cx="3968640" cy="4648320"/>
            <a:chOff x="457200" y="1523880"/>
            <a:chExt cx="3968640" cy="464832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rcRect l="11848" t="0" r="0" b="10586"/>
            <a:stretch/>
          </p:blipFill>
          <p:spPr>
            <a:xfrm>
              <a:off x="457200" y="1600200"/>
              <a:ext cx="39686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735720" y="15238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572000" y="1600200"/>
            <a:ext cx="4343400" cy="27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ylindrical conductor has radius R and a uniform current density with total curren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B every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4520" y="4667400"/>
            <a:ext cx="37209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wo reg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1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outside wire (r ≥ 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2) inside wire (r &lt; 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9C50-FFA8-40CD-BD3E-5515E23FA60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Last Time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Dipole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02B1-7283-461F-9EAD-7A93519EF9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029200" y="1600200"/>
            <a:ext cx="35812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695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mpere’s Law Example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nfinite Wir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691080" cy="4191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659040" y="13716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1809720"/>
            <a:ext cx="2590560" cy="2895480"/>
          </a:xfrm>
          <a:prstGeom prst="ellipse">
            <a:avLst/>
          </a:prstGeom>
          <a:noFill/>
          <a:ln w="63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477120" y="2819520"/>
            <a:ext cx="838080" cy="914400"/>
            <a:chOff x="6477120" y="2819520"/>
            <a:chExt cx="838080" cy="914400"/>
          </a:xfrm>
        </p:grpSpPr>
        <p:sp>
          <p:nvSpPr>
            <p:cNvPr id="191" name=""/>
            <p:cNvSpPr/>
            <p:nvPr/>
          </p:nvSpPr>
          <p:spPr>
            <a:xfrm>
              <a:off x="6477120" y="2819520"/>
              <a:ext cx="838080" cy="91440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29560" y="3200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7230960" y="259092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791320" y="2203560"/>
            <a:ext cx="156960" cy="2174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1752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4680" y="5105520"/>
            <a:ext cx="39189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mperian Lo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is Constant &amp; 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enet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867280" y="464796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7695720" y="19810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4104-3FB3-4050-93F3-D51E87DBBE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xample: Wire of Radius </a:t>
            </a:r>
            <a:r>
              <a:rPr b="1" i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17680" y="1285920"/>
            <a:ext cx="48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Region 1: Outside wire (r ≥ 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69108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4191120" y="3657600"/>
          <a:ext cx="1428480" cy="80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3657600"/>
                    <a:ext cx="142848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114800" y="5264280"/>
                <a:ext cx="46879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r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unterclockwise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5" name=""/>
          <p:cNvGraphicFramePr/>
          <p:nvPr/>
        </p:nvGraphicFramePr>
        <p:xfrm>
          <a:off x="5511960" y="3662280"/>
          <a:ext cx="1574640" cy="80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11960" y="3662280"/>
                    <a:ext cx="15746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7048440" y="3695760"/>
          <a:ext cx="1866960" cy="733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48440" y="3695760"/>
                    <a:ext cx="186696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5506920" y="4419720"/>
          <a:ext cx="1465560" cy="660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06920" y="4419720"/>
                    <a:ext cx="14655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7068960" y="4444920"/>
          <a:ext cx="1135080" cy="660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068960" y="4444920"/>
                    <a:ext cx="11350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4038480" y="1905120"/>
            <a:ext cx="49532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ylindrical symmet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mperian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B-field counterclockw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5A35-C053-482F-848E-BC17F8F45D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xample: Wire of Radius </a:t>
            </a:r>
            <a:r>
              <a:rPr b="1" i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17680" y="1274760"/>
            <a:ext cx="462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Region 2: Inside wire (r &lt; 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575400" y="2720880"/>
          <a:ext cx="241632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5400" y="2720880"/>
                    <a:ext cx="241632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816360" y="4038480"/>
                <a:ext cx="498168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unterclockwise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04920" y="1447920"/>
            <a:ext cx="3189240" cy="35812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68640" y="575460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so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638440" y="5600880"/>
                <a:ext cx="4956120" cy="84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22" name=""/>
          <p:cNvGraphicFramePr/>
          <p:nvPr/>
        </p:nvGraphicFramePr>
        <p:xfrm>
          <a:off x="3755880" y="2057400"/>
          <a:ext cx="1428840" cy="80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55880" y="2057400"/>
                    <a:ext cx="14288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076720" y="2062080"/>
          <a:ext cx="1575000" cy="80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76720" y="2062080"/>
                    <a:ext cx="157500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613560" y="2095560"/>
          <a:ext cx="1866960" cy="733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13560" y="2095560"/>
                    <a:ext cx="186696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110200" y="3073320"/>
          <a:ext cx="1465200" cy="660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10200" y="3073320"/>
                    <a:ext cx="14652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9D8E-0639-465F-BD92-156EF55450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xample: Wire of Radius </a:t>
            </a:r>
            <a:r>
              <a:rPr b="1" i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2818080" cy="3200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4038480" cy="3156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809880" y="4572000"/>
                <a:ext cx="20876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400800" y="4495680"/>
                <a:ext cx="194004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5C28C-F4A6-4606-B119-EAB8940351F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Group Problem: Non-Uniform Cylindrical Wir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57200" y="1523880"/>
            <a:ext cx="3968640" cy="4648320"/>
            <a:chOff x="457200" y="1523880"/>
            <a:chExt cx="3968640" cy="464832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rcRect l="11848" t="0" r="0" b="10586"/>
            <a:stretch/>
          </p:blipFill>
          <p:spPr>
            <a:xfrm>
              <a:off x="457200" y="1600200"/>
              <a:ext cx="39686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3735720" y="15238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4572000" y="1600200"/>
            <a:ext cx="43434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ylindrical conductor has radius R and a non-uniform current density with total curr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B every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402160" y="3657600"/>
          <a:ext cx="1646280" cy="113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02160" y="3657600"/>
                    <a:ext cx="164628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3AB8-F4A0-496E-B979-166958A2F41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695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Ampere’s Law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255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Choosing Amperian Loo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&amp; Follow Sym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e Field Directions 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k About Where Field is Z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p M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90680" indent="-2343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e Parallel to (Constant) Desired Fiel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90680" indent="-2343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e Perpendicular to Unknown Fiel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90680" indent="-2343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r Be Located in Zero Fiel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3381-552C-4AC3-BBF3-17EEE31430E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Other Geometri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8DEA-34D8-4BEB-85FF-A42CE99BE46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Helmholtz Coil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027080" y="1447920"/>
            <a:ext cx="6897600" cy="435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9D7A-EEF9-462B-B373-77828FEE82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oser than Helmholtz Coil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88320" cy="435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1953-F924-460A-BE28-3B94BE47537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ultiple Wire Loop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493040" cy="435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D92D-4B2A-4DA0-B88E-9BF08E19DD2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66"/>
                </a:solidFill>
                <a:latin typeface="Arial"/>
                <a:ea typeface="新細明體"/>
              </a:rPr>
              <a:t>Magnetic Dipole Moments</a:t>
            </a:r>
            <a:endParaRPr b="1" lang="en-US" sz="43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1857240" cy="449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133720" y="762120"/>
                <a:ext cx="41907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IA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≡</m:t>
                    </m:r>
                    <m:r>
                      <m:t xml:space="preserve">I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1855800"/>
            <a:ext cx="4267080" cy="2868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65200" y="2313000"/>
            <a:ext cx="18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r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3040" y="4967280"/>
            <a:ext cx="6696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e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 Torque to align with externa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 Forces as for bar magnets (seek fie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657600" y="4724280"/>
          <a:ext cx="3352680" cy="9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4724280"/>
                    <a:ext cx="33526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12BA-E318-4C41-8FCF-E32AB42A91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ultiple Wire Loops –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Solenoid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7926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67FC7-017B-490C-B7C5-05079C8F290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378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agnetic Field of Solenoid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2873160" cy="3810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2570040" cy="3733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062800" y="536256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sely w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71240" y="536256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ly w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480" y="6095880"/>
            <a:ext cx="84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deal solenoid, B is uniform inside &amp; zero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A09E-7CDE-4B94-BEE4-DE1E84EDDAD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gnetic Field of Ideal Solenoid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3441600" cy="45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3505320" y="2865600"/>
          <a:ext cx="5562360" cy="73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865600"/>
                    <a:ext cx="556236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3966480" y="1066680"/>
            <a:ext cx="39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mpere’s law:  Thin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267080" y="1600200"/>
          <a:ext cx="414504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67080" y="1600200"/>
                    <a:ext cx="4145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733920" y="4221000"/>
          <a:ext cx="3649680" cy="503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33920" y="4221000"/>
                    <a:ext cx="36496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4630680" y="4849920"/>
          <a:ext cx="3770280" cy="788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30680" y="4849920"/>
                    <a:ext cx="377028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5165640" y="5715000"/>
          <a:ext cx="2928960" cy="1031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65640" y="5715000"/>
                    <a:ext cx="2928960" cy="103176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184320" y="6019920"/>
          <a:ext cx="4279680" cy="488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4320" y="6019920"/>
                    <a:ext cx="427968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253040" y="3581280"/>
          <a:ext cx="4738680" cy="457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253040" y="3581280"/>
                    <a:ext cx="4738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0776-BA8F-4B4C-84D8-DFAA4328DAA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Demonstration: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Long Solenoid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0603-E261-43D6-9F11-32BF6A8B73E6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Group Problem: Current Shee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1523880"/>
            <a:ext cx="434340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eet of current (infinite in the y &amp; z directions, of thickness 2d in the x direction) carries a uniform current dens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B every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4968720" y="4087800"/>
          <a:ext cx="1462320" cy="7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720" y="4087800"/>
                    <a:ext cx="146232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609480" y="1069920"/>
            <a:ext cx="2772000" cy="563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422360" y="1066680"/>
            <a:ext cx="380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1EA9-E268-434E-A825-C3FE5BA2007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295280" y="1676520"/>
            <a:ext cx="716292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695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mpere’s Law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nfinite Current Shee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35760" y="266688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7840" y="5181480"/>
            <a:ext cx="83080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mperian Loo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is Constant &amp; Parallel OR Perpendicular OR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enet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019920" y="3428640"/>
            <a:ext cx="106668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600200" y="2514600"/>
            <a:ext cx="6477120" cy="1676520"/>
            <a:chOff x="1600200" y="2514600"/>
            <a:chExt cx="6477120" cy="1676520"/>
          </a:xfrm>
        </p:grpSpPr>
        <p:sp>
          <p:nvSpPr>
            <p:cNvPr id="289" name=""/>
            <p:cNvSpPr/>
            <p:nvPr/>
          </p:nvSpPr>
          <p:spPr>
            <a:xfrm>
              <a:off x="1828800" y="2590920"/>
              <a:ext cx="6019920" cy="1523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146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00200" y="2514600"/>
              <a:ext cx="533520" cy="1676520"/>
            </a:xfrm>
            <a:custGeom>
              <a:avLst/>
              <a:gdLst/>
              <a:ahLst/>
              <a:rect l="l" t="t" r="r" b="b"/>
              <a:pathLst>
                <a:path w="300" h="1056">
                  <a:moveTo>
                    <a:pt x="150" y="58"/>
                  </a:moveTo>
                  <a:cubicBezTo>
                    <a:pt x="184" y="70"/>
                    <a:pt x="183" y="100"/>
                    <a:pt x="201" y="127"/>
                  </a:cubicBezTo>
                  <a:cubicBezTo>
                    <a:pt x="212" y="168"/>
                    <a:pt x="240" y="194"/>
                    <a:pt x="252" y="235"/>
                  </a:cubicBezTo>
                  <a:cubicBezTo>
                    <a:pt x="241" y="252"/>
                    <a:pt x="240" y="271"/>
                    <a:pt x="230" y="287"/>
                  </a:cubicBezTo>
                  <a:cubicBezTo>
                    <a:pt x="212" y="317"/>
                    <a:pt x="179" y="337"/>
                    <a:pt x="155" y="361"/>
                  </a:cubicBezTo>
                  <a:cubicBezTo>
                    <a:pt x="144" y="399"/>
                    <a:pt x="136" y="410"/>
                    <a:pt x="150" y="458"/>
                  </a:cubicBezTo>
                  <a:cubicBezTo>
                    <a:pt x="154" y="472"/>
                    <a:pt x="171" y="479"/>
                    <a:pt x="178" y="492"/>
                  </a:cubicBezTo>
                  <a:cubicBezTo>
                    <a:pt x="191" y="519"/>
                    <a:pt x="173" y="502"/>
                    <a:pt x="201" y="520"/>
                  </a:cubicBezTo>
                  <a:cubicBezTo>
                    <a:pt x="212" y="554"/>
                    <a:pt x="199" y="523"/>
                    <a:pt x="224" y="555"/>
                  </a:cubicBezTo>
                  <a:cubicBezTo>
                    <a:pt x="232" y="566"/>
                    <a:pt x="247" y="589"/>
                    <a:pt x="247" y="589"/>
                  </a:cubicBezTo>
                  <a:cubicBezTo>
                    <a:pt x="261" y="636"/>
                    <a:pt x="241" y="579"/>
                    <a:pt x="264" y="617"/>
                  </a:cubicBezTo>
                  <a:cubicBezTo>
                    <a:pt x="274" y="634"/>
                    <a:pt x="275" y="652"/>
                    <a:pt x="287" y="669"/>
                  </a:cubicBezTo>
                  <a:cubicBezTo>
                    <a:pt x="300" y="714"/>
                    <a:pt x="268" y="708"/>
                    <a:pt x="235" y="720"/>
                  </a:cubicBezTo>
                  <a:cubicBezTo>
                    <a:pt x="216" y="750"/>
                    <a:pt x="186" y="770"/>
                    <a:pt x="167" y="800"/>
                  </a:cubicBezTo>
                  <a:cubicBezTo>
                    <a:pt x="172" y="868"/>
                    <a:pt x="167" y="911"/>
                    <a:pt x="224" y="948"/>
                  </a:cubicBezTo>
                  <a:cubicBezTo>
                    <a:pt x="241" y="996"/>
                    <a:pt x="218" y="937"/>
                    <a:pt x="241" y="977"/>
                  </a:cubicBezTo>
                  <a:cubicBezTo>
                    <a:pt x="254" y="999"/>
                    <a:pt x="252" y="1026"/>
                    <a:pt x="252" y="1051"/>
                  </a:cubicBezTo>
                  <a:lnTo>
                    <a:pt x="0" y="1056"/>
                  </a:lnTo>
                  <a:lnTo>
                    <a:pt x="48" y="0"/>
                  </a:lnTo>
                  <a:lnTo>
                    <a:pt x="15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543800" y="2514600"/>
              <a:ext cx="533520" cy="1676520"/>
            </a:xfrm>
            <a:custGeom>
              <a:avLst/>
              <a:gdLst/>
              <a:ahLst/>
              <a:rect l="l" t="t" r="r" b="b"/>
              <a:pathLst>
                <a:path w="300" h="1056">
                  <a:moveTo>
                    <a:pt x="150" y="58"/>
                  </a:moveTo>
                  <a:cubicBezTo>
                    <a:pt x="184" y="70"/>
                    <a:pt x="183" y="100"/>
                    <a:pt x="201" y="127"/>
                  </a:cubicBezTo>
                  <a:cubicBezTo>
                    <a:pt x="212" y="168"/>
                    <a:pt x="240" y="194"/>
                    <a:pt x="252" y="235"/>
                  </a:cubicBezTo>
                  <a:cubicBezTo>
                    <a:pt x="241" y="252"/>
                    <a:pt x="240" y="271"/>
                    <a:pt x="230" y="287"/>
                  </a:cubicBezTo>
                  <a:cubicBezTo>
                    <a:pt x="212" y="317"/>
                    <a:pt x="179" y="337"/>
                    <a:pt x="155" y="361"/>
                  </a:cubicBezTo>
                  <a:cubicBezTo>
                    <a:pt x="144" y="399"/>
                    <a:pt x="136" y="410"/>
                    <a:pt x="150" y="458"/>
                  </a:cubicBezTo>
                  <a:cubicBezTo>
                    <a:pt x="154" y="472"/>
                    <a:pt x="171" y="479"/>
                    <a:pt x="178" y="492"/>
                  </a:cubicBezTo>
                  <a:cubicBezTo>
                    <a:pt x="191" y="519"/>
                    <a:pt x="173" y="502"/>
                    <a:pt x="201" y="520"/>
                  </a:cubicBezTo>
                  <a:cubicBezTo>
                    <a:pt x="212" y="554"/>
                    <a:pt x="199" y="523"/>
                    <a:pt x="224" y="555"/>
                  </a:cubicBezTo>
                  <a:cubicBezTo>
                    <a:pt x="232" y="566"/>
                    <a:pt x="247" y="589"/>
                    <a:pt x="247" y="589"/>
                  </a:cubicBezTo>
                  <a:cubicBezTo>
                    <a:pt x="261" y="636"/>
                    <a:pt x="241" y="579"/>
                    <a:pt x="264" y="617"/>
                  </a:cubicBezTo>
                  <a:cubicBezTo>
                    <a:pt x="274" y="634"/>
                    <a:pt x="275" y="652"/>
                    <a:pt x="287" y="669"/>
                  </a:cubicBezTo>
                  <a:cubicBezTo>
                    <a:pt x="300" y="714"/>
                    <a:pt x="268" y="708"/>
                    <a:pt x="235" y="720"/>
                  </a:cubicBezTo>
                  <a:cubicBezTo>
                    <a:pt x="216" y="750"/>
                    <a:pt x="186" y="770"/>
                    <a:pt x="167" y="800"/>
                  </a:cubicBezTo>
                  <a:cubicBezTo>
                    <a:pt x="172" y="868"/>
                    <a:pt x="167" y="911"/>
                    <a:pt x="224" y="948"/>
                  </a:cubicBezTo>
                  <a:cubicBezTo>
                    <a:pt x="241" y="996"/>
                    <a:pt x="218" y="937"/>
                    <a:pt x="241" y="977"/>
                  </a:cubicBezTo>
                  <a:cubicBezTo>
                    <a:pt x="254" y="999"/>
                    <a:pt x="252" y="1026"/>
                    <a:pt x="252" y="1051"/>
                  </a:cubicBezTo>
                  <a:lnTo>
                    <a:pt x="0" y="1056"/>
                  </a:lnTo>
                  <a:lnTo>
                    <a:pt x="48" y="0"/>
                  </a:lnTo>
                  <a:lnTo>
                    <a:pt x="15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718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29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006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578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15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722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294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>
            <a:off x="3200400" y="2057400"/>
            <a:ext cx="22096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00400" y="4495680"/>
            <a:ext cx="22096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44640" y="43434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11880" y="16765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2273400"/>
            <a:ext cx="1752480" cy="2050920"/>
          </a:xfrm>
          <a:prstGeom prst="rect">
            <a:avLst/>
          </a:prstGeom>
          <a:noFill/>
          <a:ln w="63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67280" y="2247840"/>
            <a:ext cx="1752840" cy="1104840"/>
          </a:xfrm>
          <a:prstGeom prst="rect">
            <a:avLst/>
          </a:prstGeom>
          <a:noFill/>
          <a:ln w="63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2362320" y="4343040"/>
            <a:ext cx="9144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62320" y="2743200"/>
            <a:ext cx="0" cy="3808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114800" y="3809520"/>
            <a:ext cx="0" cy="3812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2666880"/>
            <a:ext cx="0" cy="3812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7620120" y="2743200"/>
            <a:ext cx="0" cy="3808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3EAE-DAB2-40F3-95CB-C181D47309D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Solenoid is Two Current Shee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2798640" cy="5661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200400" y="11430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outside current sheet should be half of solenoid, with the substitu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419720" y="2819520"/>
          <a:ext cx="2347920" cy="71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2819520"/>
                    <a:ext cx="23479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3200400" y="41911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urrent per unit length (equivalent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ut we don’t have a symbol for 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F380-FEF5-4B07-94F1-9CB80BEE0B2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76320" y="4114800"/>
            <a:ext cx="167616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urrent She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15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mpere’s Law:                       </a:t>
            </a:r>
            <a:r>
              <a:rPr b="1" lang="en-US" sz="1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952880" y="152280"/>
                <a:ext cx="419112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c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930320" y="1371600"/>
            <a:ext cx="187956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4648320" y="1528920"/>
            <a:ext cx="4190760" cy="1669320"/>
            <a:chOff x="4648320" y="1528920"/>
            <a:chExt cx="4190760" cy="1669320"/>
          </a:xfrm>
        </p:grpSpPr>
        <p:sp>
          <p:nvSpPr>
            <p:cNvPr id="324" name=""/>
            <p:cNvSpPr/>
            <p:nvPr/>
          </p:nvSpPr>
          <p:spPr>
            <a:xfrm>
              <a:off x="4648320" y="1581120"/>
              <a:ext cx="4190760" cy="156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948440" y="2089080"/>
              <a:ext cx="35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4826160" y="2014560"/>
              <a:ext cx="3790440" cy="819000"/>
              <a:chOff x="4826160" y="2014560"/>
              <a:chExt cx="3790440" cy="819000"/>
            </a:xfrm>
          </p:grpSpPr>
          <p:sp>
            <p:nvSpPr>
              <p:cNvPr id="327" name=""/>
              <p:cNvSpPr/>
              <p:nvPr/>
            </p:nvSpPr>
            <p:spPr>
              <a:xfrm>
                <a:off x="4959720" y="2051640"/>
                <a:ext cx="3523320" cy="7444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61120" y="2386800"/>
                <a:ext cx="8892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826160" y="2014560"/>
                <a:ext cx="312120" cy="819000"/>
              </a:xfrm>
              <a:custGeom>
                <a:avLst/>
                <a:gdLst/>
                <a:ahLst/>
                <a:rect l="l" t="t" r="r" b="b"/>
                <a:pathLst>
                  <a:path w="300" h="1056">
                    <a:moveTo>
                      <a:pt x="150" y="58"/>
                    </a:moveTo>
                    <a:cubicBezTo>
                      <a:pt x="184" y="70"/>
                      <a:pt x="183" y="100"/>
                      <a:pt x="201" y="127"/>
                    </a:cubicBezTo>
                    <a:cubicBezTo>
                      <a:pt x="212" y="168"/>
                      <a:pt x="240" y="194"/>
                      <a:pt x="252" y="235"/>
                    </a:cubicBezTo>
                    <a:cubicBezTo>
                      <a:pt x="241" y="252"/>
                      <a:pt x="240" y="271"/>
                      <a:pt x="230" y="287"/>
                    </a:cubicBezTo>
                    <a:cubicBezTo>
                      <a:pt x="212" y="317"/>
                      <a:pt x="179" y="337"/>
                      <a:pt x="155" y="361"/>
                    </a:cubicBezTo>
                    <a:cubicBezTo>
                      <a:pt x="144" y="399"/>
                      <a:pt x="136" y="410"/>
                      <a:pt x="150" y="458"/>
                    </a:cubicBezTo>
                    <a:cubicBezTo>
                      <a:pt x="154" y="472"/>
                      <a:pt x="171" y="479"/>
                      <a:pt x="178" y="492"/>
                    </a:cubicBezTo>
                    <a:cubicBezTo>
                      <a:pt x="191" y="519"/>
                      <a:pt x="173" y="502"/>
                      <a:pt x="201" y="520"/>
                    </a:cubicBezTo>
                    <a:cubicBezTo>
                      <a:pt x="212" y="554"/>
                      <a:pt x="199" y="523"/>
                      <a:pt x="224" y="555"/>
                    </a:cubicBezTo>
                    <a:cubicBezTo>
                      <a:pt x="232" y="566"/>
                      <a:pt x="247" y="589"/>
                      <a:pt x="247" y="589"/>
                    </a:cubicBezTo>
                    <a:cubicBezTo>
                      <a:pt x="261" y="636"/>
                      <a:pt x="241" y="579"/>
                      <a:pt x="264" y="617"/>
                    </a:cubicBezTo>
                    <a:cubicBezTo>
                      <a:pt x="274" y="634"/>
                      <a:pt x="275" y="652"/>
                      <a:pt x="287" y="669"/>
                    </a:cubicBezTo>
                    <a:cubicBezTo>
                      <a:pt x="300" y="714"/>
                      <a:pt x="268" y="708"/>
                      <a:pt x="235" y="720"/>
                    </a:cubicBezTo>
                    <a:cubicBezTo>
                      <a:pt x="216" y="750"/>
                      <a:pt x="186" y="770"/>
                      <a:pt x="167" y="800"/>
                    </a:cubicBezTo>
                    <a:cubicBezTo>
                      <a:pt x="172" y="868"/>
                      <a:pt x="167" y="911"/>
                      <a:pt x="224" y="948"/>
                    </a:cubicBezTo>
                    <a:cubicBezTo>
                      <a:pt x="241" y="996"/>
                      <a:pt x="218" y="937"/>
                      <a:pt x="241" y="977"/>
                    </a:cubicBezTo>
                    <a:cubicBezTo>
                      <a:pt x="254" y="999"/>
                      <a:pt x="252" y="1026"/>
                      <a:pt x="252" y="1051"/>
                    </a:cubicBezTo>
                    <a:lnTo>
                      <a:pt x="0" y="1056"/>
                    </a:lnTo>
                    <a:lnTo>
                      <a:pt x="48" y="0"/>
                    </a:lnTo>
                    <a:lnTo>
                      <a:pt x="150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8304120" y="2014560"/>
                <a:ext cx="312120" cy="819000"/>
              </a:xfrm>
              <a:custGeom>
                <a:avLst/>
                <a:gdLst/>
                <a:ahLst/>
                <a:rect l="l" t="t" r="r" b="b"/>
                <a:pathLst>
                  <a:path w="300" h="1056">
                    <a:moveTo>
                      <a:pt x="150" y="58"/>
                    </a:moveTo>
                    <a:cubicBezTo>
                      <a:pt x="184" y="70"/>
                      <a:pt x="183" y="100"/>
                      <a:pt x="201" y="127"/>
                    </a:cubicBezTo>
                    <a:cubicBezTo>
                      <a:pt x="212" y="168"/>
                      <a:pt x="240" y="194"/>
                      <a:pt x="252" y="235"/>
                    </a:cubicBezTo>
                    <a:cubicBezTo>
                      <a:pt x="241" y="252"/>
                      <a:pt x="240" y="271"/>
                      <a:pt x="230" y="287"/>
                    </a:cubicBezTo>
                    <a:cubicBezTo>
                      <a:pt x="212" y="317"/>
                      <a:pt x="179" y="337"/>
                      <a:pt x="155" y="361"/>
                    </a:cubicBezTo>
                    <a:cubicBezTo>
                      <a:pt x="144" y="399"/>
                      <a:pt x="136" y="410"/>
                      <a:pt x="150" y="458"/>
                    </a:cubicBezTo>
                    <a:cubicBezTo>
                      <a:pt x="154" y="472"/>
                      <a:pt x="171" y="479"/>
                      <a:pt x="178" y="492"/>
                    </a:cubicBezTo>
                    <a:cubicBezTo>
                      <a:pt x="191" y="519"/>
                      <a:pt x="173" y="502"/>
                      <a:pt x="201" y="520"/>
                    </a:cubicBezTo>
                    <a:cubicBezTo>
                      <a:pt x="212" y="554"/>
                      <a:pt x="199" y="523"/>
                      <a:pt x="224" y="555"/>
                    </a:cubicBezTo>
                    <a:cubicBezTo>
                      <a:pt x="232" y="566"/>
                      <a:pt x="247" y="589"/>
                      <a:pt x="247" y="589"/>
                    </a:cubicBezTo>
                    <a:cubicBezTo>
                      <a:pt x="261" y="636"/>
                      <a:pt x="241" y="579"/>
                      <a:pt x="264" y="617"/>
                    </a:cubicBezTo>
                    <a:cubicBezTo>
                      <a:pt x="274" y="634"/>
                      <a:pt x="275" y="652"/>
                      <a:pt x="287" y="669"/>
                    </a:cubicBezTo>
                    <a:cubicBezTo>
                      <a:pt x="300" y="714"/>
                      <a:pt x="268" y="708"/>
                      <a:pt x="235" y="720"/>
                    </a:cubicBezTo>
                    <a:cubicBezTo>
                      <a:pt x="216" y="750"/>
                      <a:pt x="186" y="770"/>
                      <a:pt x="167" y="800"/>
                    </a:cubicBezTo>
                    <a:cubicBezTo>
                      <a:pt x="172" y="868"/>
                      <a:pt x="167" y="911"/>
                      <a:pt x="224" y="948"/>
                    </a:cubicBezTo>
                    <a:cubicBezTo>
                      <a:pt x="241" y="996"/>
                      <a:pt x="218" y="937"/>
                      <a:pt x="241" y="977"/>
                    </a:cubicBezTo>
                    <a:cubicBezTo>
                      <a:pt x="254" y="999"/>
                      <a:pt x="252" y="1026"/>
                      <a:pt x="252" y="1051"/>
                    </a:cubicBezTo>
                    <a:lnTo>
                      <a:pt x="0" y="1056"/>
                    </a:lnTo>
                    <a:lnTo>
                      <a:pt x="48" y="0"/>
                    </a:lnTo>
                    <a:lnTo>
                      <a:pt x="150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28600" y="2386800"/>
                <a:ext cx="8892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896440" y="2386800"/>
                <a:ext cx="8892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63920" y="2386800"/>
                <a:ext cx="8892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431400" y="2386800"/>
                <a:ext cx="8892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99240" y="2386800"/>
                <a:ext cx="8892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966720" y="2386800"/>
                <a:ext cx="8892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234200" y="2386800"/>
                <a:ext cx="8892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502040" y="2386800"/>
                <a:ext cx="8892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69520" y="2386800"/>
                <a:ext cx="8892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 flipH="1">
              <a:off x="5762520" y="1790640"/>
              <a:ext cx="1293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62520" y="2982960"/>
              <a:ext cx="1293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4280" y="2738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72200" y="1897200"/>
              <a:ext cx="1025280" cy="10015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23120" y="1884240"/>
              <a:ext cx="1025640" cy="540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72200" y="2125800"/>
              <a:ext cx="0" cy="18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97480" y="2647800"/>
              <a:ext cx="0" cy="185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23120" y="2089080"/>
              <a:ext cx="0" cy="185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8348760" y="2125800"/>
              <a:ext cx="0" cy="18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77160" y="1528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828800" y="3809880"/>
            <a:ext cx="2011320" cy="2667240"/>
          </a:xfrm>
          <a:prstGeom prst="rect">
            <a:avLst/>
          </a:prstGeom>
          <a:ln w="0">
            <a:noFill/>
          </a:ln>
        </p:spPr>
      </p:pic>
      <p:grpSp>
        <p:nvGrpSpPr>
          <p:cNvPr id="351" name=""/>
          <p:cNvGrpSpPr/>
          <p:nvPr/>
        </p:nvGrpSpPr>
        <p:grpSpPr>
          <a:xfrm>
            <a:off x="6781680" y="3886200"/>
            <a:ext cx="1981080" cy="1941480"/>
            <a:chOff x="6781680" y="3886200"/>
            <a:chExt cx="1981080" cy="1941480"/>
          </a:xfrm>
        </p:grpSpPr>
        <p:sp>
          <p:nvSpPr>
            <p:cNvPr id="352" name=""/>
            <p:cNvSpPr/>
            <p:nvPr/>
          </p:nvSpPr>
          <p:spPr>
            <a:xfrm>
              <a:off x="6781680" y="3886200"/>
              <a:ext cx="1981080" cy="194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66040" y="4627440"/>
              <a:ext cx="585720" cy="57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7005600" y="4113360"/>
              <a:ext cx="1563120" cy="862920"/>
              <a:chOff x="7005600" y="4113360"/>
              <a:chExt cx="1563120" cy="86292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7993800" y="4853160"/>
                <a:ext cx="114840" cy="123120"/>
                <a:chOff x="7993800" y="4853160"/>
                <a:chExt cx="114840" cy="1231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7993800" y="4853160"/>
                  <a:ext cx="114840" cy="12312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042040" y="4904280"/>
                  <a:ext cx="20880" cy="20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7695720" y="4565520"/>
                <a:ext cx="114840" cy="123120"/>
                <a:chOff x="7695720" y="4565520"/>
                <a:chExt cx="114840" cy="1231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7695720" y="4565520"/>
                  <a:ext cx="114840" cy="12312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743960" y="4616640"/>
                  <a:ext cx="20880" cy="20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810920" y="4586040"/>
                <a:ext cx="114840" cy="123120"/>
                <a:chOff x="7810920" y="4586040"/>
                <a:chExt cx="114840" cy="1231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810920" y="4586040"/>
                  <a:ext cx="114840" cy="12312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859160" y="4637160"/>
                  <a:ext cx="20880" cy="20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7899840" y="4642560"/>
                <a:ext cx="114840" cy="123120"/>
                <a:chOff x="7899840" y="4642560"/>
                <a:chExt cx="114840" cy="1231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7899840" y="4642560"/>
                  <a:ext cx="114840" cy="12312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948080" y="4693680"/>
                  <a:ext cx="20880" cy="20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7962480" y="4735080"/>
                <a:ext cx="114840" cy="123120"/>
                <a:chOff x="7962480" y="4735080"/>
                <a:chExt cx="114840" cy="1231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962480" y="4735080"/>
                  <a:ext cx="114840" cy="12312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8010720" y="4786200"/>
                  <a:ext cx="20880" cy="20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"/>
              <p:cNvSpPr/>
              <p:nvPr/>
            </p:nvSpPr>
            <p:spPr>
              <a:xfrm>
                <a:off x="7695720" y="4113360"/>
                <a:ext cx="114840" cy="12312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988760" y="4169880"/>
                <a:ext cx="114840" cy="12312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218800" y="4318560"/>
                <a:ext cx="114840" cy="12312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386200" y="4555080"/>
                <a:ext cx="114840" cy="12312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453880" y="4853160"/>
                <a:ext cx="114840" cy="12312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7005600" y="4174920"/>
                <a:ext cx="689760" cy="688320"/>
                <a:chOff x="7005600" y="4174920"/>
                <a:chExt cx="689760" cy="688320"/>
              </a:xfrm>
            </p:grpSpPr>
            <p:grpSp>
              <p:nvGrpSpPr>
                <p:cNvPr id="376" name=""/>
                <p:cNvGrpSpPr/>
                <p:nvPr/>
              </p:nvGrpSpPr>
              <p:grpSpPr>
                <a:xfrm>
                  <a:off x="7580520" y="4591080"/>
                  <a:ext cx="114840" cy="123120"/>
                  <a:chOff x="7580520" y="4591080"/>
                  <a:chExt cx="114840" cy="12312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flipH="1">
                    <a:off x="7580160" y="4591080"/>
                    <a:ext cx="114840" cy="123120"/>
                  </a:xfrm>
                  <a:prstGeom prst="ellipse">
                    <a:avLst/>
                  </a:prstGeom>
                  <a:solidFill>
                    <a:srgbClr val="ffcc66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flipH="1">
                    <a:off x="7626240" y="4642200"/>
                    <a:ext cx="2088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7491600" y="4647600"/>
                  <a:ext cx="114840" cy="123120"/>
                  <a:chOff x="7491600" y="4647600"/>
                  <a:chExt cx="114840" cy="12312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flipH="1">
                    <a:off x="7491240" y="4647600"/>
                    <a:ext cx="114840" cy="123120"/>
                  </a:xfrm>
                  <a:prstGeom prst="ellipse">
                    <a:avLst/>
                  </a:prstGeom>
                  <a:solidFill>
                    <a:srgbClr val="ffcc66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H="1">
                    <a:off x="7537320" y="4698720"/>
                    <a:ext cx="2088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7428960" y="4740120"/>
                  <a:ext cx="114840" cy="123120"/>
                  <a:chOff x="7428960" y="4740120"/>
                  <a:chExt cx="114840" cy="12312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H="1">
                    <a:off x="7428600" y="4740120"/>
                    <a:ext cx="114840" cy="123120"/>
                  </a:xfrm>
                  <a:prstGeom prst="ellipse">
                    <a:avLst/>
                  </a:prstGeom>
                  <a:solidFill>
                    <a:srgbClr val="ffcc66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>
                    <a:off x="7474680" y="4791240"/>
                    <a:ext cx="2088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5" name=""/>
                <p:cNvSpPr/>
                <p:nvPr/>
              </p:nvSpPr>
              <p:spPr>
                <a:xfrm flipH="1">
                  <a:off x="7402320" y="4174920"/>
                  <a:ext cx="114840" cy="12312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0" tIns="1836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>
                  <a:off x="7172280" y="4323600"/>
                  <a:ext cx="114840" cy="12312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0" tIns="1836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>
                  <a:off x="7005240" y="4560120"/>
                  <a:ext cx="114840" cy="12312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0" tIns="1836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8" name=""/>
            <p:cNvGrpSpPr/>
            <p:nvPr/>
          </p:nvGrpSpPr>
          <p:grpSpPr>
            <a:xfrm>
              <a:off x="6943680" y="4857480"/>
              <a:ext cx="1563120" cy="865080"/>
              <a:chOff x="6943680" y="4857480"/>
              <a:chExt cx="1563120" cy="86508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7403760" y="4857480"/>
                <a:ext cx="114840" cy="123480"/>
                <a:chOff x="7403760" y="4857480"/>
                <a:chExt cx="114840" cy="123480"/>
              </a:xfrm>
            </p:grpSpPr>
            <p:sp>
              <p:nvSpPr>
                <p:cNvPr id="390" name=""/>
                <p:cNvSpPr/>
                <p:nvPr/>
              </p:nvSpPr>
              <p:spPr>
                <a:xfrm rot="10800000">
                  <a:off x="7403760" y="4857480"/>
                  <a:ext cx="114840" cy="12348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rot="10800000">
                  <a:off x="7449480" y="4908960"/>
                  <a:ext cx="20880" cy="20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7701840" y="5146200"/>
                <a:ext cx="114840" cy="123480"/>
                <a:chOff x="7701840" y="5146200"/>
                <a:chExt cx="114840" cy="123480"/>
              </a:xfrm>
            </p:grpSpPr>
            <p:sp>
              <p:nvSpPr>
                <p:cNvPr id="393" name=""/>
                <p:cNvSpPr/>
                <p:nvPr/>
              </p:nvSpPr>
              <p:spPr>
                <a:xfrm rot="10800000">
                  <a:off x="7701840" y="5146200"/>
                  <a:ext cx="114840" cy="12348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rot="10800000">
                  <a:off x="7747560" y="5197680"/>
                  <a:ext cx="20880" cy="20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586640" y="5125320"/>
                <a:ext cx="114840" cy="123480"/>
                <a:chOff x="7586640" y="5125320"/>
                <a:chExt cx="114840" cy="123480"/>
              </a:xfrm>
            </p:grpSpPr>
            <p:sp>
              <p:nvSpPr>
                <p:cNvPr id="396" name=""/>
                <p:cNvSpPr/>
                <p:nvPr/>
              </p:nvSpPr>
              <p:spPr>
                <a:xfrm rot="10800000">
                  <a:off x="7586640" y="5125320"/>
                  <a:ext cx="114840" cy="12348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rot="10800000">
                  <a:off x="7632360" y="5176800"/>
                  <a:ext cx="20880" cy="20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7497720" y="5068800"/>
                <a:ext cx="114840" cy="123480"/>
                <a:chOff x="7497720" y="5068800"/>
                <a:chExt cx="114840" cy="123480"/>
              </a:xfrm>
            </p:grpSpPr>
            <p:sp>
              <p:nvSpPr>
                <p:cNvPr id="399" name=""/>
                <p:cNvSpPr/>
                <p:nvPr/>
              </p:nvSpPr>
              <p:spPr>
                <a:xfrm rot="10800000">
                  <a:off x="7497720" y="5068800"/>
                  <a:ext cx="114840" cy="12348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10800000">
                  <a:off x="7543440" y="5120280"/>
                  <a:ext cx="20880" cy="20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7435080" y="4976280"/>
                <a:ext cx="114840" cy="123480"/>
                <a:chOff x="7435080" y="4976280"/>
                <a:chExt cx="114840" cy="123480"/>
              </a:xfrm>
            </p:grpSpPr>
            <p:sp>
              <p:nvSpPr>
                <p:cNvPr id="402" name=""/>
                <p:cNvSpPr/>
                <p:nvPr/>
              </p:nvSpPr>
              <p:spPr>
                <a:xfrm rot="10800000">
                  <a:off x="7435080" y="4976280"/>
                  <a:ext cx="114840" cy="12348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10800000">
                  <a:off x="7480800" y="5027760"/>
                  <a:ext cx="20880" cy="20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4" name=""/>
              <p:cNvSpPr/>
              <p:nvPr/>
            </p:nvSpPr>
            <p:spPr>
              <a:xfrm rot="10800000">
                <a:off x="7701840" y="5599080"/>
                <a:ext cx="114840" cy="12348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0800000">
                <a:off x="7408800" y="5542560"/>
                <a:ext cx="114840" cy="12348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0800000">
                <a:off x="7178760" y="5393160"/>
                <a:ext cx="114840" cy="12348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0800000">
                <a:off x="7011360" y="5156280"/>
                <a:ext cx="114840" cy="12348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0800000">
                <a:off x="6943680" y="4857480"/>
                <a:ext cx="114840" cy="123480"/>
              </a:xfrm>
              <a:prstGeom prst="ellipse">
                <a:avLst/>
              </a:prstGeom>
              <a:solidFill>
                <a:srgbClr val="ffcc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0" tIns="1836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7817040" y="4971240"/>
                <a:ext cx="689760" cy="689760"/>
                <a:chOff x="7817040" y="4971240"/>
                <a:chExt cx="689760" cy="68976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7817040" y="5120280"/>
                  <a:ext cx="114840" cy="123480"/>
                  <a:chOff x="7817040" y="5120280"/>
                  <a:chExt cx="114840" cy="12348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H="1" rot="10800000">
                    <a:off x="7816680" y="5120280"/>
                    <a:ext cx="114840" cy="123480"/>
                  </a:xfrm>
                  <a:prstGeom prst="ellipse">
                    <a:avLst/>
                  </a:prstGeom>
                  <a:solidFill>
                    <a:srgbClr val="ffcc66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 rot="10800000">
                    <a:off x="7865280" y="5171760"/>
                    <a:ext cx="2088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905960" y="5063760"/>
                  <a:ext cx="114840" cy="123480"/>
                  <a:chOff x="7905960" y="5063760"/>
                  <a:chExt cx="114840" cy="12348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flipH="1" rot="10800000">
                    <a:off x="7905600" y="5063760"/>
                    <a:ext cx="114840" cy="123480"/>
                  </a:xfrm>
                  <a:prstGeom prst="ellipse">
                    <a:avLst/>
                  </a:prstGeom>
                  <a:solidFill>
                    <a:srgbClr val="ffcc66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 rot="10800000">
                    <a:off x="7954200" y="5115240"/>
                    <a:ext cx="2088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7968600" y="4971240"/>
                  <a:ext cx="114840" cy="123480"/>
                  <a:chOff x="7968600" y="4971240"/>
                  <a:chExt cx="114840" cy="12348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flipH="1" rot="10800000">
                    <a:off x="7968240" y="4971240"/>
                    <a:ext cx="114840" cy="123480"/>
                  </a:xfrm>
                  <a:prstGeom prst="ellipse">
                    <a:avLst/>
                  </a:prstGeom>
                  <a:solidFill>
                    <a:srgbClr val="ffcc66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 rot="10800000">
                    <a:off x="8016840" y="5022720"/>
                    <a:ext cx="2088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9" name=""/>
                <p:cNvSpPr/>
                <p:nvPr/>
              </p:nvSpPr>
              <p:spPr>
                <a:xfrm flipH="1" rot="10800000">
                  <a:off x="7994520" y="5537520"/>
                  <a:ext cx="114840" cy="12348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0" tIns="1836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H="1" rot="10800000">
                  <a:off x="8224560" y="5388480"/>
                  <a:ext cx="114840" cy="12348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0" tIns="1836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 rot="10800000">
                  <a:off x="8391600" y="5151240"/>
                  <a:ext cx="114840" cy="12348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0" tIns="1836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2" name=""/>
            <p:cNvSpPr/>
            <p:nvPr/>
          </p:nvSpPr>
          <p:spPr>
            <a:xfrm>
              <a:off x="7272360" y="4390920"/>
              <a:ext cx="961920" cy="10591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7266960" y="4627440"/>
              <a:ext cx="86040" cy="117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038480" y="3824280"/>
            <a:ext cx="1905120" cy="2644920"/>
            <a:chOff x="4038480" y="3824280"/>
            <a:chExt cx="1905120" cy="2644920"/>
          </a:xfrm>
        </p:grpSpPr>
        <p:grpSp>
          <p:nvGrpSpPr>
            <p:cNvPr id="425" name=""/>
            <p:cNvGrpSpPr/>
            <p:nvPr/>
          </p:nvGrpSpPr>
          <p:grpSpPr>
            <a:xfrm>
              <a:off x="4038480" y="3824280"/>
              <a:ext cx="1905120" cy="2644920"/>
              <a:chOff x="4038480" y="3824280"/>
              <a:chExt cx="1905120" cy="264492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4038480" y="3824280"/>
                <a:ext cx="1905120" cy="2644920"/>
                <a:chOff x="4038480" y="3824280"/>
                <a:chExt cx="1905120" cy="26449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4038480" y="3824280"/>
                  <a:ext cx="1905120" cy="264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4265640" y="4191120"/>
                  <a:ext cx="1202760" cy="1882440"/>
                  <a:chOff x="4265640" y="4191120"/>
                  <a:chExt cx="1202760" cy="1882440"/>
                </a:xfrm>
              </p:grpSpPr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4265640" y="4191120"/>
                    <a:ext cx="143640" cy="1882440"/>
                    <a:chOff x="4265640" y="4191120"/>
                    <a:chExt cx="143640" cy="1882440"/>
                  </a:xfrm>
                </p:grpSpPr>
                <p:grpSp>
                  <p:nvGrpSpPr>
                    <p:cNvPr id="430" name=""/>
                    <p:cNvGrpSpPr/>
                    <p:nvPr/>
                  </p:nvGrpSpPr>
                  <p:grpSpPr>
                    <a:xfrm>
                      <a:off x="4265640" y="4191120"/>
                      <a:ext cx="143640" cy="156600"/>
                      <a:chOff x="4265640" y="4191120"/>
                      <a:chExt cx="143640" cy="156600"/>
                    </a:xfrm>
                  </p:grpSpPr>
                  <p:sp>
                    <p:nvSpPr>
                      <p:cNvPr id="431" name=""/>
                      <p:cNvSpPr/>
                      <p:nvPr/>
                    </p:nvSpPr>
                    <p:spPr>
                      <a:xfrm>
                        <a:off x="4265640" y="419112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2" name=""/>
                      <p:cNvSpPr/>
                      <p:nvPr/>
                    </p:nvSpPr>
                    <p:spPr>
                      <a:xfrm>
                        <a:off x="4326120" y="425628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33" name=""/>
                    <p:cNvGrpSpPr/>
                    <p:nvPr/>
                  </p:nvGrpSpPr>
                  <p:grpSpPr>
                    <a:xfrm>
                      <a:off x="4265640" y="4347720"/>
                      <a:ext cx="143640" cy="156600"/>
                      <a:chOff x="4265640" y="4347720"/>
                      <a:chExt cx="143640" cy="156600"/>
                    </a:xfrm>
                  </p:grpSpPr>
                  <p:sp>
                    <p:nvSpPr>
                      <p:cNvPr id="434" name=""/>
                      <p:cNvSpPr/>
                      <p:nvPr/>
                    </p:nvSpPr>
                    <p:spPr>
                      <a:xfrm>
                        <a:off x="4265640" y="434772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5" name=""/>
                      <p:cNvSpPr/>
                      <p:nvPr/>
                    </p:nvSpPr>
                    <p:spPr>
                      <a:xfrm>
                        <a:off x="4326120" y="441288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36" name=""/>
                    <p:cNvGrpSpPr/>
                    <p:nvPr/>
                  </p:nvGrpSpPr>
                  <p:grpSpPr>
                    <a:xfrm>
                      <a:off x="4265640" y="4504680"/>
                      <a:ext cx="143640" cy="156600"/>
                      <a:chOff x="4265640" y="4504680"/>
                      <a:chExt cx="143640" cy="156600"/>
                    </a:xfrm>
                  </p:grpSpPr>
                  <p:sp>
                    <p:nvSpPr>
                      <p:cNvPr id="437" name=""/>
                      <p:cNvSpPr/>
                      <p:nvPr/>
                    </p:nvSpPr>
                    <p:spPr>
                      <a:xfrm>
                        <a:off x="4265640" y="450468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8" name=""/>
                      <p:cNvSpPr/>
                      <p:nvPr/>
                    </p:nvSpPr>
                    <p:spPr>
                      <a:xfrm>
                        <a:off x="4326120" y="456984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39" name=""/>
                    <p:cNvGrpSpPr/>
                    <p:nvPr/>
                  </p:nvGrpSpPr>
                  <p:grpSpPr>
                    <a:xfrm>
                      <a:off x="4265640" y="4661640"/>
                      <a:ext cx="143640" cy="156600"/>
                      <a:chOff x="4265640" y="4661640"/>
                      <a:chExt cx="143640" cy="156600"/>
                    </a:xfrm>
                  </p:grpSpPr>
                  <p:sp>
                    <p:nvSpPr>
                      <p:cNvPr id="440" name=""/>
                      <p:cNvSpPr/>
                      <p:nvPr/>
                    </p:nvSpPr>
                    <p:spPr>
                      <a:xfrm>
                        <a:off x="4265640" y="466164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1" name=""/>
                      <p:cNvSpPr/>
                      <p:nvPr/>
                    </p:nvSpPr>
                    <p:spPr>
                      <a:xfrm>
                        <a:off x="4326120" y="472680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2" name=""/>
                    <p:cNvGrpSpPr/>
                    <p:nvPr/>
                  </p:nvGrpSpPr>
                  <p:grpSpPr>
                    <a:xfrm>
                      <a:off x="4265640" y="4818600"/>
                      <a:ext cx="143640" cy="156600"/>
                      <a:chOff x="4265640" y="4818600"/>
                      <a:chExt cx="143640" cy="156600"/>
                    </a:xfrm>
                  </p:grpSpPr>
                  <p:sp>
                    <p:nvSpPr>
                      <p:cNvPr id="443" name=""/>
                      <p:cNvSpPr/>
                      <p:nvPr/>
                    </p:nvSpPr>
                    <p:spPr>
                      <a:xfrm>
                        <a:off x="4265640" y="481860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4326120" y="488376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5" name=""/>
                    <p:cNvGrpSpPr/>
                    <p:nvPr/>
                  </p:nvGrpSpPr>
                  <p:grpSpPr>
                    <a:xfrm>
                      <a:off x="4265640" y="4975560"/>
                      <a:ext cx="143640" cy="156600"/>
                      <a:chOff x="4265640" y="4975560"/>
                      <a:chExt cx="143640" cy="156600"/>
                    </a:xfrm>
                  </p:grpSpPr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4265640" y="497556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4326120" y="504072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8" name=""/>
                    <p:cNvGrpSpPr/>
                    <p:nvPr/>
                  </p:nvGrpSpPr>
                  <p:grpSpPr>
                    <a:xfrm>
                      <a:off x="4265640" y="5132520"/>
                      <a:ext cx="143640" cy="156600"/>
                      <a:chOff x="4265640" y="5132520"/>
                      <a:chExt cx="143640" cy="156600"/>
                    </a:xfrm>
                  </p:grpSpPr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4265640" y="513252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" name=""/>
                      <p:cNvSpPr/>
                      <p:nvPr/>
                    </p:nvSpPr>
                    <p:spPr>
                      <a:xfrm>
                        <a:off x="4326120" y="519768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1" name=""/>
                    <p:cNvGrpSpPr/>
                    <p:nvPr/>
                  </p:nvGrpSpPr>
                  <p:grpSpPr>
                    <a:xfrm>
                      <a:off x="4265640" y="5289480"/>
                      <a:ext cx="143640" cy="156600"/>
                      <a:chOff x="4265640" y="5289480"/>
                      <a:chExt cx="143640" cy="156600"/>
                    </a:xfrm>
                  </p:grpSpPr>
                  <p:sp>
                    <p:nvSpPr>
                      <p:cNvPr id="452" name=""/>
                      <p:cNvSpPr/>
                      <p:nvPr/>
                    </p:nvSpPr>
                    <p:spPr>
                      <a:xfrm>
                        <a:off x="4265640" y="528948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3" name=""/>
                      <p:cNvSpPr/>
                      <p:nvPr/>
                    </p:nvSpPr>
                    <p:spPr>
                      <a:xfrm>
                        <a:off x="4326120" y="535464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4" name=""/>
                    <p:cNvGrpSpPr/>
                    <p:nvPr/>
                  </p:nvGrpSpPr>
                  <p:grpSpPr>
                    <a:xfrm>
                      <a:off x="4265640" y="5446080"/>
                      <a:ext cx="143640" cy="156600"/>
                      <a:chOff x="4265640" y="5446080"/>
                      <a:chExt cx="143640" cy="156600"/>
                    </a:xfrm>
                  </p:grpSpPr>
                  <p:sp>
                    <p:nvSpPr>
                      <p:cNvPr id="455" name=""/>
                      <p:cNvSpPr/>
                      <p:nvPr/>
                    </p:nvSpPr>
                    <p:spPr>
                      <a:xfrm>
                        <a:off x="4265640" y="544608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6" name=""/>
                      <p:cNvSpPr/>
                      <p:nvPr/>
                    </p:nvSpPr>
                    <p:spPr>
                      <a:xfrm>
                        <a:off x="4326120" y="551124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7" name=""/>
                    <p:cNvGrpSpPr/>
                    <p:nvPr/>
                  </p:nvGrpSpPr>
                  <p:grpSpPr>
                    <a:xfrm>
                      <a:off x="4265640" y="5603040"/>
                      <a:ext cx="143640" cy="156600"/>
                      <a:chOff x="4265640" y="5603040"/>
                      <a:chExt cx="143640" cy="156600"/>
                    </a:xfrm>
                  </p:grpSpPr>
                  <p:sp>
                    <p:nvSpPr>
                      <p:cNvPr id="458" name=""/>
                      <p:cNvSpPr/>
                      <p:nvPr/>
                    </p:nvSpPr>
                    <p:spPr>
                      <a:xfrm>
                        <a:off x="4265640" y="560304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9" name=""/>
                      <p:cNvSpPr/>
                      <p:nvPr/>
                    </p:nvSpPr>
                    <p:spPr>
                      <a:xfrm>
                        <a:off x="4326120" y="566820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0" name=""/>
                    <p:cNvGrpSpPr/>
                    <p:nvPr/>
                  </p:nvGrpSpPr>
                  <p:grpSpPr>
                    <a:xfrm>
                      <a:off x="4265640" y="5760000"/>
                      <a:ext cx="143640" cy="156600"/>
                      <a:chOff x="4265640" y="5760000"/>
                      <a:chExt cx="143640" cy="156600"/>
                    </a:xfrm>
                  </p:grpSpPr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4265640" y="576000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2" name=""/>
                      <p:cNvSpPr/>
                      <p:nvPr/>
                    </p:nvSpPr>
                    <p:spPr>
                      <a:xfrm>
                        <a:off x="4326120" y="582516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3" name=""/>
                    <p:cNvGrpSpPr/>
                    <p:nvPr/>
                  </p:nvGrpSpPr>
                  <p:grpSpPr>
                    <a:xfrm>
                      <a:off x="4265640" y="5916960"/>
                      <a:ext cx="143640" cy="156600"/>
                      <a:chOff x="4265640" y="5916960"/>
                      <a:chExt cx="143640" cy="156600"/>
                    </a:xfrm>
                  </p:grpSpPr>
                  <p:sp>
                    <p:nvSpPr>
                      <p:cNvPr id="464" name=""/>
                      <p:cNvSpPr/>
                      <p:nvPr/>
                    </p:nvSpPr>
                    <p:spPr>
                      <a:xfrm>
                        <a:off x="4265640" y="5916960"/>
                        <a:ext cx="143640" cy="156600"/>
                      </a:xfrm>
                      <a:prstGeom prst="ellipse">
                        <a:avLst/>
                      </a:prstGeom>
                      <a:solidFill>
                        <a:srgbClr val="ffcc66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5" name=""/>
                      <p:cNvSpPr/>
                      <p:nvPr/>
                    </p:nvSpPr>
                    <p:spPr>
                      <a:xfrm>
                        <a:off x="4326120" y="5982120"/>
                        <a:ext cx="25920" cy="2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5324760" y="4191120"/>
                    <a:ext cx="143640" cy="1882440"/>
                    <a:chOff x="5324760" y="4191120"/>
                    <a:chExt cx="143640" cy="188244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5324760" y="419112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5324760" y="434772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5324760" y="450468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5324760" y="466164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5324760" y="481860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5324760" y="497556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5324760" y="513252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5324760" y="528948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>
                      <a:off x="5324760" y="544608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>
                      <a:off x="5324760" y="560304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>
                      <a:off x="5324760" y="576000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>
                      <a:off x="5324760" y="5916960"/>
                      <a:ext cx="143640" cy="156600"/>
                    </a:xfrm>
                    <a:prstGeom prst="ellipse">
                      <a:avLst/>
                    </a:prstGeom>
                    <a:solidFill>
                      <a:srgbClr val="ffcc66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0" tIns="18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79" name=""/>
              <p:cNvSpPr/>
              <p:nvPr/>
            </p:nvSpPr>
            <p:spPr>
              <a:xfrm>
                <a:off x="5103720" y="4800600"/>
                <a:ext cx="611280" cy="1046160"/>
              </a:xfrm>
              <a:prstGeom prst="rect">
                <a:avLst/>
              </a:prstGeom>
              <a:noFill/>
              <a:ln w="381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4875120" y="4267080"/>
                <a:ext cx="1800" cy="14637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389480" y="400680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 flipV="1">
              <a:off x="5103720" y="5410080"/>
              <a:ext cx="1800" cy="262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15000" y="5257800"/>
              <a:ext cx="1440" cy="262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121680" y="1676520"/>
            <a:ext cx="17809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876920" y="3138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finite) Current Sh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6320" y="4114800"/>
            <a:ext cx="16761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eno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8F42-10D3-4BC7-BB3D-CC05032FA47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Brief Review Thus Far…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9A95-8C9A-4203-BBF0-896A2A11C35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axwell’s Equations (So Far)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254160" y="4876920"/>
          <a:ext cx="660384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4876920"/>
                    <a:ext cx="6603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228600" y="3048120"/>
          <a:ext cx="83185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048120"/>
                    <a:ext cx="8318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228600" y="1206360"/>
          <a:ext cx="7842240" cy="165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206360"/>
                    <a:ext cx="7842240" cy="16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6828-0273-40E1-8131-4830726D9F1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Some Fun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Magnetic Levitation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097A-F3D0-43F3-A3C1-C727A5D2C5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ut a Frog in a 16 T Magnet…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560" y="3048120"/>
            <a:ext cx="81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etails: </a:t>
            </a: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http://www.hfml.sci.kun.nl/levitate.ht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1F16-9B1B-4AEF-800C-BAEE7F7D36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How does that work?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First a BRIEF intro to magnetic material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3BA2-9E1B-48FA-91F8-24A6812A4B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Para/Ferromagnetis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851280" cy="2765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849480" cy="3508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2280" y="4800600"/>
            <a:ext cx="883944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Applied external field 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 tends to alig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the atomic magnetic moments (unpaired electron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448D-B1C2-4ED9-AE1B-596C72A4A1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Diamagnetis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9000" y="1828800"/>
            <a:ext cx="3849480" cy="3508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91120" y="1143000"/>
            <a:ext cx="4572000" cy="47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Everything is slightly diamagnetic.  Why?  More l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If no magnetic moments (unpaired electrons) then this effect domina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0920" y="4813200"/>
            <a:ext cx="1447560" cy="0"/>
          </a:xfrm>
          <a:prstGeom prst="line">
            <a:avLst/>
          </a:prstGeom>
          <a:ln w="10152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E6E9-BAD0-4669-8BE3-074AB25664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20:04:55Z</dcterms:created>
  <dc:creator>Eric Hudson</dc:creator>
  <dc:description/>
  <cp:keywords>Ampere's Law; magnetic fields; magnetic levitation</cp:keywords>
  <dc:language>en-US</dc:language>
  <cp:lastModifiedBy>Sapient</cp:lastModifiedBy>
  <dcterms:modified xsi:type="dcterms:W3CDTF">2005-03-31T05:02:39Z</dcterms:modified>
  <cp:revision>1994</cp:revision>
  <dc:subject>Ampere's Law</dc:subject>
  <dc:title>Presentation 18</dc:title>
</cp:coreProperties>
</file>