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2.jpeg" ContentType="image/jpeg"/>
  <Override PartName="/ppt/media/image42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8.gif" ContentType="image/gi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4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40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19.jpeg" ContentType="image/jpeg"/>
  <Override PartName="/ppt/media/image2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3.gif" ContentType="image/gif"/>
  <Override PartName="/ppt/media/image46.wmf" ContentType="image/x-wmf"/>
  <Override PartName="/ppt/media/image50.jpeg" ContentType="image/jpeg"/>
  <Override PartName="/ppt/media/image3.wmf" ContentType="image/x-wmf"/>
  <Override PartName="/ppt/media/image33.wmf" ContentType="image/x-wmf"/>
  <Override PartName="/ppt/media/image21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48.wmf" ContentType="image/x-wmf"/>
  <Override PartName="/ppt/media/image5.wmf" ContentType="image/x-wmf"/>
  <Override PartName="/ppt/media/image3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5625-61BA-4C86-845B-7E936F3829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66EB-F701-49D1-BD51-B19E03B16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121B-B3DF-4D82-98BE-DBB291970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044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808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044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808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2DC5-8AA9-4995-ACCE-E9254EEA79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A2EB-F293-4F0F-BCAB-70BB809BB8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9FD4F-0001-46CF-8091-3623EE0FB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2F828-0324-42AE-9D32-FAD8E271B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027B0-B9FB-4762-9250-45C1E6452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8280" y="304560"/>
            <a:ext cx="889344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40514-25FC-484E-8FD7-0F0786799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7886-8BA4-496F-A809-7A53027C6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61C69-D6D2-4D9B-83F0-D6A3878FB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91D3B-8C0D-443B-A2F3-B2A4FCEA3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6520" y="6535800"/>
            <a:ext cx="630000" cy="304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35DA-04DE-4E02-9E90-ABF5D8619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18600" y="653724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3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vangelion.mit.edu/simulations/superposition/Superposition_Sample.html" TargetMode="External"/><Relationship Id="rId2" Type="http://schemas.openxmlformats.org/officeDocument/2006/relationships/image" Target="../media/image8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eb.mit.edu/8.02t/www/802TEAL3D/visualizations/light/EBlight/EBlight.htm" TargetMode="Externa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image" Target="../media/image19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image" Target="../media/image22.jpe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image" Target="../media/image28.jpeg"/><Relationship Id="rId1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evangelion.mit.edu/802TEAL3D/visualizations/light/planewaveapp/planewaveapp.htm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bs.org/wgbh/nova/bridge/tacoma3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ass 30:  Outlin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2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veling &amp; Standing W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omagnetic (EM) W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D5E6-B5C3-4442-B0CF-43A88022921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Group Work:  Standing Wav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143000"/>
            <a:ext cx="77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Problem 2 in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Java 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819520" y="3429000"/>
            <a:ext cx="3292200" cy="3292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14600" y="6095880"/>
            <a:ext cx="3886200" cy="762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3429000"/>
            <a:ext cx="3352680" cy="631800"/>
          </a:xfrm>
          <a:prstGeom prst="rect">
            <a:avLst/>
          </a:prstGeom>
          <a:solidFill>
            <a:srgbClr val="bbd4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480" y="2438280"/>
          <a:ext cx="3462480" cy="6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438280"/>
                    <a:ext cx="34624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724280" y="2430360"/>
          <a:ext cx="3657600" cy="6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2430360"/>
                    <a:ext cx="365760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8600" y="3276720"/>
          <a:ext cx="8839080" cy="67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3276720"/>
                    <a:ext cx="883908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DCBD-1024-434D-9243-E2680DA820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Last Time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Maxwell’s Equation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48F6-DDB8-4909-8EB8-F37C49A8EF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Maxwell’s Equation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47560" y="1600200"/>
          <a:ext cx="7820280" cy="49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560" y="1600200"/>
                    <a:ext cx="782028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380880" y="1600200"/>
            <a:ext cx="8458200" cy="40384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191A-1A4C-4DF0-8651-82034BD473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Which Leads To…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EM Wave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F4B00-8A38-4133-9919-CCEA9F2892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425160"/>
            <a:ext cx="84582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lectromagnetic Radiation:  Plane Wav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066680"/>
            <a:ext cx="647676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744280" y="6172200"/>
            <a:ext cx="32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Link to visu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8FE98-DF03-491B-9230-0AB3429D6E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2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raveling E &amp; B Wav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879720" y="1174680"/>
          <a:ext cx="4735800" cy="9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9720" y="1174680"/>
                    <a:ext cx="4735800" cy="9320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28600" y="1230480"/>
          <a:ext cx="6858000" cy="50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230480"/>
                    <a:ext cx="6858000" cy="50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8F09-F0A4-44A7-A0D5-447E1FA986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76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Properties of EM Wav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95240" y="1698480"/>
          <a:ext cx="4462560" cy="12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1698480"/>
                    <a:ext cx="4462560" cy="12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895480" y="3886200"/>
          <a:ext cx="2133720" cy="12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886200"/>
                    <a:ext cx="213372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5791320" y="914400"/>
            <a:ext cx="3200400" cy="2154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52280" y="103500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ravel (through vacuum) with speed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320" y="30160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t every point in the wave and any instant of time, E and B are in phase with one another,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51814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 and B fields perpendicular to one another, and to the direction of propagation (they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rans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46240" y="6095880"/>
          <a:ext cx="8129520" cy="696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6240" y="6095880"/>
                    <a:ext cx="812952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B70F-60B5-4DE5-B451-074182E9A6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S Questions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rection of Propaga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33DAC-8BF0-46CD-9042-C52677AB9F4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How Do Maxwell’s Equations Lead to EM Waves?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Derive Wave Equation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80DB-DAEF-48C9-9407-15331BEDA4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Wave Equa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066680"/>
            <a:ext cx="647676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105520" y="773280"/>
          <a:ext cx="4038480" cy="11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773280"/>
                    <a:ext cx="403848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76320" y="1004760"/>
            <a:ext cx="51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Ampere-Maxwell Eq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523880" y="1981080"/>
            <a:ext cx="6248520" cy="46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092C3-ED4E-42F9-9EC5-E71304FA84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Last Time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Traveling Wave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3003-8740-492F-AE33-030CCD8134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Wave Equa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2280" y="2514600"/>
          <a:ext cx="5181840" cy="9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514600"/>
                    <a:ext cx="518184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52280" y="4800600"/>
          <a:ext cx="5346720" cy="10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800600"/>
                    <a:ext cx="534672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943600" y="5562720"/>
          <a:ext cx="264780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5562720"/>
                    <a:ext cx="2647800" cy="1008000"/>
                  </a:xfrm>
                  <a:prstGeom prst="rect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381600" y="601992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o in the limit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d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very sma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" y="3429000"/>
          <a:ext cx="4952880" cy="116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3429000"/>
                    <a:ext cx="495288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228600" y="1905120"/>
            <a:ext cx="51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it to red rectang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9"/>
          <a:stretch/>
        </p:blipFill>
        <p:spPr>
          <a:xfrm>
            <a:off x="5365800" y="1882800"/>
            <a:ext cx="3733920" cy="280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5105520" y="773280"/>
          <a:ext cx="4038480" cy="1139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05520" y="773280"/>
                    <a:ext cx="403848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76320" y="1004760"/>
            <a:ext cx="51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Ampere-Maxwell Eq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B4E6-A3F8-46D4-9A74-A6A90C8A8E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Wave Equa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066680"/>
            <a:ext cx="647676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48320" y="836640"/>
          <a:ext cx="4267080" cy="13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836640"/>
                    <a:ext cx="426708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52280" y="11430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go to Faraday’s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676520" y="2362320"/>
            <a:ext cx="5736960" cy="430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4A26-2EE0-4EB2-B838-1B5BE7C553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Wave Equa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1066680"/>
            <a:ext cx="647676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800600" y="838080"/>
          <a:ext cx="358308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838080"/>
                    <a:ext cx="358308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28600" y="2590920"/>
          <a:ext cx="5160960" cy="93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590920"/>
                    <a:ext cx="516096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04920" y="4800600"/>
          <a:ext cx="4800600" cy="105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800600"/>
                    <a:ext cx="480060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553080" y="5486400"/>
          <a:ext cx="2102040" cy="108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53080" y="5486400"/>
                    <a:ext cx="2102040" cy="1087560"/>
                  </a:xfrm>
                  <a:prstGeom prst="rect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04920" y="3505320"/>
          <a:ext cx="3809880" cy="1017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3505320"/>
                    <a:ext cx="380988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380880" y="1066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aday’s La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1"/>
          <a:stretch/>
        </p:blipFill>
        <p:spPr>
          <a:xfrm>
            <a:off x="5486400" y="1925640"/>
            <a:ext cx="3581280" cy="26877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04560" y="6045120"/>
            <a:ext cx="56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o in the limit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is very sma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905120"/>
            <a:ext cx="51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it to red rectang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45593-DEAA-4AFC-A191-93A7E66F6A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1D Wave Equation for 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905120" y="1295280"/>
          <a:ext cx="5806800" cy="11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580680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10560" y="2590920"/>
            <a:ext cx="79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ak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-derivative of 1st and use the 2nd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200" y="3276720"/>
          <a:ext cx="8912520" cy="12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200" y="3276720"/>
                    <a:ext cx="891252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981080" y="4800600"/>
          <a:ext cx="4953240" cy="187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800600"/>
                    <a:ext cx="4953240" cy="1873080"/>
                  </a:xfrm>
                  <a:prstGeom prst="rect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1424-CE36-4639-8181-956DCB8F77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1D Wave Equation for 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590920" y="1371600"/>
          <a:ext cx="4267080" cy="16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267080" cy="1614600"/>
                  </a:xfrm>
                  <a:prstGeom prst="rect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486400" y="4603680"/>
          <a:ext cx="2362320" cy="16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603680"/>
                    <a:ext cx="236232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38240" y="3276720"/>
            <a:ext cx="58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quation for a wave.  L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019920" y="3200400"/>
          <a:ext cx="274320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3200400"/>
                    <a:ext cx="274320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066680" y="4038480"/>
          <a:ext cx="3505320" cy="24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4038480"/>
                    <a:ext cx="350532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4724280" y="4191120"/>
            <a:ext cx="533520" cy="2361960"/>
          </a:xfrm>
          <a:custGeom>
            <a:avLst/>
            <a:gdLst>
              <a:gd name="textAreaLeft" fmla="*/ 0 w 533520"/>
              <a:gd name="textAreaRight" fmla="*/ 192600 w 53352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FA700-4843-4903-B9E7-3EB10931ECC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1D Wave Equation for B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905120" y="1143000"/>
          <a:ext cx="5736960" cy="11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143000"/>
                    <a:ext cx="573696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52280" y="3260880"/>
          <a:ext cx="8874360" cy="12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260880"/>
                    <a:ext cx="887436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133720" y="4800600"/>
          <a:ext cx="5105160" cy="191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800600"/>
                    <a:ext cx="5105160" cy="1917720"/>
                  </a:xfrm>
                  <a:prstGeom prst="rect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610560" y="2590920"/>
            <a:ext cx="79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ak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-derivative of 1st and use the 2nd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E730-295D-4050-819C-DB69EE65D8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lectromagnetic Radia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3962520"/>
          <a:ext cx="86263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962520"/>
                    <a:ext cx="86263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457200" y="12193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E &amp; B travel like wa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52280" y="1668600"/>
          <a:ext cx="8839440" cy="16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668600"/>
                    <a:ext cx="883944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458280" y="3519360"/>
            <a:ext cx="69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re are strict relations between th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2280" y="5881680"/>
            <a:ext cx="856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,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“the same,” traveling along x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661B-8684-4DAF-943A-A2BDD9F2023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mplitudes of E &amp; B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04920" y="2819520"/>
          <a:ext cx="2286000" cy="11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19520"/>
                    <a:ext cx="228600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62120" y="1523880"/>
          <a:ext cx="726588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523880"/>
                    <a:ext cx="726588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2514600" y="3116160"/>
          <a:ext cx="6477120" cy="77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3116160"/>
                    <a:ext cx="647712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2514600" y="4191120"/>
          <a:ext cx="3048120" cy="94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4191120"/>
                    <a:ext cx="3048120" cy="9460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14040" y="5715000"/>
            <a:ext cx="912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“the same,” just different amplit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04C4-9527-48A6-8A5F-F8DCA141891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Problem:  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EM Standing Wave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EM Wave approaching a perfect conduc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onductor fills the XY plane at Z=0 then the wave will reflect and add to the incident w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" indent="-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ust the total E field 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n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e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t Z=0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" indent="-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eflec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is to be the c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" indent="-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accompanying B fields? (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n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e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" indent="-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 What is B(Z=0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" indent="-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urrent must exist at Z=0 to reflect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wave?  Give magnitude and direc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209680" y="1905120"/>
          <a:ext cx="456912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905120"/>
                    <a:ext cx="45691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8600" y="6243480"/>
          <a:ext cx="8001000" cy="6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243480"/>
                    <a:ext cx="800100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6CE8-B01C-4E2F-AC69-504F5E34B2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Next Time:  How Do We Generate Plane Waves? 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91120" y="5715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209680" y="167652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66A8-38A2-4D6D-8AAF-529924D7E3A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raveling Sine Wav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onsider f(x) = y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(kx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3429000"/>
            <a:ext cx="7619760" cy="1943280"/>
            <a:chOff x="762120" y="3429000"/>
            <a:chExt cx="7619760" cy="1943280"/>
          </a:xfrm>
        </p:grpSpPr>
        <p:grpSp>
          <p:nvGrpSpPr>
            <p:cNvPr id="46" name=""/>
            <p:cNvGrpSpPr/>
            <p:nvPr/>
          </p:nvGrpSpPr>
          <p:grpSpPr>
            <a:xfrm>
              <a:off x="762120" y="3429000"/>
              <a:ext cx="7619760" cy="1943280"/>
              <a:chOff x="762120" y="3429000"/>
              <a:chExt cx="7619760" cy="1943280"/>
            </a:xfrm>
          </p:grpSpPr>
          <p:pic>
            <p:nvPicPr>
              <p:cNvPr id="4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3429000"/>
                <a:ext cx="7619760" cy="19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990360" y="4800600"/>
                <a:ext cx="60948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990360" y="3429000"/>
                <a:ext cx="30456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3886200" y="4648320"/>
              <a:ext cx="838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608120" y="34783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2743200"/>
            <a:ext cx="53316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7520" y="2254320"/>
            <a:ext cx="2392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655640" y="3382920"/>
            <a:ext cx="2743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26880" y="2514600"/>
            <a:ext cx="116388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46480" y="1828800"/>
          <a:ext cx="5668920" cy="108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6480" y="1828800"/>
                    <a:ext cx="566892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457200" y="55627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g(x,t) = f(x+vt)?  Travels to left at velocity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(k(x+vt))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(kx+kv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4B0C1-4D6E-4950-B667-3381E41FDE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741240" y="4678200"/>
            <a:ext cx="7620120" cy="1943280"/>
            <a:chOff x="741240" y="4678200"/>
            <a:chExt cx="7620120" cy="194328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741240" y="4678200"/>
              <a:ext cx="762012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69840" y="6049800"/>
              <a:ext cx="6098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69840" y="4678200"/>
              <a:ext cx="3049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raveling Sine Wav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08120" y="47736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22480" y="3992400"/>
            <a:ext cx="53316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3549600"/>
            <a:ext cx="2392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655640" y="4678200"/>
            <a:ext cx="2743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026880" y="3276720"/>
            <a:ext cx="1468440" cy="1325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581280" y="2590920"/>
          <a:ext cx="5391360" cy="21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2590920"/>
                    <a:ext cx="539136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762280" y="952560"/>
          <a:ext cx="3695760" cy="75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62280" y="952560"/>
                    <a:ext cx="3695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886280" y="1781280"/>
          <a:ext cx="4248360" cy="58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86280" y="1781280"/>
                    <a:ext cx="424836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5600" y="1795320"/>
            <a:ext cx="48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x=0, just a function of ti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0EE60-7456-41B7-B26B-70EE501E0C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raveling Sine Wav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114800" y="1219320"/>
          <a:ext cx="4267080" cy="83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219320"/>
                    <a:ext cx="4267080" cy="8395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28600" y="1230480"/>
          <a:ext cx="6858000" cy="50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230480"/>
                    <a:ext cx="6858000" cy="50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D6A2-5FB9-4EA0-851E-0BFE312C99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This Time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Standing Wave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7FB58-5179-444E-B24A-792CEAD00C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Standing Wav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143000"/>
            <a:ext cx="778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if two waves headed in opposite directions are allowed to interf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19520" y="3429000"/>
            <a:ext cx="3292200" cy="3292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14600" y="6095880"/>
            <a:ext cx="3886200" cy="762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3429000"/>
            <a:ext cx="3352680" cy="631800"/>
          </a:xfrm>
          <a:prstGeom prst="rect">
            <a:avLst/>
          </a:prstGeom>
          <a:solidFill>
            <a:srgbClr val="bbd4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09480" y="2438280"/>
          <a:ext cx="3462480" cy="64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438280"/>
                    <a:ext cx="34624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724280" y="2430360"/>
          <a:ext cx="3657600" cy="67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2430360"/>
                    <a:ext cx="365760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28600" y="3276720"/>
          <a:ext cx="8839080" cy="672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" y="3276720"/>
                    <a:ext cx="883908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AF153-F65B-413C-8E84-87B08F3DC4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Standing Waves:  Who Cares?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143000"/>
            <a:ext cx="77882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ly seen in resonating syst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al Instruments, Microwave Ov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0" y="2590920"/>
          <a:ext cx="4307040" cy="67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590920"/>
                    <a:ext cx="430704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600200" y="3200400"/>
            <a:ext cx="5516640" cy="259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652A0-910A-4CD9-B38B-98FC071D82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Standing Waves: Bridg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0800" y="2286000"/>
            <a:ext cx="82746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oma Narrows Bridge Oscil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pbs.org/wgbh/nova/bridge/tacoma3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D1936-D5F5-4FD4-ADEA-4842B46092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20:04:55Z</dcterms:created>
  <dc:creator>Eric Hudson</dc:creator>
  <dc:description/>
  <cp:keywords>EM Waves Antennas</cp:keywords>
  <dc:language>en-US</dc:language>
  <cp:lastModifiedBy>Sapient</cp:lastModifiedBy>
  <dcterms:modified xsi:type="dcterms:W3CDTF">2005-03-31T05:44:05Z</dcterms:modified>
  <cp:revision>2163</cp:revision>
  <dc:subject>Electromagnetic Radiation</dc:subject>
  <dc:title>Presentation 30</dc:title>
</cp:coreProperties>
</file>