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30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6.wmf" ContentType="image/x-wmf"/>
  <Override PartName="/ppt/media/image49.jpeg" ContentType="image/jpeg"/>
  <Override PartName="/ppt/media/image45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47.wmf" ContentType="image/x-wmf"/>
  <Override PartName="/ppt/media/image13.jpeg" ContentType="image/jpeg"/>
  <Override PartName="/ppt/media/image1.jpeg" ContentType="image/jpeg"/>
  <Override PartName="/ppt/media/image35.jpeg" ContentType="image/jpeg"/>
  <Override PartName="/ppt/media/image68.wmf" ContentType="image/x-wmf"/>
  <Override PartName="/ppt/media/image7.jpeg" ContentType="image/jpeg"/>
  <Override PartName="/ppt/media/image31.wmf" ContentType="image/x-wmf"/>
  <Override PartName="/ppt/media/image7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26.jpeg" ContentType="image/jpeg"/>
  <Override PartName="/ppt/media/image42.png" ContentType="image/png"/>
  <Override PartName="/ppt/media/image21.wmf" ContentType="image/x-wmf"/>
  <Override PartName="/ppt/media/image22.wmf" ContentType="image/x-wmf"/>
  <Override PartName="/ppt/media/image59.wmf" ContentType="image/x-wmf"/>
  <Override PartName="/ppt/media/image28.jpeg" ContentType="image/jpeg"/>
  <Override PartName="/ppt/media/image60.wmf" ContentType="image/x-wmf"/>
  <Override PartName="/ppt/media/image2.jpeg" ContentType="image/jpeg"/>
  <Override PartName="/ppt/media/image36.jpeg" ContentType="image/jpeg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71.jpeg" ContentType="image/jpeg"/>
  <Override PartName="/ppt/media/image65.wmf" ContentType="image/x-wmf"/>
  <Override PartName="/ppt/media/image19.jpeg" ContentType="image/jpeg"/>
  <Override PartName="/ppt/media/image23.wmf" ContentType="image/x-wmf"/>
  <Override PartName="/ppt/media/image66.png" ContentType="image/png"/>
  <Override PartName="/ppt/media/image64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7.png" ContentType="image/png"/>
  <Override PartName="/ppt/media/image15.jpeg" ContentType="image/jpeg"/>
  <Override PartName="/ppt/media/image67.wmf" ContentType="image/x-wmf"/>
  <Override PartName="/ppt/media/image61.wmf" ContentType="image/x-wmf"/>
  <Override PartName="/ppt/media/image24.wmf" ContentType="image/x-wmf"/>
  <Override PartName="/ppt/media/image3.wmf" ContentType="image/x-wmf"/>
  <Override PartName="/ppt/media/image33.wmf" ContentType="image/x-wmf"/>
  <Override PartName="/ppt/media/image29.wmf" ContentType="image/x-wmf"/>
  <Override PartName="/ppt/media/image6.wmf" ContentType="image/x-wmf"/>
  <Override PartName="/ppt/media/image17.jpeg" ContentType="image/jpeg"/>
  <Override PartName="/ppt/media/image11.wmf" ContentType="image/x-wmf"/>
  <Override PartName="/ppt/media/image9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5.wmf" ContentType="image/x-wmf"/>
  <Override PartName="/ppt/media/image10.jpeg" ContentType="image/jpeg"/>
  <Override PartName="/ppt/media/image54.wmf" ContentType="image/x-wmf"/>
  <Override PartName="/ppt/media/image12.jpeg" ContentType="image/jpeg"/>
  <Override PartName="/ppt/media/image37.wmf" ContentType="image/x-wmf"/>
  <Override PartName="/ppt/media/image38.wmf" ContentType="image/x-wmf"/>
  <Override PartName="/ppt/media/image18.png" ContentType="image/png"/>
  <Override PartName="/ppt/media/image40.wmf" ContentType="image/x-wmf"/>
  <Override PartName="/ppt/media/image50.wmf" ContentType="image/x-wmf"/>
  <Override PartName="/ppt/media/image43.jpeg" ContentType="image/jpeg"/>
  <Override PartName="/ppt/media/image44.wmf" ContentType="image/x-wmf"/>
  <Override PartName="/ppt/media/image4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E5DE-374D-402A-AE9C-71BAE99A0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0C77-148B-46D6-9E9D-2A70D44E4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B9CE-6549-4956-B6DB-65F051C36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3049-2FB5-42D5-A7C0-A521D201C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F6DB-608C-4C59-BD0D-E290099FC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2FE6-A0D7-432E-907B-E78FF4B72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DE31-CFB0-4979-B208-738F160D0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5361-729A-48E9-9896-9D63DB4F0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0C0F-352F-4772-B483-98DBB3089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2C2C-62FB-4829-9630-88A3AB36F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047C-C817-4550-A49F-0D62369B6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4B68-C322-4256-81BE-D29652C19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9280" y="6535800"/>
            <a:ext cx="63036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55C8-FF77-4805-8DF0-1ACD22496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29760" y="65419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eb.mit.edu/8.02t/www/applets/GaussLaw.htm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evangelion.mit.edu/simulations/gausslaw.jnlp" TargetMode="External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evangelion.mit.edu/simulations/gausslaw.jnlp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wmf"/><Relationship Id="rId1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4.wmf"/><Relationship Id="rId1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0.wmf"/><Relationship Id="rId1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05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uss’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uss’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76B6-F4CB-4605-A5A1-89F9A68565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Now the Detai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1F13-0672-402C-B711-63FA79B62F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69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ic Flux </a:t>
            </a:r>
            <a:r>
              <a:rPr b="1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r>
              <a:rPr b="1" i="1" lang="en-US" sz="4400" spc="-1" strike="noStrike" baseline="-25000">
                <a:solidFill>
                  <a:srgbClr val="000066"/>
                </a:solidFill>
                <a:latin typeface="Arial"/>
              </a:rPr>
              <a:t>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2193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I:  E is constant vector field perpendicular to planar surface S of are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29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5105520" y="3962520"/>
          <a:ext cx="3200400" cy="10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962520"/>
                    <a:ext cx="32004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4038480" cy="39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0" y="2514600"/>
                <a:ext cx="40384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495680" y="5486400"/>
            <a:ext cx="428328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Goal:  Always reduce problem to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D05D-5058-4188-97FC-EC382F3183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13716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II:  E is constant vector field directed at angle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planar surface S of are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29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5486400" y="4114800"/>
          <a:ext cx="3505320" cy="83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4114800"/>
                    <a:ext cx="35053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28600" y="2819520"/>
            <a:ext cx="5181480" cy="3200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ic Flux </a:t>
            </a:r>
            <a:r>
              <a:rPr b="1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r>
              <a:rPr b="1" i="1" lang="en-US" sz="4400" spc="-1" strike="noStrike" baseline="-25000">
                <a:solidFill>
                  <a:srgbClr val="000066"/>
                </a:solidFill>
                <a:latin typeface="Arial"/>
              </a:rPr>
              <a:t>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410080" y="2743200"/>
                <a:ext cx="35053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F18D-317B-4AA6-A05F-4E20039675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lux Thru Shee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C795-1350-4543-8205-3A8ABCBAF93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50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’s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952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Integral must be over closed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38080" y="1523880"/>
                <a:ext cx="6858000" cy="27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face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</m:e>
                    </m:eqAr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838080" y="1523880"/>
            <a:ext cx="6934320" cy="2895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30B7-28FB-411B-95A7-59F6191A7F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69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pen and Closed Surfac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410080"/>
            <a:ext cx="883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tangle is an open surface — it does NOT contain a volum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here is a closed surface — it DOES contain a volu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851E-252F-4673-BEA4-94A7C627E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rea Element dA:  Closed Surfac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95280"/>
            <a:ext cx="8229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losed surface, 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rmal to surface and points out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from inside to outs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396960" cy="358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19720" y="3809880"/>
            <a:ext cx="441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 0 if E points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4921200"/>
            <a:ext cx="4114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 0 if E point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41EB-73B4-416B-B196-C6D213D21E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120" y="1219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III:  E not constant, surface curv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65520" y="3422520"/>
            <a:ext cx="12960" cy="1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62120" y="4648320"/>
                <a:ext cx="477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04800" y="2581200"/>
                <a:ext cx="655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86200" y="274320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181480" y="2362320"/>
          <a:ext cx="3505320" cy="12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362320"/>
                    <a:ext cx="350532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69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ic Flux </a:t>
            </a:r>
            <a:r>
              <a:rPr b="1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r>
              <a:rPr b="1" i="1" lang="en-US" sz="4400" spc="-1" strike="noStrike" baseline="-25000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257800" y="3733920"/>
                <a:ext cx="37018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F4B6-02E8-4B71-8462-7CF2B1D5A3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86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Example:  Point Charge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pen Surfac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523880"/>
            <a:ext cx="5029200" cy="452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0040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B3C3-73C2-4E4E-A741-9D2BBBBC8B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2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Example:  Point Charge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osed Surfac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62760" cy="4670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0040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674D-110D-48FA-998E-6F918D9C85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Six PRS Questions On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ace and Prepara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7AC8-B260-4375-9444-D0C5303BD04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lux Thru Spher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39F3-7A9B-41FD-A695-B4D64824C49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lectric Flux:  Sphere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3301920" cy="3429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60920" y="1066680"/>
            <a:ext cx="70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charg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t center of sphere, radi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640" y="182880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field at surf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47920" y="2363760"/>
          <a:ext cx="2438280" cy="12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363760"/>
                    <a:ext cx="24382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53000" y="374796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flux through sp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482920" y="4100400"/>
          <a:ext cx="3079800" cy="113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2920" y="4100400"/>
                    <a:ext cx="307980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086600" y="5334120"/>
                <a:ext cx="1652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76320" y="4267080"/>
          <a:ext cx="2431800" cy="97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4267080"/>
                    <a:ext cx="24318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056200" y="5345280"/>
          <a:ext cx="811080" cy="110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56200" y="5345280"/>
                    <a:ext cx="81108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771640" y="5343480"/>
          <a:ext cx="2333880" cy="110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71640" y="5343480"/>
                    <a:ext cx="233388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28600" y="5340240"/>
          <a:ext cx="2496960" cy="113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5340240"/>
                    <a:ext cx="24969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A7DD-F3CC-41A0-825E-E2EBD07372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69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rbitrary Gaussian Surfaces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706560" cy="3733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95280" y="55627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surfaces such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159080" y="2362320"/>
                <a:ext cx="4710240" cy="19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face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61FF-F213-4210-BDD0-7884E9AA81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Gauss’s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regions in which to calculate E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Gaussian surfaces S: 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harge enclosed by surfac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Gauss’s Law to calculate 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990720" y="4019400"/>
                <a:ext cx="6858000" cy="27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face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</m:e>
                    </m:eqAr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90760" y="2286000"/>
                <a:ext cx="2057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0A5B-2EBE-4DE8-AF3E-B505AB107B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osing Gaussian Surfa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urfaces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erpendicular &amp; constant. Then flux is EA or -E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urfaces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flux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41148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x is EA on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x is –EA on bot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x is zero on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3429000"/>
            <a:ext cx="3733200" cy="3352320"/>
            <a:chOff x="304920" y="3429000"/>
            <a:chExt cx="3733200" cy="335232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304920" y="3429000"/>
              <a:ext cx="3733200" cy="33523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528640" y="4062960"/>
                  <a:ext cx="55620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469600" y="5807160"/>
                  <a:ext cx="833760" cy="40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939960" y="4062960"/>
                  <a:ext cx="474840" cy="47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6935040" y="1900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440" y="3429000"/>
            <a:ext cx="48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:  Uniform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F978-4B6D-4166-BFC9-7935CF6A99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ymmetry &amp; Gaussian Surfac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95280" y="2819520"/>
            <a:ext cx="6553080" cy="3428640"/>
            <a:chOff x="1295280" y="2819520"/>
            <a:chExt cx="6553080" cy="3428640"/>
          </a:xfrm>
        </p:grpSpPr>
        <p:grpSp>
          <p:nvGrpSpPr>
            <p:cNvPr id="162" name=""/>
            <p:cNvGrpSpPr/>
            <p:nvPr/>
          </p:nvGrpSpPr>
          <p:grpSpPr>
            <a:xfrm>
              <a:off x="1300320" y="2825640"/>
              <a:ext cx="6542280" cy="3415320"/>
              <a:chOff x="1300320" y="2825640"/>
              <a:chExt cx="6542280" cy="341532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1300320" y="2825640"/>
                <a:ext cx="3270960" cy="883440"/>
                <a:chOff x="1300320" y="2825640"/>
                <a:chExt cx="3270960" cy="8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375920" y="2825640"/>
                  <a:ext cx="3119400" cy="88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Symmetr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300320" y="2825640"/>
                  <a:ext cx="3270960" cy="88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571640" y="2825640"/>
                <a:ext cx="3270960" cy="883440"/>
                <a:chOff x="4571640" y="2825640"/>
                <a:chExt cx="3270960" cy="8834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646880" y="2825640"/>
                  <a:ext cx="3119760" cy="88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Gaussian Surfac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71640" y="2825640"/>
                  <a:ext cx="3270960" cy="88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300320" y="3709440"/>
                <a:ext cx="3270960" cy="843480"/>
                <a:chOff x="1300320" y="3709440"/>
                <a:chExt cx="3270960" cy="843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75920" y="3709440"/>
                  <a:ext cx="311940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Spheric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00320" y="3709440"/>
                  <a:ext cx="327096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571640" y="3709440"/>
                <a:ext cx="3270960" cy="843480"/>
                <a:chOff x="4571640" y="3709440"/>
                <a:chExt cx="3270960" cy="843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46880" y="3709440"/>
                  <a:ext cx="311976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Concentric Sphe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71640" y="3709440"/>
                  <a:ext cx="327096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300320" y="4553640"/>
                <a:ext cx="3270960" cy="843480"/>
                <a:chOff x="1300320" y="4553640"/>
                <a:chExt cx="3270960" cy="8434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375920" y="4553640"/>
                  <a:ext cx="311940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Cylindric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300320" y="4553640"/>
                  <a:ext cx="327096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571640" y="4553640"/>
                <a:ext cx="3270960" cy="843480"/>
                <a:chOff x="4571640" y="4553640"/>
                <a:chExt cx="3270960" cy="843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646880" y="4553640"/>
                  <a:ext cx="311976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Coaxial Cylind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571640" y="4553640"/>
                  <a:ext cx="327096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300320" y="5397480"/>
                <a:ext cx="3270960" cy="843480"/>
                <a:chOff x="1300320" y="5397480"/>
                <a:chExt cx="3270960" cy="843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375920" y="5397480"/>
                  <a:ext cx="311940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Plana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00320" y="5397480"/>
                  <a:ext cx="327096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571640" y="5397480"/>
                <a:ext cx="3270960" cy="843480"/>
                <a:chOff x="4571640" y="5397480"/>
                <a:chExt cx="3270960" cy="8434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646880" y="5397480"/>
                  <a:ext cx="311976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新細明體"/>
                    </a:rPr>
                    <a:t>Gaussian “Pillbox”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571640" y="5397480"/>
                  <a:ext cx="327096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1295280" y="2819520"/>
              <a:ext cx="6553080" cy="3428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295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auss’s Law to calculate E field from highly symmetric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12CC-0118-4A8D-AF9E-7CCFC098FB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hould we use Gauss’ Law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6CBA-BEC9-4ADA-8895-A435CAA51AD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Spherical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1295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ly distributed throughout non-conducting solid sphere of radi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i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ery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58164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D128-2A0F-4BCF-98AB-9FF7FBD7AD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Spherical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6040" y="2362320"/>
            <a:ext cx="38412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 is Spher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aussian Sph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19320" y="3048120"/>
                <a:ext cx="25146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4CB2-6F25-4E8E-97FC-AD6F6C0CDE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Spherical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3748320" cy="4067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9240" y="1344600"/>
            <a:ext cx="6819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ion 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&gt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Gaussian Sphere in Region 1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41960" y="2960640"/>
            <a:ext cx="374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rbitra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adius for which you will calculate the E fiel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4D81-6C33-43DC-95C8-CCD0A77F16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Potential and E Field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DF36-86A6-44C0-8CCB-6B05AED8AD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Spherical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243400" y="2590920"/>
            <a:ext cx="3748320" cy="4066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920" y="1344600"/>
            <a:ext cx="71625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ion 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&gt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harge enclos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487600" y="2451240"/>
          <a:ext cx="246528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7600" y="2451240"/>
                    <a:ext cx="24652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6320" y="2455920"/>
          <a:ext cx="2433600" cy="97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2455920"/>
                    <a:ext cx="2433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685800" y="3276720"/>
          <a:ext cx="1816200" cy="712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3276720"/>
                    <a:ext cx="18162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4002120"/>
          <a:ext cx="3730680" cy="110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4002120"/>
                    <a:ext cx="373068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04920" y="5526000"/>
          <a:ext cx="1912680" cy="110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20" y="5526000"/>
                    <a:ext cx="191268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09680" y="5526000"/>
          <a:ext cx="2560680" cy="1103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09680" y="5526000"/>
                    <a:ext cx="2560680" cy="11034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9ADB-8478-45BD-BD0F-C2BE3FFA36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38400" y="4038480"/>
            <a:ext cx="197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Gauss’s law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3200400" cy="183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027840" y="3733920"/>
            <a:ext cx="296388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28600" y="2362320"/>
                <a:ext cx="320040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π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04920" y="1371600"/>
            <a:ext cx="7162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ion 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&lt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harge enclo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4525920"/>
          <a:ext cx="2432160" cy="7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25920"/>
                    <a:ext cx="2432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Spherical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3520" y="5562720"/>
          <a:ext cx="2043000" cy="110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562720"/>
                    <a:ext cx="204300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674800" y="5568840"/>
          <a:ext cx="2725920" cy="110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74800" y="5568840"/>
                    <a:ext cx="2725920" cy="11034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628440" y="28954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457880" y="2895480"/>
          <a:ext cx="1180800" cy="4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57880" y="2895480"/>
                    <a:ext cx="1180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879640" y="4267080"/>
          <a:ext cx="2530440" cy="123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79640" y="4267080"/>
                    <a:ext cx="25304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B753-6513-4DAA-9ACE-553FE23043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eld Inside Spherical Shell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B688-12C9-4084-924F-810A3E55446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Cylindrical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295280"/>
            <a:ext cx="7772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ly long rod with uniform charge dens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side the r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6555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51BA-6ED5-4854-851E-86E2A63829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Cylindrical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680" y="1523880"/>
            <a:ext cx="397836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 is Cylindr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aussian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219320" y="2209680"/>
                <a:ext cx="25146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41" name="24" descr=""/>
          <p:cNvPicPr/>
          <p:nvPr/>
        </p:nvPicPr>
        <p:blipFill>
          <a:blip r:embed="rId1"/>
          <a:srcRect l="0" t="0" r="0" b="9614"/>
          <a:stretch/>
        </p:blipFill>
        <p:spPr>
          <a:xfrm>
            <a:off x="4800600" y="1600200"/>
            <a:ext cx="416736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28600" y="4419720"/>
            <a:ext cx="434340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rbitra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adius for which you will calculate the E fiel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rbitrary and should divid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9F47-757E-4B0F-8362-375994F397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24" descr=""/>
          <p:cNvPicPr/>
          <p:nvPr/>
        </p:nvPicPr>
        <p:blipFill>
          <a:blip r:embed="rId1"/>
          <a:srcRect l="0" t="0" r="0" b="9614"/>
          <a:stretch/>
        </p:blipFill>
        <p:spPr>
          <a:xfrm>
            <a:off x="5181480" y="1905120"/>
            <a:ext cx="3837240" cy="44193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Cylindrical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12682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harge enclo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85960" y="2935440"/>
          <a:ext cx="3533760" cy="110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960" y="2935440"/>
                    <a:ext cx="353376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114800" y="1219320"/>
                <a:ext cx="1297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304920" y="1981080"/>
          <a:ext cx="4863960" cy="97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981080"/>
                    <a:ext cx="48639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480" y="4498920"/>
          <a:ext cx="1717920" cy="110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4498920"/>
                    <a:ext cx="17179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438280" y="4535640"/>
          <a:ext cx="2398680" cy="110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4535640"/>
                    <a:ext cx="2398680" cy="11030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F78A-7216-49A8-914C-0BAEAA842A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Planar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slab with uniform charge dens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side the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506760" cy="36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8710-692B-4231-8969-44EB6A471D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2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192560" cy="4419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Planar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5680" y="1600200"/>
            <a:ext cx="356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 is Plan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aussian Pill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61920" y="2286000"/>
                <a:ext cx="3029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E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924680" y="4038480"/>
                <a:ext cx="324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28600" y="441972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rbitrary (its size and shape) and should divid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8098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6640" y="5235480"/>
            <a:ext cx="103860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uss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ll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B16C-3EAA-4903-8AEA-D5D02172BE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69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: Planar Symmetr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160020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 No flux through side of cylinder, only endc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0396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harge enclo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083120" y="990720"/>
                <a:ext cx="13604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0" name=""/>
          <p:cNvGraphicFramePr/>
          <p:nvPr/>
        </p:nvGraphicFramePr>
        <p:xfrm>
          <a:off x="828720" y="3429000"/>
          <a:ext cx="334008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3429000"/>
                    <a:ext cx="334008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206280" y="2509920"/>
          <a:ext cx="564192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280" y="2509920"/>
                    <a:ext cx="56419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600200" y="4741920"/>
          <a:ext cx="3857760" cy="110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741920"/>
                    <a:ext cx="3857760" cy="11034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28600" y="4724280"/>
          <a:ext cx="1393920" cy="110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724280"/>
                    <a:ext cx="13939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019920" y="2438280"/>
            <a:ext cx="29718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6280" y="2590920"/>
            <a:ext cx="3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916760" y="5867280"/>
          <a:ext cx="389160" cy="35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16760" y="5867280"/>
                    <a:ext cx="38916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 flipH="1" flipV="1">
            <a:off x="7543800" y="563832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324480" y="4267080"/>
            <a:ext cx="2286000" cy="609840"/>
            <a:chOff x="6324480" y="4267080"/>
            <a:chExt cx="2286000" cy="609840"/>
          </a:xfrm>
        </p:grpSpPr>
        <p:sp>
          <p:nvSpPr>
            <p:cNvPr id="284" name=""/>
            <p:cNvSpPr/>
            <p:nvPr/>
          </p:nvSpPr>
          <p:spPr>
            <a:xfrm>
              <a:off x="7772400" y="487692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4480" y="4876920"/>
              <a:ext cx="838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6" name=""/>
            <p:cNvGraphicFramePr/>
            <p:nvPr/>
          </p:nvGraphicFramePr>
          <p:xfrm>
            <a:off x="6621480" y="4267080"/>
            <a:ext cx="388800" cy="519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621480" y="4267080"/>
                      <a:ext cx="38880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"/>
            <p:cNvGraphicFramePr/>
            <p:nvPr/>
          </p:nvGraphicFramePr>
          <p:xfrm>
            <a:off x="7924680" y="4267080"/>
            <a:ext cx="389160" cy="519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924680" y="4267080"/>
                      <a:ext cx="3891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0" name=""/>
          <p:cNvGrpSpPr/>
          <p:nvPr/>
        </p:nvGrpSpPr>
        <p:grpSpPr>
          <a:xfrm>
            <a:off x="6477120" y="2733840"/>
            <a:ext cx="2446200" cy="1685880"/>
            <a:chOff x="6477120" y="2733840"/>
            <a:chExt cx="2446200" cy="1685880"/>
          </a:xfrm>
        </p:grpSpPr>
        <p:grpSp>
          <p:nvGrpSpPr>
            <p:cNvPr id="291" name=""/>
            <p:cNvGrpSpPr/>
            <p:nvPr/>
          </p:nvGrpSpPr>
          <p:grpSpPr>
            <a:xfrm>
              <a:off x="6477120" y="2733840"/>
              <a:ext cx="2446200" cy="1685880"/>
              <a:chOff x="6477120" y="2733840"/>
              <a:chExt cx="2446200" cy="168588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477120" y="3200400"/>
                <a:ext cx="2057400" cy="990720"/>
                <a:chOff x="6477120" y="3200400"/>
                <a:chExt cx="2057400" cy="990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553080" y="3200400"/>
                  <a:ext cx="1905120" cy="99072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381880" y="3200400"/>
                  <a:ext cx="152640" cy="990720"/>
                </a:xfrm>
                <a:prstGeom prst="ellipse">
                  <a:avLst/>
                </a:prstGeom>
                <a:solidFill>
                  <a:srgbClr val="ccffcc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477120" y="3200400"/>
                  <a:ext cx="152280" cy="990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543800" y="2733840"/>
                <a:ext cx="914400" cy="357120"/>
                <a:chOff x="7543800" y="2733840"/>
                <a:chExt cx="914400" cy="357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543800" y="29718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98" name=""/>
                <p:cNvGraphicFramePr/>
                <p:nvPr/>
              </p:nvGraphicFramePr>
              <p:xfrm>
                <a:off x="7845480" y="2733840"/>
                <a:ext cx="325440" cy="35712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99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845480" y="2733840"/>
                          <a:ext cx="32544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00" name=""/>
              <p:cNvGrpSpPr/>
              <p:nvPr/>
            </p:nvGrpSpPr>
            <p:grpSpPr>
              <a:xfrm>
                <a:off x="8457840" y="3657600"/>
                <a:ext cx="465480" cy="762120"/>
                <a:chOff x="8457840" y="3657600"/>
                <a:chExt cx="465480" cy="762120"/>
              </a:xfrm>
            </p:grpSpPr>
            <p:graphicFrame>
              <p:nvGraphicFramePr>
                <p:cNvPr id="301" name=""/>
                <p:cNvGraphicFramePr/>
                <p:nvPr/>
              </p:nvGraphicFramePr>
              <p:xfrm>
                <a:off x="8534520" y="3997440"/>
                <a:ext cx="388800" cy="42228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302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8534520" y="3997440"/>
                          <a:ext cx="388800" cy="422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03" name=""/>
                <p:cNvSpPr/>
                <p:nvPr/>
              </p:nvSpPr>
              <p:spPr>
                <a:xfrm flipH="1" flipV="1">
                  <a:off x="8457840" y="365760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6477120" y="3123720"/>
              <a:ext cx="151200" cy="1143360"/>
              <a:chOff x="6477120" y="3123720"/>
              <a:chExt cx="151200" cy="1143360"/>
            </a:xfrm>
          </p:grpSpPr>
          <p:sp>
            <p:nvSpPr>
              <p:cNvPr id="305" name=""/>
              <p:cNvSpPr/>
              <p:nvPr/>
            </p:nvSpPr>
            <p:spPr>
              <a:xfrm flipH="1">
                <a:off x="6477120" y="3200400"/>
                <a:ext cx="151200" cy="106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477120" y="3123360"/>
                <a:ext cx="151200" cy="106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6A53-3349-4DFF-9B16-92E85A8DF1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lab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5632-F93A-4205-98CF-2902D4BF04A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 Field and Potential: Creating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47960" y="880920"/>
            <a:ext cx="5317920" cy="1657440"/>
            <a:chOff x="1947960" y="880920"/>
            <a:chExt cx="5317920" cy="1657440"/>
          </a:xfrm>
        </p:grpSpPr>
        <p:sp>
          <p:nvSpPr>
            <p:cNvPr id="46" name=""/>
            <p:cNvSpPr/>
            <p:nvPr/>
          </p:nvSpPr>
          <p:spPr>
            <a:xfrm>
              <a:off x="1947960" y="880920"/>
              <a:ext cx="174456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92520" y="880920"/>
              <a:ext cx="159696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89480" y="880920"/>
              <a:ext cx="19764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25" descr=""/>
          <p:cNvPicPr/>
          <p:nvPr/>
        </p:nvPicPr>
        <p:blipFill>
          <a:blip r:embed="rId1"/>
          <a:stretch/>
        </p:blipFill>
        <p:spPr>
          <a:xfrm>
            <a:off x="5715000" y="1066680"/>
            <a:ext cx="21877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4038840" cy="230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857160" y="5781600"/>
          <a:ext cx="730116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5781600"/>
                    <a:ext cx="73011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2080" y="541008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rel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000" y="3429000"/>
            <a:ext cx="88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char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s a field and potential around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3886200"/>
          <a:ext cx="4114800" cy="123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86200"/>
                    <a:ext cx="411480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013360" y="408312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uperposition for systems of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3660-09B5-4116-B10F-808CA41A98DE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roup Problem:  Charge Slab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1143000"/>
            <a:ext cx="77724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slab with uniform charge dens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ness is 2d (from x=-d to x=d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ery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506760" cy="3693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562720" y="5257800"/>
                <a:ext cx="32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4495680" y="472428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FD2F-08D7-4A08-9C74-E6AC175909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lab of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6E46-8614-4447-A3F5-937BB68C452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tential from 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FFF0-F523-43BE-830F-F5ADA7F7342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tential for Uniformly Charged Non-Conducting Solid Spher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25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288144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1600200" y="1981080"/>
          <a:ext cx="28954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81080"/>
                    <a:ext cx="28954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60440" y="1461960"/>
            <a:ext cx="31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rom Gauss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22320" y="5829480"/>
          <a:ext cx="18651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2320" y="5829480"/>
                    <a:ext cx="18651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057400" y="3870360"/>
          <a:ext cx="3352680" cy="134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870360"/>
                    <a:ext cx="3352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068840" y="426708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289440" y="535788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ion 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&gt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971800" y="5622840"/>
          <a:ext cx="2763720" cy="1125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71800" y="5622840"/>
                    <a:ext cx="276372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867280" y="5629320"/>
          <a:ext cx="1698840" cy="11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5629320"/>
                    <a:ext cx="169884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5798520" y="5105520"/>
            <a:ext cx="2356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Char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B9F3-EBCC-45ED-91FA-28A541E5253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tential for Uniformly Charged Non-Conducting Solid Spher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362320" y="2133720"/>
          <a:ext cx="501624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33720"/>
                    <a:ext cx="50162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83040" y="175248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ion 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&lt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943600" y="3048120"/>
            <a:ext cx="288432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641520" y="2286000"/>
          <a:ext cx="1650960" cy="98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1520" y="2286000"/>
                    <a:ext cx="16509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1101600" y="5486400"/>
          <a:ext cx="2784600" cy="110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01600" y="5486400"/>
                    <a:ext cx="27846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066680" y="3124080"/>
          <a:ext cx="4494240" cy="986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3124080"/>
                    <a:ext cx="449424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066680" y="4343400"/>
          <a:ext cx="4640400" cy="984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66680" y="4343400"/>
                    <a:ext cx="46404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D6E0-6B5A-4EB8-8639-50A26696EE8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tential for Uniformly Charged Non-Conducting Solid Spher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7" name="25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027240" cy="4496040"/>
          </a:xfrm>
          <a:prstGeom prst="rect">
            <a:avLst/>
          </a:prstGeom>
          <a:ln w="0">
            <a:noFill/>
          </a:ln>
        </p:spPr>
      </p:pic>
      <p:pic>
        <p:nvPicPr>
          <p:cNvPr id="348" name="25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288108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4890-090D-4E19-9729-812B1885AA7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roup Problem:  Charge Slab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1143000"/>
            <a:ext cx="84582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slab with uniform charge dens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ness is 2d (from x=-d to x=d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V=0 at x=0 (definition) then what is V(x) for x&gt;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506760" cy="3693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257800"/>
                <a:ext cx="32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495680" y="472428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E96A-3993-4CB5-8932-951584D04F6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Arial"/>
              </a:rPr>
              <a:t>Group Problem:  Spherical Shells</a:t>
            </a:r>
            <a:endParaRPr b="1" lang="en-US" sz="43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5" name="26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4602240" cy="4876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5546880" y="1284120"/>
            <a:ext cx="344484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wo spherical shells have equal but opposit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E every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V everywhere (assume V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0010-5E68-4722-B1AD-260EC85717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 Field and Potential: Effec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947960" y="880920"/>
            <a:ext cx="5317920" cy="1657440"/>
            <a:chOff x="1947960" y="880920"/>
            <a:chExt cx="5317920" cy="1657440"/>
          </a:xfrm>
        </p:grpSpPr>
        <p:sp>
          <p:nvSpPr>
            <p:cNvPr id="60" name=""/>
            <p:cNvSpPr/>
            <p:nvPr/>
          </p:nvSpPr>
          <p:spPr>
            <a:xfrm>
              <a:off x="1947960" y="880920"/>
              <a:ext cx="174456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92520" y="880920"/>
              <a:ext cx="159696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89480" y="880920"/>
              <a:ext cx="19764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3" name=""/>
          <p:cNvGraphicFramePr/>
          <p:nvPr/>
        </p:nvGraphicFramePr>
        <p:xfrm>
          <a:off x="3352680" y="2509920"/>
          <a:ext cx="209232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09920"/>
                    <a:ext cx="20923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173600" y="2057400"/>
            <a:ext cx="65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put a charged particl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 a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14600" y="4572000"/>
          <a:ext cx="390384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572000"/>
                    <a:ext cx="3903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175760" y="3900600"/>
            <a:ext cx="65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ve a charged particl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 a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7C7E-B3EA-4BB4-B786-F97ED5F4D4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wo PRS Question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tential &amp; E Field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E897-FFEA-48D1-8C06-CE6282737D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’s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Maxwell Equ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ery useful computational technique This is importa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8E52-6BF1-4E1F-BB8A-57A2FF5AE7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’s Law – The Idea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52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“flux” of field lines penetrating any of these surfaces is the same and depends only on the amount of charge 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70692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9CBB-F62F-4F2B-9B90-28A6E04D46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auss’s Law – The Equ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4800600"/>
            <a:ext cx="8458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flu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surface integral of E over closed surfa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oportional to charge inside the volume enclos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838080" y="1523880"/>
                <a:ext cx="6858000" cy="27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face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</m:e>
                    </m:eqAr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DCE8-3B71-4298-A76A-B1293E5A89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Gauss' Law Conductors</cp:keywords>
  <dc:language>en-US</dc:language>
  <cp:lastModifiedBy>Sapient</cp:lastModifiedBy>
  <dcterms:modified xsi:type="dcterms:W3CDTF">2005-03-28T09:21:06Z</dcterms:modified>
  <cp:revision>1719</cp:revision>
  <dc:subject>Gauss' Law</dc:subject>
  <dc:title>Presentation 05</dc:title>
</cp:coreProperties>
</file>