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10.wmf" ContentType="image/x-wmf"/>
  <Override PartName="/ppt/media/image25.jpeg" ContentType="image/jpeg"/>
  <Override PartName="/ppt/media/image32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3.wmf" ContentType="image/x-wmf"/>
  <Override PartName="/ppt/media/image27.gif" ContentType="image/gif"/>
  <Override PartName="/ppt/media/image28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4.png" ContentType="image/png"/>
  <Override PartName="/ppt/media/image12.wmf" ContentType="image/x-wmf"/>
  <Override PartName="/ppt/media/image17.wmf" ContentType="image/x-wmf"/>
  <Override PartName="/ppt/media/image22.jpeg" ContentType="image/jpeg"/>
  <Override PartName="/ppt/media/image9.png" ContentType="image/png"/>
  <Override PartName="/ppt/media/image13.wmf" ContentType="image/x-wmf"/>
  <Override PartName="/ppt/media/image30.wmf" ContentType="image/x-wmf"/>
  <Override PartName="/ppt/media/image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.jpeg" ContentType="image/jpeg"/>
  <Override PartName="/ppt/media/image1.png" ContentType="image/png"/>
  <Override PartName="/ppt/media/image19.wmf" ContentType="image/x-wmf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706E-5ACD-44B7-8B96-49DFB7C9B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A06D-B92D-4752-AF1E-9BA0F4950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E2D8-4660-440B-80BB-28A64D3F9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1789-D49B-4631-8933-4FE23CBDA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A927-8DEF-451E-8B4A-037330563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5112-53BA-4DF0-A894-4F1465BEE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3B90-E056-44DD-89E8-26363596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FA2A-A371-4AAE-BC5E-E4C2C2494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19BD-9B89-4A6B-A607-258F66D3F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C1F6-8080-4BC7-87AB-D9826DEFE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F64E-B4B8-45E8-B530-CB20A6C0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80B7-507A-4675-BE1A-D9753386B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FAC-EB1C-48B7-8EBC-2BD4EAD5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8.02t/www/802TEAL3D/visualizations/faraday/FallingMagnetResistive/FallingMagnetResistive.htm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eb.mit.edu/8.02t/www/802TEAL3D/visualizations/faraday/inductance/inductance.htm" TargetMode="External"/><Relationship Id="rId4" Type="http://schemas.openxmlformats.org/officeDocument/2006/relationships/hyperlink" Target="http://web.mit.edu/8.02t/www/802TEAL3D/visualizations/faraday/inductance/inductance.htm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eb.mit.edu/8.02t/www/802TEAL3D/visualizations/faraday/faradayapp02/faradayapp02.htm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28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speaker3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home.howstuffworks.com/metal-detector2.htm" TargetMode="External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20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aday’s Law: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D8CF-1EAB-4946-AD00-1C9EDDB910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 Falling Through a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28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alling magnet slows as it approaches a copper ring which has been immersed in liquid nit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238880" y="2666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7935-62D4-41F9-9167-706636A6D3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Jumping Ring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A2BC-B0AD-4040-9CF7-E75F586218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1981080"/>
            <a:ext cx="42447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Jumping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5228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n aluminum ring jumps into the air when the solenoid beneath it is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665520" cy="488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E9C3-F8CA-459C-8E64-0BF2353A1D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at is Going On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36728" t="0" r="25789" b="0"/>
          <a:stretch/>
        </p:blipFill>
        <p:spPr>
          <a:xfrm>
            <a:off x="1676520" y="990720"/>
            <a:ext cx="1689120" cy="4190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151080" cy="42019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07920" y="5237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ooks as though the conducting loops have current in them (they behave like magnetic dipoles) even though they aren’t hook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E595-A993-42C2-8A22-BC8EA7C77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D6AE-7B05-42CA-B1DF-96364B0936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004840" y="1066680"/>
            <a:ext cx="51976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B51C-FF6F-4EF1-A70C-F1F44925D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vie and Visualiz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419720" cy="29462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36760" y="1600200"/>
            <a:ext cx="56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Lin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5486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z’s Law says that the flux tries to remain the same, so the field lines get “hung up” at the c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379D-F65E-4571-A2D8-56C3E6411036}" type="slidenum">
              <a:t>16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 of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70200" y="1447920"/>
          <a:ext cx="566424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447920"/>
                    <a:ext cx="5664240" cy="2344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52480" y="4295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 changing magnetic flu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an EM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E964-F0F9-4AC9-8A94-1D66EE2EB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hat is EMF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133720" y="1828800"/>
          <a:ext cx="474804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474804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52480" y="4295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Looks like potential.  It’s a “driving force” for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9BCB-078B-4A36-876E-FD736699F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 of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70200" y="1447920"/>
          <a:ext cx="566424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447920"/>
                    <a:ext cx="5664240" cy="2344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752480" y="4295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 changing magnetic flu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an EM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BEE2-E28F-40CE-A360-B73397C94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Previously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orce on Magnetic Dipo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5ECF-AA91-49EF-A8F0-BBE71D84F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lux Thru Wire Loo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648320" y="2367000"/>
          <a:ext cx="41418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7000"/>
                    <a:ext cx="4141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181480" y="4406760"/>
          <a:ext cx="32767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406760"/>
                    <a:ext cx="3276720" cy="19177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228600" y="1600200"/>
            <a:ext cx="4361040" cy="4495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76920" y="1081080"/>
            <a:ext cx="64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Electric Flux (Gauss’ 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5960" y="183348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1) Unifor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2760" y="36576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2) Non-Unifor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92CA-B5DC-401A-A875-27859EC726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 of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870200" y="1447920"/>
          <a:ext cx="566424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447920"/>
                    <a:ext cx="5664240" cy="2344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752480" y="4295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 changing magnetic flu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an EM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2B24-7C56-4AE8-9D20-8BED5D38D6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inus Sign?  Lenz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0" t="7333" r="11323" b="7287"/>
          <a:stretch/>
        </p:blipFill>
        <p:spPr>
          <a:xfrm>
            <a:off x="380880" y="2590920"/>
            <a:ext cx="8458200" cy="3601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04920" y="1295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d EMF is in direction that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opposes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change in flux that caused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AB94-06CC-482D-8BDD-9FA91E3FA4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ree 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enz’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5ACD-3884-49BB-B2D9-944F37C3FC2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 of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70200" y="1447920"/>
          <a:ext cx="566424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447920"/>
                    <a:ext cx="5664240" cy="2344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1752480" y="4295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 changing magnetic flu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an EM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0D05-A178-4082-A08E-DF21D9C356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ys to Induce EMF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Quantities which can vary with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Magnitude of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rea A enclosed by th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ngl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between B and loop nor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461960" y="1220760"/>
          <a:ext cx="6147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220760"/>
                    <a:ext cx="6147000" cy="2085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CE67-7669-45F1-AE91-233CCB518C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ys to Induce EMF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Quantities which can vary with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Magnitude of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rea A enclosed by th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ngl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between B and loop nor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460520" y="1220760"/>
          <a:ext cx="6148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220760"/>
                    <a:ext cx="6148440" cy="2085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BF33-1794-4870-A7F3-DB4F13B274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Discuss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 Falling Through a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52280" y="55627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alling magnet slows as it approaches a copper ring which has been immersed in liquid nit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37C1-ECF4-4FDF-A209-1342CC3BD5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orce on Loop Below Magn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53AA-EF90-421B-B106-9DCF9A28E45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ys to Induce EMF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Quantities which can vary with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Magnitude of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rea A enclosed by th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ngl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between B and loop nor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460520" y="1220760"/>
          <a:ext cx="6148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220760"/>
                    <a:ext cx="6148440" cy="2085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4347360" y="457200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Falling Mag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3F86-A30C-4DEF-AD67-41270D81D1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rce on Magnetic Dipo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B3C5-ED46-4CBC-A6DB-62A330542DC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Problem:  Changing Are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990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ducting rod pulled along two conducting rails in a uniform magnetic field B at constant velocity 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942000" cy="4199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495680" y="2133720"/>
            <a:ext cx="449604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f induced cur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f resultant fo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EM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cur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externally supplied to move at constant 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847960" y="3200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695680" y="4162320"/>
          <a:ext cx="32220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5680" y="4162320"/>
                    <a:ext cx="3222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AAD9-DD29-4870-BA71-B1DD720E0C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ays to Induce EMF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Quantities which can vary with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Magnitude of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rea A encl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ngle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between B and loop norm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460520" y="1220760"/>
          <a:ext cx="6148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220760"/>
                    <a:ext cx="6148440" cy="2085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4347720" y="460368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 Moving Coil &amp; Di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5560" y="527220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 Sliding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C501-883C-4AF7-A422-F154D45A17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hanging Ang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819600" cy="4343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4972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"/>
          <p:cNvGraphicFramePr/>
          <p:nvPr/>
        </p:nvGraphicFramePr>
        <p:xfrm>
          <a:off x="1241280" y="5791320"/>
          <a:ext cx="2421000" cy="68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1280" y="5791320"/>
                    <a:ext cx="24210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5786280" y="5791320"/>
          <a:ext cx="2124360" cy="68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5791320"/>
                    <a:ext cx="212436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C6FB-F7FC-466E-9948-C04DB84B5A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pplets that show these 3 cas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551400" cy="4038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371600" y="5486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ea typeface="新細明體"/>
                <a:hlinkClick r:id="rId2"/>
              </a:rPr>
              <a:t>Magnitude of B, Area A enclosed by the loop, and angle of rotation of the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1066680" y="1371600"/>
            <a:ext cx="30290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2513-436F-4982-B000-89A06B91E0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araday’s Law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last of the Maxwell’s Equations (Kind of, still need one more term in Ampere’s Law)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01EF-2BB9-46F8-A495-63D49E38A4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28600" y="1187280"/>
          <a:ext cx="8305920" cy="55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87280"/>
                    <a:ext cx="8305920" cy="55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0115-376F-4A01-918C-44B6549AE7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pplications of Faraday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250-2139-4831-B52D-07630ADB88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C Motor (magnetostatics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40320" cy="502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4339-43DD-4672-B15E-284D7402F7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otors &amp; Generato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724280" cy="398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5181480" y="4648320"/>
          <a:ext cx="373392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4648320"/>
                    <a:ext cx="37339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"/>
          <p:cNvGraphicFramePr/>
          <p:nvPr/>
        </p:nvGraphicFramePr>
        <p:xfrm>
          <a:off x="152280" y="5207040"/>
          <a:ext cx="8669520" cy="11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207040"/>
                    <a:ext cx="86695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BDA5-16F4-4166-AF83-8B5A04BD4D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peakers &amp; Microphones (magnetostatics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819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iagram: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electronics.howstuffworks.com/speaker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AD64-FA39-430F-8C5B-CBD4E2621E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Ampere’s Law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CA33-ACED-4FA0-9DD4-BE67869F1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etal Dete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21932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nimation of how VLF metal detectors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home.howstuffworks.com/metal-detector2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327672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duction Stovet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724280"/>
            <a:ext cx="88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ound Fault Interrupters (GF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AF85-D19C-4869-B2C2-F83DC0E939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Guita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3128" t="0" r="0" b="2771"/>
          <a:stretch/>
        </p:blipFill>
        <p:spPr>
          <a:xfrm>
            <a:off x="1066680" y="1143000"/>
            <a:ext cx="70866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C3B8-84A1-4D8A-8662-51FC3E4758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ic Guita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6996-4751-4284-B723-7783DA04E3DC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4114800"/>
            <a:ext cx="16761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urrent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:                       </a:t>
            </a:r>
            <a:r>
              <a:rPr b="1" lang="en-US" sz="1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952880" y="152280"/>
                <a:ext cx="41911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0320" y="1371600"/>
            <a:ext cx="18795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648320" y="1528920"/>
            <a:ext cx="4190760" cy="1669320"/>
            <a:chOff x="4648320" y="1528920"/>
            <a:chExt cx="4190760" cy="1669320"/>
          </a:xfrm>
        </p:grpSpPr>
        <p:sp>
          <p:nvSpPr>
            <p:cNvPr id="50" name=""/>
            <p:cNvSpPr/>
            <p:nvPr/>
          </p:nvSpPr>
          <p:spPr>
            <a:xfrm>
              <a:off x="4648320" y="1581120"/>
              <a:ext cx="4190760" cy="156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8440" y="208908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826160" y="2014560"/>
              <a:ext cx="3790440" cy="819000"/>
              <a:chOff x="4826160" y="2014560"/>
              <a:chExt cx="3790440" cy="819000"/>
            </a:xfrm>
          </p:grpSpPr>
          <p:sp>
            <p:nvSpPr>
              <p:cNvPr id="53" name=""/>
              <p:cNvSpPr/>
              <p:nvPr/>
            </p:nvSpPr>
            <p:spPr>
              <a:xfrm>
                <a:off x="4959720" y="2051640"/>
                <a:ext cx="3523320" cy="744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3611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26160" y="2014560"/>
                <a:ext cx="312120" cy="819000"/>
              </a:xfrm>
              <a:custGeom>
                <a:avLst/>
                <a:gdLst/>
                <a:ahLst/>
                <a:rect l="l" t="t" r="r" b="b"/>
                <a:pathLst>
                  <a:path w="300" h="1056">
                    <a:moveTo>
                      <a:pt x="150" y="58"/>
                    </a:moveTo>
                    <a:cubicBezTo>
                      <a:pt x="184" y="70"/>
                      <a:pt x="183" y="100"/>
                      <a:pt x="201" y="127"/>
                    </a:cubicBezTo>
                    <a:cubicBezTo>
                      <a:pt x="212" y="168"/>
                      <a:pt x="240" y="194"/>
                      <a:pt x="252" y="235"/>
                    </a:cubicBezTo>
                    <a:cubicBezTo>
                      <a:pt x="241" y="252"/>
                      <a:pt x="240" y="271"/>
                      <a:pt x="230" y="287"/>
                    </a:cubicBezTo>
                    <a:cubicBezTo>
                      <a:pt x="212" y="317"/>
                      <a:pt x="179" y="337"/>
                      <a:pt x="155" y="361"/>
                    </a:cubicBezTo>
                    <a:cubicBezTo>
                      <a:pt x="144" y="399"/>
                      <a:pt x="136" y="410"/>
                      <a:pt x="150" y="458"/>
                    </a:cubicBezTo>
                    <a:cubicBezTo>
                      <a:pt x="154" y="472"/>
                      <a:pt x="171" y="479"/>
                      <a:pt x="178" y="492"/>
                    </a:cubicBezTo>
                    <a:cubicBezTo>
                      <a:pt x="191" y="519"/>
                      <a:pt x="173" y="502"/>
                      <a:pt x="201" y="520"/>
                    </a:cubicBezTo>
                    <a:cubicBezTo>
                      <a:pt x="212" y="554"/>
                      <a:pt x="199" y="523"/>
                      <a:pt x="224" y="555"/>
                    </a:cubicBezTo>
                    <a:cubicBezTo>
                      <a:pt x="232" y="566"/>
                      <a:pt x="247" y="589"/>
                      <a:pt x="247" y="589"/>
                    </a:cubicBezTo>
                    <a:cubicBezTo>
                      <a:pt x="261" y="636"/>
                      <a:pt x="241" y="579"/>
                      <a:pt x="264" y="617"/>
                    </a:cubicBezTo>
                    <a:cubicBezTo>
                      <a:pt x="274" y="634"/>
                      <a:pt x="275" y="652"/>
                      <a:pt x="287" y="669"/>
                    </a:cubicBezTo>
                    <a:cubicBezTo>
                      <a:pt x="300" y="714"/>
                      <a:pt x="268" y="708"/>
                      <a:pt x="235" y="720"/>
                    </a:cubicBezTo>
                    <a:cubicBezTo>
                      <a:pt x="216" y="750"/>
                      <a:pt x="186" y="770"/>
                      <a:pt x="167" y="800"/>
                    </a:cubicBezTo>
                    <a:cubicBezTo>
                      <a:pt x="172" y="868"/>
                      <a:pt x="167" y="911"/>
                      <a:pt x="224" y="948"/>
                    </a:cubicBezTo>
                    <a:cubicBezTo>
                      <a:pt x="241" y="996"/>
                      <a:pt x="218" y="937"/>
                      <a:pt x="241" y="977"/>
                    </a:cubicBezTo>
                    <a:cubicBezTo>
                      <a:pt x="254" y="999"/>
                      <a:pt x="252" y="1026"/>
                      <a:pt x="252" y="1051"/>
                    </a:cubicBezTo>
                    <a:lnTo>
                      <a:pt x="0" y="1056"/>
                    </a:lnTo>
                    <a:lnTo>
                      <a:pt x="48" y="0"/>
                    </a:lnTo>
                    <a:lnTo>
                      <a:pt x="15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8304120" y="2014560"/>
                <a:ext cx="312120" cy="819000"/>
              </a:xfrm>
              <a:custGeom>
                <a:avLst/>
                <a:gdLst/>
                <a:ahLst/>
                <a:rect l="l" t="t" r="r" b="b"/>
                <a:pathLst>
                  <a:path w="300" h="1056">
                    <a:moveTo>
                      <a:pt x="150" y="58"/>
                    </a:moveTo>
                    <a:cubicBezTo>
                      <a:pt x="184" y="70"/>
                      <a:pt x="183" y="100"/>
                      <a:pt x="201" y="127"/>
                    </a:cubicBezTo>
                    <a:cubicBezTo>
                      <a:pt x="212" y="168"/>
                      <a:pt x="240" y="194"/>
                      <a:pt x="252" y="235"/>
                    </a:cubicBezTo>
                    <a:cubicBezTo>
                      <a:pt x="241" y="252"/>
                      <a:pt x="240" y="271"/>
                      <a:pt x="230" y="287"/>
                    </a:cubicBezTo>
                    <a:cubicBezTo>
                      <a:pt x="212" y="317"/>
                      <a:pt x="179" y="337"/>
                      <a:pt x="155" y="361"/>
                    </a:cubicBezTo>
                    <a:cubicBezTo>
                      <a:pt x="144" y="399"/>
                      <a:pt x="136" y="410"/>
                      <a:pt x="150" y="458"/>
                    </a:cubicBezTo>
                    <a:cubicBezTo>
                      <a:pt x="154" y="472"/>
                      <a:pt x="171" y="479"/>
                      <a:pt x="178" y="492"/>
                    </a:cubicBezTo>
                    <a:cubicBezTo>
                      <a:pt x="191" y="519"/>
                      <a:pt x="173" y="502"/>
                      <a:pt x="201" y="520"/>
                    </a:cubicBezTo>
                    <a:cubicBezTo>
                      <a:pt x="212" y="554"/>
                      <a:pt x="199" y="523"/>
                      <a:pt x="224" y="555"/>
                    </a:cubicBezTo>
                    <a:cubicBezTo>
                      <a:pt x="232" y="566"/>
                      <a:pt x="247" y="589"/>
                      <a:pt x="247" y="589"/>
                    </a:cubicBezTo>
                    <a:cubicBezTo>
                      <a:pt x="261" y="636"/>
                      <a:pt x="241" y="579"/>
                      <a:pt x="264" y="617"/>
                    </a:cubicBezTo>
                    <a:cubicBezTo>
                      <a:pt x="274" y="634"/>
                      <a:pt x="275" y="652"/>
                      <a:pt x="287" y="669"/>
                    </a:cubicBezTo>
                    <a:cubicBezTo>
                      <a:pt x="300" y="714"/>
                      <a:pt x="268" y="708"/>
                      <a:pt x="235" y="720"/>
                    </a:cubicBezTo>
                    <a:cubicBezTo>
                      <a:pt x="216" y="750"/>
                      <a:pt x="186" y="770"/>
                      <a:pt x="167" y="800"/>
                    </a:cubicBezTo>
                    <a:cubicBezTo>
                      <a:pt x="172" y="868"/>
                      <a:pt x="167" y="911"/>
                      <a:pt x="224" y="948"/>
                    </a:cubicBezTo>
                    <a:cubicBezTo>
                      <a:pt x="241" y="996"/>
                      <a:pt x="218" y="937"/>
                      <a:pt x="241" y="977"/>
                    </a:cubicBezTo>
                    <a:cubicBezTo>
                      <a:pt x="254" y="999"/>
                      <a:pt x="252" y="1026"/>
                      <a:pt x="252" y="1051"/>
                    </a:cubicBezTo>
                    <a:lnTo>
                      <a:pt x="0" y="1056"/>
                    </a:lnTo>
                    <a:lnTo>
                      <a:pt x="48" y="0"/>
                    </a:lnTo>
                    <a:lnTo>
                      <a:pt x="15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286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964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639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314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6992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7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2342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020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7695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>
              <a:off x="5762520" y="1790640"/>
              <a:ext cx="1293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62520" y="2982960"/>
              <a:ext cx="1293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4280" y="27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2200" y="1897200"/>
              <a:ext cx="1025280" cy="100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23120" y="1884240"/>
              <a:ext cx="1025640" cy="540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72200" y="2125800"/>
              <a:ext cx="0" cy="18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297480" y="2647800"/>
              <a:ext cx="0" cy="185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23120" y="2089080"/>
              <a:ext cx="0" cy="185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348760" y="2125800"/>
              <a:ext cx="0" cy="18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77160" y="152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2011320" cy="26672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6781680" y="3886200"/>
            <a:ext cx="1981080" cy="1941480"/>
            <a:chOff x="6781680" y="3886200"/>
            <a:chExt cx="1981080" cy="1941480"/>
          </a:xfrm>
        </p:grpSpPr>
        <p:sp>
          <p:nvSpPr>
            <p:cNvPr id="78" name=""/>
            <p:cNvSpPr/>
            <p:nvPr/>
          </p:nvSpPr>
          <p:spPr>
            <a:xfrm>
              <a:off x="6781680" y="3886200"/>
              <a:ext cx="1981080" cy="19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6040" y="4627440"/>
              <a:ext cx="585720" cy="57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005600" y="4113360"/>
              <a:ext cx="1563120" cy="862920"/>
              <a:chOff x="7005600" y="4113360"/>
              <a:chExt cx="1563120" cy="8629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993800" y="4853160"/>
                <a:ext cx="114840" cy="123120"/>
                <a:chOff x="7993800" y="4853160"/>
                <a:chExt cx="114840" cy="123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993800" y="485316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042040" y="49042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7695720" y="4565520"/>
                <a:ext cx="114840" cy="123120"/>
                <a:chOff x="7695720" y="4565520"/>
                <a:chExt cx="114840" cy="123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695720" y="45655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743960" y="461664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810920" y="4586040"/>
                <a:ext cx="114840" cy="123120"/>
                <a:chOff x="7810920" y="4586040"/>
                <a:chExt cx="114840" cy="123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810920" y="458604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859160" y="46371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899840" y="4642560"/>
                <a:ext cx="114840" cy="123120"/>
                <a:chOff x="7899840" y="4642560"/>
                <a:chExt cx="114840" cy="123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899840" y="464256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48080" y="46936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62480" y="4735080"/>
                <a:ext cx="114840" cy="123120"/>
                <a:chOff x="7962480" y="4735080"/>
                <a:chExt cx="114840" cy="123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962480" y="473508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010720" y="478620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7695720" y="41133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88760" y="416988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18800" y="43185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386200" y="455508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53880" y="48531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7005600" y="4174920"/>
                <a:ext cx="689760" cy="688320"/>
                <a:chOff x="7005600" y="4174920"/>
                <a:chExt cx="689760" cy="6883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580520" y="4591080"/>
                  <a:ext cx="114840" cy="123120"/>
                  <a:chOff x="7580520" y="4591080"/>
                  <a:chExt cx="114840" cy="1231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flipH="1">
                    <a:off x="7580160" y="459108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7626240" y="464220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491600" y="4647600"/>
                  <a:ext cx="114840" cy="123120"/>
                  <a:chOff x="7491600" y="4647600"/>
                  <a:chExt cx="114840" cy="12312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flipH="1">
                    <a:off x="7491240" y="464760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7537320" y="469872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428960" y="4740120"/>
                  <a:ext cx="114840" cy="123120"/>
                  <a:chOff x="7428960" y="4740120"/>
                  <a:chExt cx="114840" cy="12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flipH="1">
                    <a:off x="7428600" y="474012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7474680" y="479124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H="1">
                  <a:off x="7402320" y="41749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7172280" y="432360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5240" y="45601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6943680" y="4857480"/>
              <a:ext cx="1563120" cy="865080"/>
              <a:chOff x="6943680" y="4857480"/>
              <a:chExt cx="1563120" cy="865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7403760" y="4857480"/>
                <a:ext cx="114840" cy="123480"/>
                <a:chOff x="7403760" y="4857480"/>
                <a:chExt cx="114840" cy="123480"/>
              </a:xfrm>
            </p:grpSpPr>
            <p:sp>
              <p:nvSpPr>
                <p:cNvPr id="116" name=""/>
                <p:cNvSpPr/>
                <p:nvPr/>
              </p:nvSpPr>
              <p:spPr>
                <a:xfrm rot="10800000">
                  <a:off x="7403760" y="48574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0800000">
                  <a:off x="7449480" y="49089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01840" y="5146200"/>
                <a:ext cx="114840" cy="123480"/>
                <a:chOff x="7701840" y="5146200"/>
                <a:chExt cx="114840" cy="123480"/>
              </a:xfrm>
            </p:grpSpPr>
            <p:sp>
              <p:nvSpPr>
                <p:cNvPr id="119" name=""/>
                <p:cNvSpPr/>
                <p:nvPr/>
              </p:nvSpPr>
              <p:spPr>
                <a:xfrm rot="10800000">
                  <a:off x="7701840" y="514620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0800000">
                  <a:off x="7747560" y="51976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586640" y="5125320"/>
                <a:ext cx="114840" cy="123480"/>
                <a:chOff x="7586640" y="5125320"/>
                <a:chExt cx="114840" cy="123480"/>
              </a:xfrm>
            </p:grpSpPr>
            <p:sp>
              <p:nvSpPr>
                <p:cNvPr id="122" name=""/>
                <p:cNvSpPr/>
                <p:nvPr/>
              </p:nvSpPr>
              <p:spPr>
                <a:xfrm rot="10800000">
                  <a:off x="7586640" y="512532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0800000">
                  <a:off x="7632360" y="517680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97720" y="5068800"/>
                <a:ext cx="114840" cy="123480"/>
                <a:chOff x="7497720" y="5068800"/>
                <a:chExt cx="114840" cy="123480"/>
              </a:xfrm>
            </p:grpSpPr>
            <p:sp>
              <p:nvSpPr>
                <p:cNvPr id="125" name=""/>
                <p:cNvSpPr/>
                <p:nvPr/>
              </p:nvSpPr>
              <p:spPr>
                <a:xfrm rot="10800000">
                  <a:off x="7497720" y="506880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0800000">
                  <a:off x="7543440" y="51202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435080" y="4976280"/>
                <a:ext cx="114840" cy="123480"/>
                <a:chOff x="7435080" y="4976280"/>
                <a:chExt cx="114840" cy="123480"/>
              </a:xfrm>
            </p:grpSpPr>
            <p:sp>
              <p:nvSpPr>
                <p:cNvPr id="128" name=""/>
                <p:cNvSpPr/>
                <p:nvPr/>
              </p:nvSpPr>
              <p:spPr>
                <a:xfrm rot="10800000">
                  <a:off x="7435080" y="49762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0800000">
                  <a:off x="7480800" y="50277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 rot="10800000">
                <a:off x="7701840" y="55990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7408800" y="554256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7178760" y="539316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800000">
                <a:off x="7011360" y="51562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6943680" y="48574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817040" y="4971240"/>
                <a:ext cx="689760" cy="689760"/>
                <a:chOff x="7817040" y="4971240"/>
                <a:chExt cx="689760" cy="6897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17040" y="5120280"/>
                  <a:ext cx="114840" cy="123480"/>
                  <a:chOff x="7817040" y="5120280"/>
                  <a:chExt cx="114840" cy="1234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0800000">
                    <a:off x="7816680" y="512028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0800000">
                    <a:off x="7865280" y="517176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905960" y="5063760"/>
                  <a:ext cx="114840" cy="123480"/>
                  <a:chOff x="7905960" y="5063760"/>
                  <a:chExt cx="114840" cy="12348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0800000">
                    <a:off x="7905600" y="506376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0800000">
                    <a:off x="7954200" y="511524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968600" y="4971240"/>
                  <a:ext cx="114840" cy="123480"/>
                  <a:chOff x="7968600" y="4971240"/>
                  <a:chExt cx="114840" cy="1234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10800000">
                    <a:off x="7968240" y="497124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10800000">
                    <a:off x="8016840" y="502272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 flipH="1" rot="10800000">
                  <a:off x="7994520" y="553752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rot="10800000">
                  <a:off x="8224560" y="53884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rot="10800000">
                  <a:off x="8391600" y="515124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272360" y="4390920"/>
              <a:ext cx="961920" cy="1059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266960" y="4627440"/>
              <a:ext cx="86040" cy="117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038480" y="3824280"/>
            <a:ext cx="1905120" cy="2644920"/>
            <a:chOff x="4038480" y="3824280"/>
            <a:chExt cx="1905120" cy="2644920"/>
          </a:xfrm>
        </p:grpSpPr>
        <p:grpSp>
          <p:nvGrpSpPr>
            <p:cNvPr id="151" name=""/>
            <p:cNvGrpSpPr/>
            <p:nvPr/>
          </p:nvGrpSpPr>
          <p:grpSpPr>
            <a:xfrm>
              <a:off x="4038480" y="3824280"/>
              <a:ext cx="1905120" cy="2644920"/>
              <a:chOff x="4038480" y="3824280"/>
              <a:chExt cx="1905120" cy="2644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038480" y="3824280"/>
                <a:ext cx="1905120" cy="2644920"/>
                <a:chOff x="4038480" y="3824280"/>
                <a:chExt cx="1905120" cy="26449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038480" y="3824280"/>
                  <a:ext cx="1905120" cy="264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4265640" y="4191120"/>
                  <a:ext cx="1202760" cy="1882440"/>
                  <a:chOff x="4265640" y="4191120"/>
                  <a:chExt cx="1202760" cy="188244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265640" y="4191120"/>
                    <a:ext cx="143640" cy="1882440"/>
                    <a:chOff x="4265640" y="4191120"/>
                    <a:chExt cx="143640" cy="188244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4265640" y="4191120"/>
                      <a:ext cx="143640" cy="156600"/>
                      <a:chOff x="4265640" y="4191120"/>
                      <a:chExt cx="143640" cy="15660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4265640" y="41911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326120" y="42562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4265640" y="4347720"/>
                      <a:ext cx="143640" cy="156600"/>
                      <a:chOff x="4265640" y="4347720"/>
                      <a:chExt cx="143640" cy="15660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4265640" y="43477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4326120" y="44128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4265640" y="4504680"/>
                      <a:ext cx="143640" cy="156600"/>
                      <a:chOff x="4265640" y="4504680"/>
                      <a:chExt cx="143640" cy="15660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4265640" y="45046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4326120" y="45698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4265640" y="4661640"/>
                      <a:ext cx="143640" cy="156600"/>
                      <a:chOff x="4265640" y="4661640"/>
                      <a:chExt cx="143640" cy="156600"/>
                    </a:xfrm>
                  </p:grpSpPr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4265640" y="466164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4326120" y="472680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" name=""/>
                    <p:cNvGrpSpPr/>
                    <p:nvPr/>
                  </p:nvGrpSpPr>
                  <p:grpSpPr>
                    <a:xfrm>
                      <a:off x="4265640" y="4818600"/>
                      <a:ext cx="143640" cy="156600"/>
                      <a:chOff x="4265640" y="4818600"/>
                      <a:chExt cx="143640" cy="156600"/>
                    </a:xfrm>
                  </p:grpSpPr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265640" y="481860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4326120" y="488376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4265640" y="4975560"/>
                      <a:ext cx="143640" cy="156600"/>
                      <a:chOff x="4265640" y="4975560"/>
                      <a:chExt cx="143640" cy="15660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4265640" y="497556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4326120" y="504072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4265640" y="5132520"/>
                      <a:ext cx="143640" cy="156600"/>
                      <a:chOff x="4265640" y="5132520"/>
                      <a:chExt cx="143640" cy="15660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4265640" y="51325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4326120" y="51976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4265640" y="5289480"/>
                      <a:ext cx="143640" cy="156600"/>
                      <a:chOff x="4265640" y="5289480"/>
                      <a:chExt cx="143640" cy="15660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265640" y="52894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326120" y="53546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4265640" y="5446080"/>
                      <a:ext cx="143640" cy="156600"/>
                      <a:chOff x="4265640" y="5446080"/>
                      <a:chExt cx="143640" cy="1566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4265640" y="54460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4326120" y="55112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4265640" y="5603040"/>
                      <a:ext cx="143640" cy="156600"/>
                      <a:chOff x="4265640" y="5603040"/>
                      <a:chExt cx="143640" cy="15660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65640" y="560304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326120" y="566820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4265640" y="5760000"/>
                      <a:ext cx="143640" cy="156600"/>
                      <a:chOff x="4265640" y="5760000"/>
                      <a:chExt cx="143640" cy="156600"/>
                    </a:xfrm>
                  </p:grpSpPr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265640" y="576000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4326120" y="582516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4265640" y="5916960"/>
                      <a:ext cx="143640" cy="156600"/>
                      <a:chOff x="4265640" y="5916960"/>
                      <a:chExt cx="143640" cy="15660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4265640" y="591696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4326120" y="598212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324760" y="4191120"/>
                    <a:ext cx="143640" cy="1882440"/>
                    <a:chOff x="5324760" y="4191120"/>
                    <a:chExt cx="143640" cy="188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5324760" y="41911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324760" y="43477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5324760" y="45046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5324760" y="466164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5324760" y="481860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324760" y="497556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4760" y="51325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24760" y="52894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324760" y="54460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5324760" y="560304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5324760" y="576000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5324760" y="591696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5" name=""/>
              <p:cNvSpPr/>
              <p:nvPr/>
            </p:nvSpPr>
            <p:spPr>
              <a:xfrm>
                <a:off x="5103720" y="4800600"/>
                <a:ext cx="611280" cy="1046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875120" y="4267080"/>
                <a:ext cx="1800" cy="14637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89480" y="400680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5103720" y="5410080"/>
              <a:ext cx="1800" cy="262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5000" y="5257800"/>
              <a:ext cx="1440" cy="262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1680" y="1676520"/>
            <a:ext cx="178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31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finite) Current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4114800"/>
            <a:ext cx="16761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en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F675-2B1F-4855-8063-C20F49C49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Problem: Toru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1143000"/>
            <a:ext cx="50292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rus (a solenoid of radi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rns/meter whose ends are bent around to make a donut of radi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arries a uniform 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 on what was the central axis of the sole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633840" cy="3760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11400" y="3301920"/>
            <a:ext cx="973080" cy="563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98880" y="3878280"/>
            <a:ext cx="368280" cy="185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5080" y="295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59200" y="3238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6D04-B571-481A-BFA1-EDA1D8FE8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: Toru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32400" y="5181480"/>
            <a:ext cx="3918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mperian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Constant &amp;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enet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1447920"/>
            <a:ext cx="38862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8195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38680" y="2381400"/>
            <a:ext cx="1752480" cy="196200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952800" y="2647440"/>
            <a:ext cx="157320" cy="217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1880" y="2362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105520" y="26100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952880" y="4343400"/>
            <a:ext cx="4572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828800"/>
            <a:ext cx="213372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enoid (slinky) curved around &amp; joined end to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8560" y="3238200"/>
            <a:ext cx="2952360" cy="1609560"/>
            <a:chOff x="3238560" y="3238200"/>
            <a:chExt cx="2952360" cy="1609560"/>
          </a:xfrm>
        </p:grpSpPr>
        <p:grpSp>
          <p:nvGrpSpPr>
            <p:cNvPr id="232" name=""/>
            <p:cNvGrpSpPr/>
            <p:nvPr/>
          </p:nvGrpSpPr>
          <p:grpSpPr>
            <a:xfrm>
              <a:off x="3238560" y="3238200"/>
              <a:ext cx="1590480" cy="1609560"/>
              <a:chOff x="3238560" y="3238200"/>
              <a:chExt cx="1590480" cy="16095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3238560" y="3238200"/>
                <a:ext cx="209520" cy="228600"/>
                <a:chOff x="3238560" y="3238200"/>
                <a:chExt cx="209520" cy="228600"/>
              </a:xfrm>
            </p:grpSpPr>
            <p:sp>
              <p:nvSpPr>
                <p:cNvPr id="234" name=""/>
                <p:cNvSpPr/>
                <p:nvPr/>
              </p:nvSpPr>
              <p:spPr>
                <a:xfrm rot="10800000">
                  <a:off x="3238560" y="32382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0800000">
                  <a:off x="3322080" y="333396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610160" y="4619160"/>
                <a:ext cx="209520" cy="228600"/>
                <a:chOff x="4610160" y="4619160"/>
                <a:chExt cx="209520" cy="228600"/>
              </a:xfrm>
            </p:grpSpPr>
            <p:sp>
              <p:nvSpPr>
                <p:cNvPr id="237" name=""/>
                <p:cNvSpPr/>
                <p:nvPr/>
              </p:nvSpPr>
              <p:spPr>
                <a:xfrm rot="10800000">
                  <a:off x="4610160" y="46191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0800000">
                  <a:off x="4693680" y="471492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076640" y="4514400"/>
                <a:ext cx="209520" cy="228600"/>
                <a:chOff x="4076640" y="4514400"/>
                <a:chExt cx="209520" cy="228600"/>
              </a:xfrm>
            </p:grpSpPr>
            <p:sp>
              <p:nvSpPr>
                <p:cNvPr id="240" name=""/>
                <p:cNvSpPr/>
                <p:nvPr/>
              </p:nvSpPr>
              <p:spPr>
                <a:xfrm rot="10800000">
                  <a:off x="4076640" y="45144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0800000">
                  <a:off x="4160160" y="461016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57600" y="4228920"/>
                <a:ext cx="209520" cy="228600"/>
                <a:chOff x="3657600" y="4228920"/>
                <a:chExt cx="209520" cy="228600"/>
              </a:xfrm>
            </p:grpSpPr>
            <p:sp>
              <p:nvSpPr>
                <p:cNvPr id="243" name=""/>
                <p:cNvSpPr/>
                <p:nvPr/>
              </p:nvSpPr>
              <p:spPr>
                <a:xfrm rot="10800000">
                  <a:off x="3657600" y="422892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0800000">
                  <a:off x="3741120" y="43246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352680" y="3809520"/>
                <a:ext cx="209520" cy="228600"/>
                <a:chOff x="3352680" y="3809520"/>
                <a:chExt cx="209520" cy="228600"/>
              </a:xfrm>
            </p:grpSpPr>
            <p:sp>
              <p:nvSpPr>
                <p:cNvPr id="246" name=""/>
                <p:cNvSpPr/>
                <p:nvPr/>
              </p:nvSpPr>
              <p:spPr>
                <a:xfrm rot="10800000">
                  <a:off x="3352680" y="380952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0800000">
                  <a:off x="3436200" y="39052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rot="10800000">
                <a:off x="4619520" y="37810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0800000">
                <a:off x="4419720" y="373356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4238640" y="36190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4123800" y="3438000"/>
                <a:ext cx="20988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0800000">
                <a:off x="4095720" y="323820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00440" y="3238200"/>
              <a:ext cx="1590480" cy="1609560"/>
              <a:chOff x="4600440" y="3238200"/>
              <a:chExt cx="1590480" cy="16095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5981400" y="3238200"/>
                <a:ext cx="209520" cy="228600"/>
                <a:chOff x="5981400" y="3238200"/>
                <a:chExt cx="209520" cy="22860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rot="10800000">
                  <a:off x="5981400" y="32382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10800000">
                  <a:off x="6069240" y="333396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09800" y="4619160"/>
                <a:ext cx="209520" cy="228600"/>
                <a:chOff x="4609800" y="4619160"/>
                <a:chExt cx="209520" cy="2286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rot="10800000">
                  <a:off x="4609800" y="46191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10800000">
                  <a:off x="4697640" y="471492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143320" y="4514400"/>
                <a:ext cx="209520" cy="228600"/>
                <a:chOff x="5143320" y="4514400"/>
                <a:chExt cx="209520" cy="2286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rot="10800000">
                  <a:off x="5143320" y="45144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10800000">
                  <a:off x="5231160" y="461016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562360" y="4228920"/>
                <a:ext cx="209520" cy="228600"/>
                <a:chOff x="5562360" y="4228920"/>
                <a:chExt cx="209520" cy="22860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rot="10800000">
                  <a:off x="5562360" y="422892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10800000">
                  <a:off x="5650200" y="43246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867280" y="3809520"/>
                <a:ext cx="209520" cy="228600"/>
                <a:chOff x="5867280" y="3809520"/>
                <a:chExt cx="209520" cy="228600"/>
              </a:xfrm>
            </p:grpSpPr>
            <p:sp>
              <p:nvSpPr>
                <p:cNvPr id="267" name=""/>
                <p:cNvSpPr/>
                <p:nvPr/>
              </p:nvSpPr>
              <p:spPr>
                <a:xfrm flipH="1" rot="10800000">
                  <a:off x="5867280" y="380952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rot="10800000">
                  <a:off x="5955120" y="39052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 flipH="1" rot="10800000">
                <a:off x="4600440" y="37810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10800000">
                <a:off x="4800240" y="373356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10800000">
                <a:off x="4981320" y="36190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10800000">
                <a:off x="5095440" y="3438000"/>
                <a:ext cx="20988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rot="10800000">
                <a:off x="5124240" y="323820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3238560" y="1857960"/>
            <a:ext cx="2952360" cy="1609560"/>
            <a:chOff x="3238560" y="1857960"/>
            <a:chExt cx="2952360" cy="1609560"/>
          </a:xfrm>
        </p:grpSpPr>
        <p:grpSp>
          <p:nvGrpSpPr>
            <p:cNvPr id="275" name=""/>
            <p:cNvGrpSpPr/>
            <p:nvPr/>
          </p:nvGrpSpPr>
          <p:grpSpPr>
            <a:xfrm>
              <a:off x="3238560" y="1857960"/>
              <a:ext cx="1590480" cy="1609560"/>
              <a:chOff x="3238560" y="1857960"/>
              <a:chExt cx="1590480" cy="1609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3238560" y="3238920"/>
                <a:ext cx="209520" cy="228600"/>
                <a:chOff x="3238560" y="3238920"/>
                <a:chExt cx="209520" cy="228600"/>
              </a:xfrm>
            </p:grpSpPr>
            <p:sp>
              <p:nvSpPr>
                <p:cNvPr id="277" name=""/>
                <p:cNvSpPr/>
                <p:nvPr/>
              </p:nvSpPr>
              <p:spPr>
                <a:xfrm flipV="1" rot="10800000">
                  <a:off x="3238560" y="32385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 rot="10800000">
                  <a:off x="3322080" y="333360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610160" y="1857960"/>
                <a:ext cx="209520" cy="228600"/>
                <a:chOff x="4610160" y="1857960"/>
                <a:chExt cx="209520" cy="228600"/>
              </a:xfrm>
            </p:grpSpPr>
            <p:sp>
              <p:nvSpPr>
                <p:cNvPr id="280" name=""/>
                <p:cNvSpPr/>
                <p:nvPr/>
              </p:nvSpPr>
              <p:spPr>
                <a:xfrm flipV="1" rot="10800000">
                  <a:off x="4610160" y="18576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 rot="10800000">
                  <a:off x="4693680" y="195264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076640" y="1962720"/>
                <a:ext cx="209520" cy="228600"/>
                <a:chOff x="4076640" y="1962720"/>
                <a:chExt cx="209520" cy="2286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 rot="10800000">
                  <a:off x="4076640" y="19623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 rot="10800000">
                  <a:off x="4160160" y="205740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657600" y="2248200"/>
                <a:ext cx="209520" cy="228600"/>
                <a:chOff x="3657600" y="2248200"/>
                <a:chExt cx="209520" cy="228600"/>
              </a:xfrm>
            </p:grpSpPr>
            <p:sp>
              <p:nvSpPr>
                <p:cNvPr id="286" name=""/>
                <p:cNvSpPr/>
                <p:nvPr/>
              </p:nvSpPr>
              <p:spPr>
                <a:xfrm flipV="1" rot="10800000">
                  <a:off x="3657600" y="224784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 rot="10800000">
                  <a:off x="3741120" y="23428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352680" y="2667600"/>
                <a:ext cx="209520" cy="228600"/>
                <a:chOff x="3352680" y="2667600"/>
                <a:chExt cx="209520" cy="228600"/>
              </a:xfrm>
            </p:grpSpPr>
            <p:sp>
              <p:nvSpPr>
                <p:cNvPr id="289" name=""/>
                <p:cNvSpPr/>
                <p:nvPr/>
              </p:nvSpPr>
              <p:spPr>
                <a:xfrm flipV="1" rot="10800000">
                  <a:off x="3352680" y="266724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 rot="10800000">
                  <a:off x="3436200" y="27622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 flipV="1" rot="10800000">
                <a:off x="4619520" y="26956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 rot="10800000">
                <a:off x="4419720" y="274320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 rot="10800000">
                <a:off x="4238640" y="28576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10800000">
                <a:off x="4123800" y="3038760"/>
                <a:ext cx="20988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 rot="10800000">
                <a:off x="4095720" y="323856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600440" y="1857960"/>
              <a:ext cx="1590480" cy="1609560"/>
              <a:chOff x="4600440" y="1857960"/>
              <a:chExt cx="1590480" cy="16095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981400" y="3238920"/>
                <a:ext cx="209520" cy="228600"/>
                <a:chOff x="5981400" y="3238920"/>
                <a:chExt cx="209520" cy="22860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10800000">
                  <a:off x="5981400" y="32385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0800000">
                  <a:off x="6069240" y="333360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609800" y="1857960"/>
                <a:ext cx="209520" cy="228600"/>
                <a:chOff x="4609800" y="1857960"/>
                <a:chExt cx="209520" cy="228600"/>
              </a:xfrm>
            </p:grpSpPr>
            <p:sp>
              <p:nvSpPr>
                <p:cNvPr id="301" name=""/>
                <p:cNvSpPr/>
                <p:nvPr/>
              </p:nvSpPr>
              <p:spPr>
                <a:xfrm flipH="1" flipV="1" rot="10800000">
                  <a:off x="4609800" y="185760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10800000">
                  <a:off x="4697640" y="195264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143320" y="1962720"/>
                <a:ext cx="209520" cy="228600"/>
                <a:chOff x="5143320" y="1962720"/>
                <a:chExt cx="209520" cy="22860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flipV="1" rot="10800000">
                  <a:off x="5143320" y="196236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10800000">
                  <a:off x="5231160" y="205740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562360" y="2248200"/>
                <a:ext cx="209520" cy="228600"/>
                <a:chOff x="5562360" y="2248200"/>
                <a:chExt cx="209520" cy="228600"/>
              </a:xfrm>
            </p:grpSpPr>
            <p:sp>
              <p:nvSpPr>
                <p:cNvPr id="307" name=""/>
                <p:cNvSpPr/>
                <p:nvPr/>
              </p:nvSpPr>
              <p:spPr>
                <a:xfrm flipH="1" flipV="1" rot="10800000">
                  <a:off x="5562360" y="224784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10800000">
                  <a:off x="5650200" y="23428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867280" y="2667600"/>
                <a:ext cx="209520" cy="228600"/>
                <a:chOff x="5867280" y="2667600"/>
                <a:chExt cx="209520" cy="228600"/>
              </a:xfrm>
            </p:grpSpPr>
            <p:sp>
              <p:nvSpPr>
                <p:cNvPr id="310" name=""/>
                <p:cNvSpPr/>
                <p:nvPr/>
              </p:nvSpPr>
              <p:spPr>
                <a:xfrm flipH="1" flipV="1" rot="10800000">
                  <a:off x="5867280" y="2667240"/>
                  <a:ext cx="209520" cy="2286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10800000">
                  <a:off x="5955120" y="2762280"/>
                  <a:ext cx="37800" cy="37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 flipH="1" flipV="1" rot="10800000">
                <a:off x="4600440" y="26956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 rot="10800000">
                <a:off x="4800240" y="274320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 rot="10800000">
                <a:off x="4981320" y="285768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 rot="10800000">
                <a:off x="5095440" y="3038760"/>
                <a:ext cx="20988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 rot="10800000">
                <a:off x="5124240" y="3238560"/>
                <a:ext cx="209520" cy="22860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724280" y="3352680"/>
            <a:ext cx="76212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75320" y="3759120"/>
            <a:ext cx="368280" cy="185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3840" y="295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72440" y="3289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A6CB-200C-4070-98FD-34EB1E715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is Time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araday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(Final) Maxwell’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ut we still have to go back and add another term to Ampere’s Law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pinning of Much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8C0C-1C3F-49DF-8470-59685D883A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alling Magnet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708B-C436-406D-91A2-C0D9881084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Faraday's Law</cp:keywords>
  <dc:language>en-US</dc:language>
  <cp:lastModifiedBy>Sapient</cp:lastModifiedBy>
  <dcterms:modified xsi:type="dcterms:W3CDTF">2005-03-31T05:06:45Z</dcterms:modified>
  <cp:revision>2017</cp:revision>
  <dc:subject>Faraday's Law</dc:subject>
  <dc:title>Presentation 20</dc:title>
</cp:coreProperties>
</file>