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8.jpeg" ContentType="image/jpeg"/>
  <Override PartName="/ppt/media/image23.wmf" ContentType="image/x-wmf"/>
  <Override PartName="/ppt/media/image22.wmf" ContentType="image/x-wmf"/>
  <Override PartName="/ppt/media/image21.jpeg" ContentType="image/jpeg"/>
  <Override PartName="/ppt/media/image2.wmf" ContentType="image/x-wmf"/>
  <Override PartName="/ppt/media/image32.wmf" ContentType="image/x-wmf"/>
  <Override PartName="/ppt/media/image3.png" ContentType="image/png"/>
  <Override PartName="/ppt/media/image11.wmf" ContentType="image/x-wmf"/>
  <Override PartName="/ppt/media/image17.jpeg" ContentType="image/jpeg"/>
  <Override PartName="/ppt/media/image7.png" ContentType="image/png"/>
  <Override PartName="/ppt/media/image15.wmf" ContentType="image/x-wmf"/>
  <Override PartName="/ppt/media/image12.png" ContentType="image/png"/>
  <Override PartName="/ppt/media/image13.png" ContentType="image/png"/>
  <Override PartName="/ppt/media/image5.png" ContentType="image/png"/>
  <Override PartName="/ppt/media/image8.jpeg" ContentType="image/jpeg"/>
  <Override PartName="/ppt/media/image33.wmf" ContentType="image/x-wmf"/>
  <Override PartName="/ppt/media/image29.jpeg" ContentType="image/jpeg"/>
  <Override PartName="/ppt/media/image9.png" ContentType="image/png"/>
  <Override PartName="/ppt/media/image30.jpeg" ContentType="image/jpeg"/>
  <Override PartName="/ppt/media/image34.wmf" ContentType="image/x-wmf"/>
  <Override PartName="/ppt/media/image6.png" ContentType="image/png"/>
  <Override PartName="/ppt/media/image14.wmf" ContentType="image/x-wmf"/>
  <Override PartName="/ppt/media/image35.jpeg" ContentType="image/jpeg"/>
  <Override PartName="/ppt/media/image10.png" ContentType="image/png"/>
  <Override PartName="/ppt/media/image27.jpeg" ContentType="image/jpeg"/>
  <Override PartName="/ppt/media/image4.jpeg" ContentType="image/jpeg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6.wmf" ContentType="image/x-wmf"/>
  <Override PartName="/ppt/media/image18.wmf" ContentType="image/x-wmf"/>
  <Override PartName="/ppt/media/image20.wmf" ContentType="image/x-wmf"/>
  <Override PartName="/ppt/media/image26.jpeg" ContentType="image/jpeg"/>
  <Override PartName="/ppt/media/image1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A1BA6-1633-4442-8F38-41CC238E6A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2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3915360"/>
            <a:ext cx="8302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F7FF0-6C0B-47BC-8706-654341A1C3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39153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7640" y="39153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1FA6E-21F7-408A-89C7-51DC01B15D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40440" y="14475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8080" y="14475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39153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40440" y="39153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8080" y="39153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8E4A1-4F3A-40DB-AD58-97F9DBC22E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447560"/>
            <a:ext cx="8302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5DF86-FFA1-4FB8-ADB7-75F1F23126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2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A801C-2E98-402C-8B71-6FABCEECB8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F1BA2-20E7-4667-A21F-A7537C297B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6533B-ED63-4F76-B9FE-B19347DE4B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8280" y="304560"/>
            <a:ext cx="889344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9A9D0-85B0-4BB5-BA41-7003E725F6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39153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35D47-27B8-49B6-BBE0-F1FE2946F5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7640" y="39153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2E50D-DADD-45CF-A204-DD0CA4785D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3915360"/>
            <a:ext cx="8302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9BF85-463B-4F3A-9691-454CFB4546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447560"/>
            <a:ext cx="8302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901"/>
              </a:spcBef>
              <a:buClr>
                <a:srgbClr val="6699ff"/>
              </a:buClr>
              <a:buFont typeface="Arial"/>
              <a:buChar char="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26520" y="6477120"/>
            <a:ext cx="630000" cy="3045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60CE-D5B1-42B5-AAB6-18AEC0F8A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15200" y="647712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2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demoroom.physics.ncsu.edu/html/demos/163.html" TargetMode="External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demoroom.physics.ncsu.edu/multimedia/video/5K20.22.1.MOV" TargetMode="External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eb.mit.edu/8.02t/www/802TEAL3D/visualizations/faraday/superconductor/superconductor.htm" TargetMode="External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wmf"/><Relationship Id="rId8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.wmf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eb.mit.edu/8.02t/www/802TEAL3D/visualizations/faraday/FallingMagnetResistive/FallingMagnetResistive.htm" TargetMode="External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ass 21:  Outlin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26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ur 1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t. 9:  Faraday’s La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ur 2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raday’s La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form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gnetic Mater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AF727-B735-4388-9BFF-5B069B2E8D4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Five PRS Questions: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Predictions for Experiment 9 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Faraday’s Law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484F1-71E9-4928-9E1D-8EEB322F1BC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213012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Experiment 9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000066"/>
                </a:solidFill>
                <a:latin typeface="Arial"/>
              </a:rPr>
              <a:t>Faraday’s Law of Induction</a:t>
            </a:r>
            <a:endParaRPr b="1" lang="en-US" sz="4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DFD09-90E8-4C18-B06E-58163C5185D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64008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424600" y="2814480"/>
            <a:ext cx="191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98720" y="464832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2960" y="5715000"/>
            <a:ext cx="1665000" cy="103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er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905120" y="5857560"/>
            <a:ext cx="4010040" cy="390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05D46-A4A2-44C7-8356-9A9CC09A3A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Four PRS Questions: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Force on A Loop Below Magnet Moving Upward;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Moving Rail;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Moving Rectangle near Wire;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Generator.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3F538-6FB1-4003-9B22-1C03FCDBB07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Brakes 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D1F0F-BBF8-4E2A-8855-A8435064727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Magnet Falling Through a Ring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52280" y="54100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新細明體"/>
              </a:rPr>
              <a:t>What happened to kinetic energy of magn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5715000" cy="428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5A913-0D1E-47C7-BF3B-3EEEA96DE7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Eddy Current Braking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28600" y="54100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What happened to kinetic energy of pendulu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220968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99ff"/>
                </a:solidFill>
                <a:uFillTx/>
                <a:latin typeface="Arial"/>
                <a:hlinkClick r:id="rId1"/>
              </a:rPr>
              <a:t>http://demoroom.physics.ncsu.edu/html/demos/163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C7604-E8C5-482B-A157-5F0E5914A9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Eddy Current Braking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52280" y="52578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What happened to kinetic energy of dis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21337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99ff"/>
                </a:solidFill>
                <a:uFillTx/>
                <a:latin typeface="Arial"/>
                <a:hlinkClick r:id="rId1"/>
              </a:rPr>
              <a:t>http://demoroom.physics.ncsu.edu/multimedia/video/5K20.22.1.M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CD914-AD9E-41C6-A6CD-F16E53195D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emonstration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Eddy Current Braking 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EA460-317C-4611-AD09-3E4C3B95EA8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152280" y="2286000"/>
            <a:ext cx="3580920" cy="3733920"/>
            <a:chOff x="152280" y="2286000"/>
            <a:chExt cx="3580920" cy="3733920"/>
          </a:xfrm>
        </p:grpSpPr>
        <p:sp>
          <p:nvSpPr>
            <p:cNvPr id="105" name=""/>
            <p:cNvSpPr/>
            <p:nvPr/>
          </p:nvSpPr>
          <p:spPr>
            <a:xfrm>
              <a:off x="152280" y="2666880"/>
              <a:ext cx="3352680" cy="335304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33520" y="2514600"/>
              <a:ext cx="3199680" cy="320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07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26240" y="2286000"/>
              <a:ext cx="54648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Eddy Current Braking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gnet induces currents in the metal that dissipate the energy through Joule heat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526040" y="4707000"/>
            <a:ext cx="653040" cy="776520"/>
            <a:chOff x="1526040" y="4707000"/>
            <a:chExt cx="653040" cy="776520"/>
          </a:xfrm>
        </p:grpSpPr>
        <p:sp>
          <p:nvSpPr>
            <p:cNvPr id="111" name=""/>
            <p:cNvSpPr/>
            <p:nvPr/>
          </p:nvSpPr>
          <p:spPr>
            <a:xfrm>
              <a:off x="1557360" y="4724280"/>
              <a:ext cx="609480" cy="6858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26040" y="4707000"/>
              <a:ext cx="65304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828800" y="2971800"/>
            <a:ext cx="1447560" cy="2438280"/>
            <a:chOff x="1828800" y="2971800"/>
            <a:chExt cx="1447560" cy="2438280"/>
          </a:xfrm>
        </p:grpSpPr>
        <p:grpSp>
          <p:nvGrpSpPr>
            <p:cNvPr id="114" name=""/>
            <p:cNvGrpSpPr/>
            <p:nvPr/>
          </p:nvGrpSpPr>
          <p:grpSpPr>
            <a:xfrm>
              <a:off x="1828800" y="2971800"/>
              <a:ext cx="1447560" cy="2437560"/>
              <a:chOff x="1828800" y="2971800"/>
              <a:chExt cx="1447560" cy="2437560"/>
            </a:xfrm>
          </p:grpSpPr>
          <p:sp>
            <p:nvSpPr>
              <p:cNvPr id="115" name=""/>
              <p:cNvSpPr/>
              <p:nvPr/>
            </p:nvSpPr>
            <p:spPr>
              <a:xfrm>
                <a:off x="1828800" y="4191120"/>
                <a:ext cx="1447560" cy="0"/>
              </a:xfrm>
              <a:prstGeom prst="line">
                <a:avLst/>
              </a:prstGeom>
              <a:ln cap="rnd" w="88920">
                <a:solidFill>
                  <a:srgbClr val="0000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1905120" y="2971440"/>
                <a:ext cx="1370880" cy="243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88920">
                <a:solidFill>
                  <a:srgbClr val="0000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1828800" y="4191120"/>
              <a:ext cx="761760" cy="1218960"/>
            </a:xfrm>
            <a:prstGeom prst="line">
              <a:avLst/>
            </a:prstGeom>
            <a:ln cap="rnd" w="889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114800" y="2503440"/>
            <a:ext cx="4800600" cy="28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is induced counter-clockwise (out from cent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 is opposing motion (creates slowing torqu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AC741-0703-41C8-8DF2-7F87A8B9FC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Last Time:</a:t>
            </a:r>
            <a:br>
              <a:rPr sz="4800"/>
            </a:b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Faraday’s Law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E1C2E-3E52-4B42-B17F-8B3227331A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152280" y="2286000"/>
            <a:ext cx="3580920" cy="3733920"/>
            <a:chOff x="152280" y="2286000"/>
            <a:chExt cx="3580920" cy="3733920"/>
          </a:xfrm>
        </p:grpSpPr>
        <p:sp>
          <p:nvSpPr>
            <p:cNvPr id="120" name=""/>
            <p:cNvSpPr/>
            <p:nvPr/>
          </p:nvSpPr>
          <p:spPr>
            <a:xfrm>
              <a:off x="152280" y="2666880"/>
              <a:ext cx="3352680" cy="335304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3520" y="2514600"/>
              <a:ext cx="3199680" cy="320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07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26240" y="2286000"/>
              <a:ext cx="54648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Eddy Current Braking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gnet induces currents in the metal that dissipate the energy through Joule heat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526040" y="4707000"/>
            <a:ext cx="653040" cy="776520"/>
            <a:chOff x="1526040" y="4707000"/>
            <a:chExt cx="653040" cy="776520"/>
          </a:xfrm>
        </p:grpSpPr>
        <p:sp>
          <p:nvSpPr>
            <p:cNvPr id="126" name=""/>
            <p:cNvSpPr/>
            <p:nvPr/>
          </p:nvSpPr>
          <p:spPr>
            <a:xfrm>
              <a:off x="1557360" y="4724280"/>
              <a:ext cx="609480" cy="6858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26040" y="4707000"/>
              <a:ext cx="65304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09480" y="4191120"/>
            <a:ext cx="2438280" cy="1447560"/>
            <a:chOff x="609480" y="4191120"/>
            <a:chExt cx="2438280" cy="1447560"/>
          </a:xfrm>
        </p:grpSpPr>
        <p:grpSp>
          <p:nvGrpSpPr>
            <p:cNvPr id="129" name=""/>
            <p:cNvGrpSpPr/>
            <p:nvPr/>
          </p:nvGrpSpPr>
          <p:grpSpPr>
            <a:xfrm>
              <a:off x="610200" y="4191120"/>
              <a:ext cx="2437560" cy="1447560"/>
              <a:chOff x="610200" y="4191120"/>
              <a:chExt cx="2437560" cy="1447560"/>
            </a:xfrm>
          </p:grpSpPr>
          <p:sp>
            <p:nvSpPr>
              <p:cNvPr id="130" name=""/>
              <p:cNvSpPr/>
              <p:nvPr/>
            </p:nvSpPr>
            <p:spPr>
              <a:xfrm>
                <a:off x="1828440" y="4191120"/>
                <a:ext cx="0" cy="1447560"/>
              </a:xfrm>
              <a:prstGeom prst="line">
                <a:avLst/>
              </a:prstGeom>
              <a:ln cap="rnd" w="88920">
                <a:solidFill>
                  <a:srgbClr val="0000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 rot="5400000">
                <a:off x="1143360" y="3733920"/>
                <a:ext cx="1370880" cy="243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88920">
                <a:solidFill>
                  <a:srgbClr val="0000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 flipH="1">
              <a:off x="609480" y="4191120"/>
              <a:ext cx="1218960" cy="761760"/>
            </a:xfrm>
            <a:prstGeom prst="line">
              <a:avLst/>
            </a:prstGeom>
            <a:ln cap="rnd" w="889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4114800" y="2503440"/>
            <a:ext cx="4800600" cy="33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is induced clockwise (out from cent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 is opposing motion (creates slowing torqu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F proportional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394160" y="5208480"/>
          <a:ext cx="2408400" cy="14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4160" y="5208480"/>
                    <a:ext cx="2408400" cy="14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32FAD-31EB-42D3-8D93-6F980221B76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emonstration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Levitating Magnet 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Superconductor &amp; Magne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362320" y="3048120"/>
            <a:ext cx="4343400" cy="32572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010280" y="41911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99ff"/>
                </a:solidFill>
                <a:uFillTx/>
                <a:latin typeface="Arial"/>
                <a:hlinkClick r:id="rId2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C2559-BAD8-4626-8626-9ADF164B2DD3}" type="slidenum">
              <a:t>21</a:t>
            </a:fld>
          </a:p>
        </p:txBody>
      </p:sp>
    </p:spTree>
  </p:cSld>
  <p:timing>
    <p:tnLst>
      <p:par>
        <p:cTn id="82" dur="indefinite" restart="never" nodeType="tmRoot">
          <p:childTnLst>
            <p:seq>
              <p:cTn id="83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7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RS Questions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Loop in Uniform Field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AB369-232E-4B02-86D7-C2B2106E2A5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utual Inductanc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D5F0B-2538-4A96-A464-1423F94F9D3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utual Inductanc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76040" y="1219320"/>
            <a:ext cx="2567160" cy="3047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3962520" y="2874960"/>
          <a:ext cx="3429000" cy="2230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2520" y="2874960"/>
                    <a:ext cx="3429000" cy="22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438280" y="5105520"/>
          <a:ext cx="3962520" cy="1552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38280" y="5105520"/>
                    <a:ext cx="3962520" cy="1552320"/>
                  </a:xfrm>
                  <a:prstGeom prst="rect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228600" y="4343400"/>
          <a:ext cx="2590920" cy="598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8600" y="4343400"/>
                    <a:ext cx="259092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2743200" y="1066680"/>
            <a:ext cx="60199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urrent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coil 2, induces some magnetic flu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coil 1.  We define the flux in terms of a “mutual inductance”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5ECD5-24F5-412B-9351-A0D6BBA5DEC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emonstration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Remote Speaker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54D13-1E95-4309-A88F-B7F6C98D194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Transformer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4044960" cy="41148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36040" y="1023840"/>
            <a:ext cx="33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tep-up transfor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800600" y="2438280"/>
          <a:ext cx="2438280" cy="1127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2438280"/>
                    <a:ext cx="2438280" cy="11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4724280" y="1066680"/>
          <a:ext cx="2590920" cy="1163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4280" y="1066680"/>
                    <a:ext cx="2590920" cy="11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4724280" y="3809880"/>
          <a:ext cx="3353040" cy="1712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24280" y="3809880"/>
                    <a:ext cx="3353040" cy="171288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4495680" y="5562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84120" y="5638680"/>
            <a:ext cx="50774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&gt;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: step-up transfor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&lt;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: step-down transfor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54365-FA46-4ADB-8FDE-77672E1440A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emonstrations: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One Turn Secondary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Nail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 Many Turn Secondary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Jacob’s Ladder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072BE-3DCD-4928-8AEA-DC5FC707295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  <a:ea typeface="新細明體"/>
              </a:rPr>
              <a:t>Transmission of Electric Power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28600" y="1635120"/>
            <a:ext cx="8686800" cy="31654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04920" y="525780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Power loss can be greatly reduced if transmitted at high vol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AB877-B237-4D26-8E71-582F3F26AAF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Example: Transmission line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400" y="1047600"/>
            <a:ext cx="8991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n average of 120 kW of electric power is sent from a power plant. The transmission lines have a total resistance of 0.4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. Calculate the power loss if the power is sent at (a) 240 V, and (b) 24,000 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94360" y="33940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23880" y="3124080"/>
          <a:ext cx="3695760" cy="10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124080"/>
                    <a:ext cx="3695760" cy="10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1371600" y="6080040"/>
          <a:ext cx="4800600" cy="54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6080040"/>
                    <a:ext cx="480060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610560" y="51814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06800" y="3681360"/>
            <a:ext cx="182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83%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los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91680" y="5398920"/>
            <a:ext cx="231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0.0083%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447920" y="4148280"/>
          <a:ext cx="5029200" cy="577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4148280"/>
                    <a:ext cx="502920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1371600" y="5029200"/>
          <a:ext cx="3759120" cy="954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5029200"/>
                    <a:ext cx="375912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B0796-2728-4077-BC76-0E7BA7917BE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Faraday’s Law of Induction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870200" y="1447920"/>
          <a:ext cx="5664240" cy="23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0200" y="1447920"/>
                    <a:ext cx="5664240" cy="2344680"/>
                  </a:xfrm>
                  <a:prstGeom prst="rect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457200" y="39625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Changing magnetic flux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induc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 an EM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5257800"/>
            <a:ext cx="704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nz:  Induction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oppos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ha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32E10-52F4-4453-A57D-180C7805A8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Magnetic Material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48ADF-F172-4471-8CFA-967AE06ACDC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Recall Polar Dielectric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14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26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3810240" cy="21636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247920" y="25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26" descr=""/>
          <p:cNvPicPr/>
          <p:nvPr/>
        </p:nvPicPr>
        <p:blipFill>
          <a:blip r:embed="rId2"/>
          <a:stretch/>
        </p:blipFill>
        <p:spPr>
          <a:xfrm>
            <a:off x="4800600" y="1376280"/>
            <a:ext cx="3886200" cy="25034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380880" y="3809880"/>
            <a:ext cx="4114800" cy="27799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648320" y="472428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lectric polarizatio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rea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ctric Fiel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7548A-A25B-447B-8C7E-5B0200796AE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76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Para/Ferromagnetism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3851280" cy="27651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876920" y="1219320"/>
            <a:ext cx="3849480" cy="35082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52280" y="4941720"/>
            <a:ext cx="883944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Applied external field B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  <a:ea typeface="新細明體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 tends to alig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the atomic magnetic mo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C2E10-B143-4623-8614-D550763F48E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76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Para/Ferromagnetism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3849840" cy="35082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52280" y="476712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The aligned moments tend to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ncre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the B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762120" y="5446800"/>
          <a:ext cx="3200400" cy="133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5446800"/>
                    <a:ext cx="3200400" cy="133488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97" name=""/>
          <p:cNvGrpSpPr/>
          <p:nvPr/>
        </p:nvGrpSpPr>
        <p:grpSpPr>
          <a:xfrm>
            <a:off x="4879440" y="5440320"/>
            <a:ext cx="3569400" cy="1319400"/>
            <a:chOff x="4879440" y="5440320"/>
            <a:chExt cx="3569400" cy="1319400"/>
          </a:xfrm>
        </p:grpSpPr>
        <p:graphicFrame>
          <p:nvGraphicFramePr>
            <p:cNvPr id="198" name=""/>
            <p:cNvGraphicFramePr/>
            <p:nvPr/>
          </p:nvGraphicFramePr>
          <p:xfrm>
            <a:off x="7020000" y="5440320"/>
            <a:ext cx="1428840" cy="1319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9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020000" y="5440320"/>
                      <a:ext cx="1428840" cy="131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0" name=""/>
            <p:cNvSpPr/>
            <p:nvPr/>
          </p:nvSpPr>
          <p:spPr>
            <a:xfrm>
              <a:off x="4879440" y="5780160"/>
              <a:ext cx="2139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ompare to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1" name="26" descr=""/>
          <p:cNvPicPr/>
          <p:nvPr/>
        </p:nvPicPr>
        <p:blipFill>
          <a:blip r:embed="rId6"/>
          <a:stretch/>
        </p:blipFill>
        <p:spPr>
          <a:xfrm>
            <a:off x="4800600" y="1376280"/>
            <a:ext cx="3886200" cy="250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A04D7-BA13-42E5-95C1-6CC56C0E9EA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76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Para/Ferromagnetism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3851280" cy="27655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876920" y="1066680"/>
            <a:ext cx="3849480" cy="3508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52280" y="4572000"/>
            <a:ext cx="883944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aramagnet:  Turn off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新細明體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, everything dis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Ferromagnet: Turn off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新細明體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, remains (partially) ord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" y="591192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why some items you can pick up with a magnet even though they don’t pick up other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AC939-5C0C-475D-B0ED-A889C0DA508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76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Magnetization Vector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3851280" cy="27651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rcRect l="0" t="0" r="0" b="20952"/>
          <a:stretch/>
        </p:blipFill>
        <p:spPr>
          <a:xfrm>
            <a:off x="4876920" y="1219320"/>
            <a:ext cx="3849480" cy="27730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04920" y="472428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Useful to define “Magnetization” of materi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57200" y="5257800"/>
          <a:ext cx="3733920" cy="146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257800"/>
                    <a:ext cx="3733920" cy="14637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1830240" y="396252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=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325920" y="396252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&gt;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648320" y="5410080"/>
          <a:ext cx="3814560" cy="107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5410080"/>
                    <a:ext cx="381456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74F9B-FAB0-4319-84D9-43239E697BF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691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Hysteresis in Ferromagnet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121932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新細明體"/>
              </a:rPr>
              <a:t>The magnetizatio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新細明體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新細明體"/>
              </a:rPr>
              <a:t> of a ferromagnetic material depends on th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新細明體"/>
              </a:rPr>
              <a:t>histor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新細明體"/>
              </a:rPr>
              <a:t> of the subs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286000" y="2286000"/>
            <a:ext cx="4233960" cy="36939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230480" y="6095880"/>
            <a:ext cx="71575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新細明體"/>
              </a:rPr>
              <a:t>Magnetization remains even with 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  <a:ea typeface="新細明體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新細明體"/>
              </a:rPr>
              <a:t> off !!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259BC-71FD-4319-8749-915B897ACE2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What can change? 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3580920"/>
            <a:ext cx="86104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Quantities which can vary with tim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Magnitude of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Area A enclosed by the lo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Angle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 between B and loop norm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461960" y="1220760"/>
          <a:ext cx="614700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1960" y="1220760"/>
                    <a:ext cx="6147000" cy="208584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850BF-861D-4F29-9FFF-4A03EFA7BB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Magnet Falling Through a Ring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2280" y="54100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Falling magnet slows as it approaches a copper ring which has been immersed in liquid nitro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5715000" cy="4286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391520" y="2666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99ff"/>
                </a:solidFill>
                <a:uFillTx/>
                <a:latin typeface="Arial"/>
                <a:hlinkClick r:id="rId2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10703-3557-4D78-AB91-420B0C09CA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819520" y="14479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Example:  Magnitude of B Magnet Falling Through a Ring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52280" y="5562360"/>
            <a:ext cx="876312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Falling magnet approaches a copper 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rcRect l="36728" t="0" r="25789" b="0"/>
          <a:stretch/>
        </p:blipFill>
        <p:spPr>
          <a:xfrm>
            <a:off x="762120" y="1447920"/>
            <a:ext cx="1600200" cy="3968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52280" y="614376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 Copper Ring approaches Mag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48518-FB2F-48B8-8BBB-34F09DC850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66"/>
                </a:solidFill>
                <a:latin typeface="Arial"/>
                <a:ea typeface="新細明體"/>
              </a:rPr>
              <a:t>Moving Towards Dipole</a:t>
            </a:r>
            <a:endParaRPr b="1" lang="en-US" sz="43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019920" cy="4002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52280" y="5410080"/>
            <a:ext cx="8763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As ring approaches, what happens to flux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614376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新細明體"/>
              </a:rPr>
              <a:t>It incre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48520" y="3276720"/>
            <a:ext cx="0" cy="167616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5880" y="3537000"/>
            <a:ext cx="131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ring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0B2B7-D706-4C8A-9974-120625762F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66"/>
                </a:solidFill>
                <a:latin typeface="Arial"/>
                <a:ea typeface="新細明體"/>
              </a:rPr>
              <a:t>Moving Over Dipole</a:t>
            </a:r>
            <a:endParaRPr b="1" lang="en-US" sz="4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4495680"/>
            <a:ext cx="8763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新細明體"/>
              </a:rPr>
              <a:t>Flux increases then decre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522936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新細明體"/>
              </a:rPr>
              <a:t>Note we have arbitrarily assigned dA 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038480" y="1407960"/>
            <a:ext cx="4953240" cy="2556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271400" y="144792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6320" y="1371600"/>
            <a:ext cx="3886200" cy="29084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514600" y="2133720"/>
            <a:ext cx="0" cy="83808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2225520"/>
            <a:ext cx="13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43FA7-8724-4BB4-A856-750B2D09EB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320" y="1371600"/>
            <a:ext cx="3630600" cy="2716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962520" y="1600200"/>
            <a:ext cx="4700520" cy="23716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66"/>
                </a:solidFill>
                <a:latin typeface="Arial"/>
                <a:ea typeface="新細明體"/>
              </a:rPr>
              <a:t>Moving Over Dipole</a:t>
            </a:r>
            <a:endParaRPr b="1" lang="en-US" sz="4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4572000"/>
            <a:ext cx="8763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urrent first goes in one direction, then 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5305320"/>
            <a:ext cx="8763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It ALWAYS opposes the changing flu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2133720"/>
            <a:ext cx="0" cy="83808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62320" y="2225520"/>
            <a:ext cx="13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16960" y="18288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86200" y="36259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76840" y="15145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C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196BC-79CE-455D-B7BC-D3859A8A3E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3T20:04:55Z</dcterms:created>
  <dc:creator>Eric Hudson</dc:creator>
  <dc:description/>
  <cp:keywords>Faraday's Law; transformer; mutual inductance</cp:keywords>
  <dc:language>en-US</dc:language>
  <cp:lastModifiedBy>Sapient</cp:lastModifiedBy>
  <dcterms:modified xsi:type="dcterms:W3CDTF">2005-03-31T05:10:10Z</dcterms:modified>
  <cp:revision>1986</cp:revision>
  <dc:subject>Faraday's Law</dc:subject>
  <dc:title>Presentation 21</dc:title>
</cp:coreProperties>
</file>