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6.wmf" ContentType="image/x-wmf"/>
  <Override PartName="/ppt/media/image25.jpeg" ContentType="image/jpeg"/>
  <Override PartName="/ppt/media/image32.png" ContentType="image/png"/>
  <Override PartName="/ppt/media/image23.png" ContentType="image/png"/>
  <Override PartName="/ppt/media/image20.jpeg" ContentType="image/jpeg"/>
  <Override PartName="/ppt/media/image7.wmf" ContentType="image/x-wmf"/>
  <Override PartName="/ppt/media/image12.wmf" ContentType="image/x-wmf"/>
  <Override PartName="/ppt/media/image29.jpeg" ContentType="image/jpeg"/>
  <Override PartName="/ppt/media/image10.jpeg" ContentType="image/jpeg"/>
  <Override PartName="/ppt/media/image13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7.jpeg" ContentType="image/jpeg"/>
  <Override PartName="/ppt/media/image11.wmf" ContentType="image/x-wmf"/>
  <Override PartName="/ppt/media/image8.wmf" ContentType="image/x-wmf"/>
  <Override PartName="/ppt/media/image34.jpeg" ContentType="image/jpeg"/>
  <Override PartName="/ppt/media/image6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media/image22.png" ContentType="image/png"/>
  <Override PartName="/ppt/media/image24.jpeg" ContentType="image/jpeg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2.jpeg" ContentType="image/jpeg"/>
  <Override PartName="/ppt/media/image18.wmf" ContentType="image/x-wmf"/>
  <Override PartName="/ppt/media/image19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E84C-7B43-42E6-8D7F-B567E0593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94C-C471-4B49-8B3F-5BA2236BB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D70A-C285-441B-B1F8-A3BB9A301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1067-558F-4435-87B9-86D211325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B2B8-D30D-4FF8-A7FD-6E5A9117D6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C07B-43FB-4134-93D1-173EA29D9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3537-5954-411E-A70F-F6EC85537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F582-4634-487D-8EDD-A9B533856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7270-0AD6-46DA-8820-7316CE001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0B45-0270-455C-974C-8B0B17190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F584-890D-45DB-AA63-815A5A858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D961-BB79-4EF9-82A4-C5CCA5583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242F-3608-4D67-99AA-76988243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eb.mit.edu/8.02t/www/802TEAL3D/visualizations/magnetostatics/MagneticForceRepel/MagneticForceRepel.htm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web.mit.edu/8.02t/www/802TEAL3D/visualizations/magnetostatics/CurrentElement3d/CurrentElement.htm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eb.mit.edu/8.02t/www/802TEAL3D/visualizations/magnetostatics/CurrentElement3d/CurrentElement.htm" TargetMode="External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17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poles &amp; Magnetic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t. 7:  Dipoles in B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EDBD-95B8-4EA1-987A-ED9A85997D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Dipole Moment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88928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429000" y="3213000"/>
          <a:ext cx="3581280" cy="14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213000"/>
                    <a:ext cx="3581280" cy="1479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971800" y="5041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alogous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210280" y="4851360"/>
          <a:ext cx="190476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0280" y="4851360"/>
                    <a:ext cx="19047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783160" y="6049800"/>
            <a:ext cx="44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ends to alig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29000" y="1600200"/>
                <a:ext cx="34513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IA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≡</m:t>
                    </m:r>
                    <m:r>
                      <m:t xml:space="preserve">I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518920" y="990720"/>
            <a:ext cx="53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agnetic Dipole Mo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7120" y="27432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ACD4-0BAE-440A-AD23-F0E43B7369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280" y="4251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im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other Way To Look At Tor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field connects to field of compass needle and “pulls” the dipole into alignment (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D95B-704B-48B3-A8DC-8DE38B16A7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teractive Java Apple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other Way To Look At Tor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of wire connects to field of compass needle and “pulls” the dipole into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074840" cy="3056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4724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4724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C405-13CE-48CB-B220-C3356610D8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lvanometer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446F-647D-43AF-B42A-351F4416902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Dipole Moment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109960" cy="510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590920" y="914400"/>
                <a:ext cx="571500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IA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≡</m:t>
                    </m:r>
                    <m:r>
                      <m:t xml:space="preserve">I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586728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0BD8-F057-4C3C-81FA-267968CBF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rque on Dipole in Uniform Field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F97B-3D67-4513-BF64-AB41344BFC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Dipoles don’t move???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" name="" descr="Image for CT 4795"/>
          <p:cNvPicPr/>
          <p:nvPr/>
        </p:nvPicPr>
        <p:blipFill>
          <a:blip r:embed="rId1"/>
          <a:stretch/>
        </p:blipFill>
        <p:spPr>
          <a:xfrm>
            <a:off x="228600" y="1219320"/>
            <a:ext cx="3886200" cy="289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67080" y="1219320"/>
            <a:ext cx="451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ipole rotates but doesn’t feel a ne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320" y="4419720"/>
            <a:ext cx="5867280" cy="1895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19920" y="4343400"/>
            <a:ext cx="312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ipoles CAN feel force du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’s 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2A88-6C97-4746-A99D-F9D18FE3A2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rce on Magnetic Dipol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73FA-045B-49DB-88E2-389420FF99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Arial"/>
                <a:ea typeface="新細明體"/>
              </a:rPr>
              <a:t>Something New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Dipoles in Non-Uniform Fields: For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5F6E-CF47-4740-AAC7-5AB07647D0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Force on Magnetic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19520" y="1828800"/>
          <a:ext cx="335268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828800"/>
                    <a:ext cx="33526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52280" y="5943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poles only feel force i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on-unifo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40" y="1170000"/>
            <a:ext cx="83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force, we need to know ener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3657600"/>
          <a:ext cx="609624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657600"/>
                    <a:ext cx="60962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3440" y="297180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tells how the energy changes with pos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57400" y="4648320"/>
          <a:ext cx="486252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648320"/>
                    <a:ext cx="48625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082D-5E67-4C12-B45B-D80D6E44C2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iot-Savar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DCE1-DF84-403B-AD93-08A6B489D8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0" r="0" b="11221"/>
          <a:stretch/>
        </p:blipFill>
        <p:spPr>
          <a:xfrm>
            <a:off x="380880" y="106668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Force on Magnetic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34960" y="4595760"/>
          <a:ext cx="5924520" cy="16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4960" y="4595760"/>
                    <a:ext cx="59245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791320" y="1676520"/>
          <a:ext cx="3200400" cy="236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1676520"/>
                    <a:ext cx="320040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6D8D-B207-4772-8F26-F5A0089269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0" b="11221"/>
          <a:stretch/>
        </p:blipFill>
        <p:spPr>
          <a:xfrm>
            <a:off x="1371600" y="1143000"/>
            <a:ext cx="6381720" cy="424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Force on Magnetic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486400"/>
            <a:ext cx="8839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ternate Th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akes the field pictur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FC75-CE4F-4305-A1B5-3A777B5B10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084400" cy="2438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0" t="0" r="0" b="11221"/>
          <a:stretch/>
        </p:blipFill>
        <p:spPr>
          <a:xfrm>
            <a:off x="533520" y="121932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Force on Magnetic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5257800"/>
            <a:ext cx="883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r magnet below dipole, with N pole on top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ligned with the dipole pictured, they attract!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0040" y="339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72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219440" y="1600200"/>
            <a:ext cx="304920" cy="990720"/>
          </a:xfrm>
          <a:prstGeom prst="rect">
            <a:avLst/>
          </a:prstGeom>
          <a:gradFill rotWithShape="0">
            <a:gsLst>
              <a:gs pos="0">
                <a:srgbClr val="fedad1"/>
              </a:gs>
              <a:gs pos="100000">
                <a:srgbClr val="ff33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94640" y="1066320"/>
            <a:ext cx="0" cy="762120"/>
          </a:xfrm>
          <a:prstGeom prst="line">
            <a:avLst/>
          </a:prstGeom>
          <a:ln w="507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5080" y="153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9400" y="2181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89960" y="91296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C1DB-58BF-4761-A9FD-953298175B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7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gnetic </a:t>
            </a:r>
            <a:r>
              <a:rPr b="1" lang="en-US" sz="4700" spc="-1" strike="noStrike">
                <a:solidFill>
                  <a:srgbClr val="000066"/>
                </a:solidFill>
                <a:latin typeface="Arial"/>
              </a:rPr>
              <a:t>Forces on Dipoles</a:t>
            </a:r>
            <a:endParaRPr b="1" lang="en-US" sz="4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FFBF-02A0-4A4C-ABB6-B399EB36A0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orce on Dipole from Dipole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ti-Parallel Alignmen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743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44640" y="62485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A7E4-49F9-4F7F-BE07-8903886A70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orce on Dipole from Dipole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arallel Alignmen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9880" y="6324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3F31-21A5-4F69-AD0A-DEA0E9A6C8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rce on Magnetic Dipol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620F-34C9-4293-B605-9764F0100F35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he Biot-Savart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urrent element of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carrying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produces a magnetic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43400" y="2209680"/>
                <a:ext cx="44956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4876920" y="4724280"/>
          <a:ext cx="358128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724280"/>
                    <a:ext cx="35812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269240" y="4317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harges are currents to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209680"/>
            <a:ext cx="3925800" cy="341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21840" y="579132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Shockwav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1C4A-4B82-4ADA-B22F-1DB1E6FFE4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rce between wire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2AD5-4F4D-4695-A6BD-D466097CD7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gnetic Dipole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rque &amp; For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9945-0A34-4E36-9567-E149D612BA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irst:  Review From Frida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AB39-59B4-4A3A-BF25-786A483565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344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ectangular Current Loo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lace rectangular current loop in uniform B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226040" cy="41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800600" y="3048120"/>
          <a:ext cx="404640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048120"/>
                    <a:ext cx="4046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0" y="4876920"/>
          <a:ext cx="4343400" cy="69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487692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649040" y="5943600"/>
            <a:ext cx="41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net force on the loop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724280" y="1981080"/>
                <a:ext cx="3429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‖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4" name=""/>
          <p:cNvGraphicFramePr/>
          <p:nvPr/>
        </p:nvGraphicFramePr>
        <p:xfrm>
          <a:off x="4834080" y="3714840"/>
          <a:ext cx="4046400" cy="62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34080" y="3714840"/>
                    <a:ext cx="4046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62120" y="5638680"/>
          <a:ext cx="274680" cy="55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5638680"/>
                    <a:ext cx="2746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0880" y="4824360"/>
          <a:ext cx="274680" cy="663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824360"/>
                    <a:ext cx="274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79200" y="5616720"/>
          <a:ext cx="378000" cy="55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00" y="5616720"/>
                    <a:ext cx="378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338040" y="5240160"/>
            <a:ext cx="522000" cy="522360"/>
            <a:chOff x="338040" y="5240160"/>
            <a:chExt cx="522000" cy="522360"/>
          </a:xfrm>
        </p:grpSpPr>
        <p:sp>
          <p:nvSpPr>
            <p:cNvPr id="73" name=""/>
            <p:cNvSpPr/>
            <p:nvPr/>
          </p:nvSpPr>
          <p:spPr>
            <a:xfrm>
              <a:off x="402840" y="56973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2560" y="52401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040" y="5610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2960" y="5653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8B0A-E28D-4C75-A7BD-387D7C97B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orque on Rectangular Loo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72000" y="1001880"/>
            <a:ext cx="4533840" cy="2976480"/>
            <a:chOff x="4572000" y="1001880"/>
            <a:chExt cx="4533840" cy="2976480"/>
          </a:xfrm>
        </p:grpSpPr>
        <p:sp>
          <p:nvSpPr>
            <p:cNvPr id="79" name=""/>
            <p:cNvSpPr/>
            <p:nvPr/>
          </p:nvSpPr>
          <p:spPr>
            <a:xfrm>
              <a:off x="4572000" y="1001880"/>
              <a:ext cx="4533840" cy="29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648320" y="1143000"/>
              <a:ext cx="4038480" cy="2774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1" name=""/>
          <p:cNvGraphicFramePr/>
          <p:nvPr/>
        </p:nvGraphicFramePr>
        <p:xfrm>
          <a:off x="141120" y="2631960"/>
          <a:ext cx="423864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2631960"/>
                    <a:ext cx="423864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2480" y="1190520"/>
                <a:ext cx="24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59360" y="153828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952880"/>
            <a:ext cx="43434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rque Dir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mb in torque direction, fingers rotate with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33440" y="3984480"/>
          <a:ext cx="5694480" cy="110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3440" y="3984480"/>
                    <a:ext cx="569448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30200" y="5127480"/>
          <a:ext cx="4076640" cy="100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0200" y="5127480"/>
                    <a:ext cx="407664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8143920" y="990720"/>
            <a:ext cx="1000080" cy="1266840"/>
            <a:chOff x="8143920" y="990720"/>
            <a:chExt cx="1000080" cy="1266840"/>
          </a:xfrm>
        </p:grpSpPr>
        <p:grpSp>
          <p:nvGrpSpPr>
            <p:cNvPr id="91" name=""/>
            <p:cNvGrpSpPr/>
            <p:nvPr/>
          </p:nvGrpSpPr>
          <p:grpSpPr>
            <a:xfrm>
              <a:off x="8412120" y="1393920"/>
              <a:ext cx="522360" cy="598320"/>
              <a:chOff x="8412120" y="1393920"/>
              <a:chExt cx="522360" cy="598320"/>
            </a:xfrm>
          </p:grpSpPr>
          <p:sp>
            <p:nvSpPr>
              <p:cNvPr id="92" name=""/>
              <p:cNvSpPr/>
              <p:nvPr/>
            </p:nvSpPr>
            <p:spPr>
              <a:xfrm>
                <a:off x="8477280" y="18511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486640" y="139392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12120" y="17636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5" name=""/>
            <p:cNvGraphicFramePr/>
            <p:nvPr/>
          </p:nvGraphicFramePr>
          <p:xfrm>
            <a:off x="8869320" y="1698480"/>
            <a:ext cx="274680" cy="559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869320" y="1698480"/>
                      <a:ext cx="27468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8143920" y="1479600"/>
            <a:ext cx="274680" cy="663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143920" y="1479600"/>
                      <a:ext cx="2746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8534520" y="990720"/>
            <a:ext cx="377640" cy="55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8534520" y="990720"/>
                      <a:ext cx="3776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8383320" y="1674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8D6A-73D6-4865-B948-B0C7F2345E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orque on Rectangular Loo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7480" y="1219320"/>
            <a:ext cx="4038480" cy="3276360"/>
            <a:chOff x="87480" y="1219320"/>
            <a:chExt cx="4038480" cy="3276360"/>
          </a:xfrm>
        </p:grpSpPr>
        <p:sp>
          <p:nvSpPr>
            <p:cNvPr id="104" name=""/>
            <p:cNvSpPr/>
            <p:nvPr/>
          </p:nvSpPr>
          <p:spPr>
            <a:xfrm>
              <a:off x="90360" y="3962520"/>
              <a:ext cx="402444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7480" y="1219320"/>
              <a:ext cx="4038480" cy="2774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6" name=""/>
          <p:cNvGraphicFramePr/>
          <p:nvPr/>
        </p:nvGraphicFramePr>
        <p:xfrm>
          <a:off x="4267080" y="2664000"/>
          <a:ext cx="4724640" cy="56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664000"/>
                    <a:ext cx="47246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514600" y="4800600"/>
          <a:ext cx="4267080" cy="13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800600"/>
                    <a:ext cx="4267080" cy="1344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52880" y="3352680"/>
          <a:ext cx="2819520" cy="67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3352680"/>
                    <a:ext cx="2819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410080" y="1219320"/>
                <a:ext cx="2300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AB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95600" y="6248520"/>
            <a:ext cx="70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?  No net force but there is a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320" y="3228840"/>
            <a:ext cx="1000080" cy="1266840"/>
            <a:chOff x="76320" y="3228840"/>
            <a:chExt cx="1000080" cy="1266840"/>
          </a:xfrm>
        </p:grpSpPr>
        <p:grpSp>
          <p:nvGrpSpPr>
            <p:cNvPr id="115" name=""/>
            <p:cNvGrpSpPr/>
            <p:nvPr/>
          </p:nvGrpSpPr>
          <p:grpSpPr>
            <a:xfrm>
              <a:off x="338400" y="3632040"/>
              <a:ext cx="528480" cy="600120"/>
              <a:chOff x="338400" y="3632040"/>
              <a:chExt cx="528480" cy="600120"/>
            </a:xfrm>
          </p:grpSpPr>
          <p:sp>
            <p:nvSpPr>
              <p:cNvPr id="116" name=""/>
              <p:cNvSpPr/>
              <p:nvPr/>
            </p:nvSpPr>
            <p:spPr>
              <a:xfrm>
                <a:off x="409680" y="40892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19400" y="363204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8400" y="40035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9" name=""/>
            <p:cNvGraphicFramePr/>
            <p:nvPr/>
          </p:nvGraphicFramePr>
          <p:xfrm>
            <a:off x="802080" y="3936960"/>
            <a:ext cx="27432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02080" y="3936960"/>
                      <a:ext cx="27432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76320" y="3717720"/>
            <a:ext cx="274680" cy="663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6320" y="3717720"/>
                      <a:ext cx="2746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466920" y="3228840"/>
            <a:ext cx="378000" cy="55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66920" y="3228840"/>
                      <a:ext cx="37800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316080" y="391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E26F-03A1-44D9-997B-A1BAAD8C4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Magnetic Dipole Magnetic Force</cp:keywords>
  <dc:language>en-US</dc:language>
  <cp:lastModifiedBy>Sapient</cp:lastModifiedBy>
  <dcterms:modified xsi:type="dcterms:W3CDTF">2005-03-28T09:40:58Z</dcterms:modified>
  <cp:revision>1925</cp:revision>
  <dc:subject>Force on Magnetic Dipole</dc:subject>
  <dc:title>Presentation 17</dc:title>
</cp:coreProperties>
</file>