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34.wmf" ContentType="image/x-wmf"/>
  <Override PartName="/ppt/media/image35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3.wmf" ContentType="image/x-wmf"/>
  <Override PartName="/ppt/media/image33.wmf" ContentType="image/x-wmf"/>
  <Override PartName="/ppt/media/image43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wmf" ContentType="image/x-wmf"/>
  <Override PartName="/ppt/media/image40.wmf" ContentType="image/x-wmf"/>
  <Override PartName="/ppt/media/image7.jpeg" ContentType="image/jpeg"/>
  <Override PartName="/ppt/media/image28.jpeg" ContentType="image/jpeg"/>
  <Override PartName="/ppt/media/image48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49.jpeg" ContentType="image/jpeg"/>
  <Override PartName="/ppt/media/image11.wmf" ContentType="image/x-wmf"/>
  <Override PartName="/ppt/media/image6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1.jpeg" ContentType="image/jpeg"/>
  <Override PartName="/ppt/media/image10.wmf" ContentType="image/x-wmf"/>
  <Override PartName="/ppt/media/image38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9F9C-8576-4D08-98FD-D845EF45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A8D6-60A6-416B-8A93-8B26D81B2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D7A7-EEA7-4950-B5D1-DC6CE356F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7BC6-D048-4D00-98FC-E4C69AD3D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984B-2B5A-42AB-BA10-63923144C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8ACA-B0BB-419D-8B35-12BCB1C23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D615-C416-4EB9-AD0A-DD40A87AD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74C1-EAB7-4820-B03A-FF4669774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9375-F7C7-4D86-9BF2-147E7E61C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BF00-F46F-4C81-A72E-F7CAB48E0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C752-C807-4CBD-AAD5-5FAD30554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BE26-0054-43E3-9EDA-F639C3601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52720"/>
            <a:ext cx="63000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A38-5B05-4CA5-A44D-3B548C1A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15200" y="65530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vangelion.mit.edu/Microsoft/simulations/emradiatorapp.jnlp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vangelion.mit.edu/Microsoft/simulations/radiationcharge.jnlp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eb.mit.edu/8.02t/www/802TEAL3D/visualizations/light/QuarterWaveAntenna/QuarterWaveAntenna.ht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eb.mit.edu/8.02t/www/materials/Movies/hiResAntenna.avi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eb.mit.edu/8.02t/www/802TEAL3D/visualizations/light/AntennaPattern/AntennaPattern.ht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eb.mit.edu/8.02t/www/materials/Movies/802xantenna.avi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vangelion.mit.edu/802TEAL3D/visualizations/light/EBlight/EBlight.htm" TargetMode="Externa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eb.mit.edu/8.02t/www/materials/Movies/standing.avi" TargetMode="External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vangelion.mit.edu/802TEAL3D/visualizations/light/planewaveapp/planewaveap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32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ing Electromagnetic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e EM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 Dipole EM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 12:  Micro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Exam 3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D52F-8762-4EE5-B044-6C2CAED836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What About B Field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267080" cy="3397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318924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24280" y="4876920"/>
          <a:ext cx="4648320" cy="13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876920"/>
                    <a:ext cx="464832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7200" y="4952880"/>
          <a:ext cx="373392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952880"/>
                    <a:ext cx="37339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36F4-28EB-4989-BDE7-EA5C81913D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ate Energy Carried Away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267080" cy="3397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3189240" cy="3352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4876920"/>
          <a:ext cx="67057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67057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28600" y="5911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radiated to left and right is exactly equal to the rate of work required to move sheet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2D8B-4AD0-4624-833A-2CFA2C8AA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o generate plane wave, move sheet up and down sinusoidall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7150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 you do in moving the sheet is carried away as electromagnetic radiation, with 100%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1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907F-54E5-4163-8E71-DB0CA0E86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610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Generating Plane Wave Apple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556272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242040" cy="38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ADFB-129E-4863-B1BE-5A33E430CB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enerating A Pla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1A83-61D3-4B4E-B43D-7467321BCB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erating Electric Dipole Electromagnetic Waves</a:t>
            </a:r>
            <a:br>
              <a:rPr sz="4800"/>
            </a:b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BE45-42FD-43C6-80DA-0D49DBA013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610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Generating Electric Dipole Radiation Apple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556272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876560" cy="36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9EC2-2DBE-4F42-BD13-EFF7A06BED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Quarter-Wavelength 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ccelerated charges are the source of EM wav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st common example: Electric Dipole Rad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939960" cy="304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1523880" cy="304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429000" y="2438280"/>
            <a:ext cx="222552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943600" y="24382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960" y="556272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440" y="556272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= T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440" y="556272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= T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1000" y="556272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251460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629400" y="2438280"/>
          <a:ext cx="48564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2438280"/>
                    <a:ext cx="4856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H="1">
            <a:off x="7009920" y="41911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086600" y="4175280"/>
          <a:ext cx="48564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175280"/>
                    <a:ext cx="4856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A339-F1D7-4E3C-82C4-919015882F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y are Radio Towers Tall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49528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Radio stations have frequencies 535 – 1605 kHz.  WLW 700 Cincinnati is at 700 kH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81080" y="3048120"/>
          <a:ext cx="502920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8120"/>
                    <a:ext cx="502920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68840" y="5475240"/>
            <a:ext cx="71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LW 700 Cincinnati Tower is 747 ft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AB9A-8F13-4B17-AE77-7285CAE1A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62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Quarter-Wavelength 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76920" cy="46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508A-AAFE-4949-B787-3B065F5DDC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ecall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 Electromagnetic Radia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DD48-9834-490F-9686-34DC6E718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Quarter-Wavelength 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14600" y="6019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 to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31B0-245E-41F0-9C3A-4E05495C6D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park Gap Transmitte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400800" cy="4789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57600" y="6095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 to m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E03E-B548-4824-8BE0-7E77F64966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park Gap Generator: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n LC Oscillator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rst: Example of “lumped” LC Oscillator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(Capacitor &amp; Inductor together as one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E77D-4D92-40B5-A000-F42895EB3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Group Problem: Lumped LC Circui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48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485040" y="4734000"/>
          <a:ext cx="18889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5040" y="4734000"/>
                    <a:ext cx="18889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638680" y="8380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280" y="3581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 What is the resonance frequ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4800600"/>
          <a:ext cx="1328760" cy="9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800600"/>
                    <a:ext cx="132876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981080" y="4800600"/>
          <a:ext cx="1027080" cy="9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800600"/>
                    <a:ext cx="10270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17680" y="5867280"/>
          <a:ext cx="5346720" cy="64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7680" y="5867280"/>
                    <a:ext cx="53467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640840" y="290052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(into page):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831960"/>
            <a:ext cx="190476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Plate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rical I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52388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05120" y="1523880"/>
            <a:ext cx="22860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048120" y="2514600"/>
            <a:ext cx="7617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62720" y="2742840"/>
            <a:ext cx="1447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440" y="426708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AE5B-2ADD-4D56-930B-8FC0A6F2B1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bursts copy" descr=""/>
          <p:cNvPicPr/>
          <p:nvPr/>
        </p:nvPicPr>
        <p:blipFill>
          <a:blip r:embed="rId1"/>
          <a:srcRect l="0" t="0" r="61827" b="0"/>
          <a:stretch/>
        </p:blipFill>
        <p:spPr>
          <a:xfrm>
            <a:off x="5791320" y="1523880"/>
            <a:ext cx="1676160" cy="1409760"/>
          </a:xfrm>
          <a:prstGeom prst="rect">
            <a:avLst/>
          </a:prstGeom>
          <a:ln w="0">
            <a:noFill/>
          </a:ln>
        </p:spPr>
      </p:pic>
      <p:pic>
        <p:nvPicPr>
          <p:cNvPr id="190" name="bursts copy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390920" cy="140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ur spark gap antenn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320" y="942840"/>
            <a:ext cx="4336920" cy="3552840"/>
          </a:xfrm>
          <a:prstGeom prst="rect">
            <a:avLst/>
          </a:prstGeom>
          <a:ln w="0">
            <a:noFill/>
          </a:ln>
        </p:spPr>
      </p:pic>
      <p:pic>
        <p:nvPicPr>
          <p:cNvPr id="193" name="oscillations 1 copy" descr=""/>
          <p:cNvPicPr/>
          <p:nvPr/>
        </p:nvPicPr>
        <p:blipFill>
          <a:blip r:embed="rId4"/>
          <a:stretch/>
        </p:blipFill>
        <p:spPr>
          <a:xfrm>
            <a:off x="5867280" y="4019400"/>
            <a:ext cx="2571840" cy="16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4419720" y="2976480"/>
          <a:ext cx="472428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976480"/>
                    <a:ext cx="47242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5440" y="4495680"/>
          <a:ext cx="2382840" cy="120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40" y="4495680"/>
                    <a:ext cx="238284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394000" y="4419720"/>
          <a:ext cx="2558880" cy="12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4419720"/>
                    <a:ext cx="25588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559760" y="9288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 Charge gap (R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41600" y="350532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 Breakdown! (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5638680"/>
          <a:ext cx="4267080" cy="63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5638680"/>
                    <a:ext cx="4267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240880" y="57294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 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B979-945C-47AF-8562-9897EA2DB7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park Gap Transmitte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912960"/>
            <a:ext cx="3657600" cy="2744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0880" y="3732120"/>
            <a:ext cx="3657600" cy="2745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495680" y="3732120"/>
            <a:ext cx="3657600" cy="2745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495680" y="91296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7168-E340-45B6-BD68-FAA27D8E3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park Gap 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68F7-F5B8-4E07-AD08-E7456205866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park Gap 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24840" cy="4732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352680" y="6095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 to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F59B-7C3A-4FA5-85FB-D5A525CEA5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park Gap 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6095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Link to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400800" cy="47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026D-9A72-4843-B6FF-75927637A6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gular Distribution &amp; Polarization of Radi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C7FA-D8CB-4303-B098-18DB55975C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251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ecall Electromagnetic Radiation:  Plane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17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F928-8EF1-4C71-A911-B147EAD02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tenn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A231-9F26-43C7-A36C-FF12DFDD50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lariz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B250-6FDD-4E7C-B72C-B23C50EFF9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larization of TV EM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8640" y="1589040"/>
            <a:ext cx="26067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iented as sh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fferent length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4079880" cy="42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2501-C33D-4E22-921F-7616418C86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icrowave Polariz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5C85-6CB7-478D-8344-CEF398FB6E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12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easure Wavelength by Setting Up Standing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5391000" cy="4054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9343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 to m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269E-0EF1-4841-B2B7-77329F46BE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12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icro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FDF6-EA32-4B27-8CD1-FF0B998A0B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 3 Resul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595D-CB55-4A11-9A69-1C339598E9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roperties of EM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95240" y="1698480"/>
          <a:ext cx="446256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698480"/>
                    <a:ext cx="446256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895480" y="3886200"/>
          <a:ext cx="213372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21337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200400" cy="215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10350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ravel (through vacuum) with speed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3016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t every point in the wave and any instant of time, E and B are in phase with one another,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 and B fields perpendicular to one another, and to the direction of propagation (they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rans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6240" y="6095880"/>
          <a:ext cx="812952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6240" y="6095880"/>
                    <a:ext cx="81295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942C-3E45-4CE5-8788-AFF0AB1E3A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Generating Plane Electromagnetic Radia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F15F-8980-463D-B152-A32E9711D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Shake A Sheet of Charge Up and Down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57200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FC62-9903-49AC-8B6D-D2903E4C6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Java Applet for Generation of Plane Waves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52480" y="1600200"/>
            <a:ext cx="6242040" cy="38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9684-D03F-4026-8CAD-4A153F0DFC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irst Pull The Sheet of Charge Down At Speed v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114800" cy="3276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29200" y="2286000"/>
          <a:ext cx="36576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2286000"/>
                    <a:ext cx="36576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952880" y="3809880"/>
          <a:ext cx="37339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3809880"/>
                    <a:ext cx="37339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62120" y="586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pull down, there is a back force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FDDD-7A2C-4C01-B98F-9414BD3C5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ate of Work Done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0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28800" y="990720"/>
          <a:ext cx="5562720" cy="10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990720"/>
                    <a:ext cx="55627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5410080"/>
          <a:ext cx="6553080" cy="112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410080"/>
                    <a:ext cx="65530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876920" y="2819520"/>
          <a:ext cx="32004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2819520"/>
                    <a:ext cx="3200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63F3-26C4-42D0-A996-F2F2612FA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EM Waves Antennas</cp:keywords>
  <dc:language>en-US</dc:language>
  <cp:lastModifiedBy>Sapient</cp:lastModifiedBy>
  <dcterms:modified xsi:type="dcterms:W3CDTF">2005-04-05T06:05:54Z</dcterms:modified>
  <cp:revision>2194</cp:revision>
  <dc:subject>Electromagnetic Radiation</dc:subject>
  <dc:title>Presentation 32</dc:title>
</cp:coreProperties>
</file>