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6.wmf" ContentType="image/x-wmf"/>
  <Override PartName="/ppt/media/image25.jpeg" ContentType="image/jpeg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2.jpeg" ContentType="image/jpeg"/>
  <Override PartName="/ppt/media/image9.png" ContentType="image/png"/>
  <Override PartName="/ppt/media/image15.wmf" ContentType="image/x-wmf"/>
  <Override PartName="/ppt/media/image14.jpeg" ContentType="image/jpeg"/>
  <Override PartName="/ppt/media/image24.wmf" ContentType="image/x-wmf"/>
  <Override PartName="/ppt/media/image1.wmf" ContentType="image/x-wmf"/>
  <Override PartName="/ppt/media/image7.jpeg" ContentType="image/jpeg"/>
  <Override PartName="/ppt/media/image2.wmf" ContentType="image/x-wmf"/>
  <Override PartName="/ppt/media/image32.wmf" ContentType="image/x-wmf"/>
  <Override PartName="/ppt/media/image13.png" ContentType="image/png"/>
  <Override PartName="/ppt/media/image33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17.wmf" ContentType="image/x-wmf"/>
  <Override PartName="/ppt/media/image31.jpeg" ContentType="image/jpeg"/>
  <Override PartName="/ppt/media/image42.png" ContentType="image/png"/>
  <Override PartName="/ppt/media/image30.wmf" ContentType="image/x-wmf"/>
  <Override PartName="/ppt/media/image45.png" ContentType="image/png"/>
  <Override PartName="/ppt/media/image10.png" ContentType="image/png"/>
  <Override PartName="/ppt/media/image43.png" ContentType="image/png"/>
  <Override PartName="/ppt/media/image44.wmf" ContentType="image/x-wmf"/>
  <Override PartName="/ppt/media/image27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16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3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0AF3-F205-42D0-8825-51B0AC3F3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E27C-A529-4104-9DE2-C767BBD19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8599-92C3-44FA-B9B9-635D83597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8D6A-9C7F-4EB7-A469-2D84FF8FDE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E63F-68D7-47B1-919E-E04453909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558F-D508-449F-BD64-88705E1F4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D085-9333-4EA9-BD1C-A0FD23BF8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E41C-5D8A-43AA-BCC4-58E1B99A1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AB00-59DF-409B-ABD8-871BC5069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8FEB-36D5-42BC-96AC-0A3B4F7EC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2C8D-B3A7-46BF-BF93-715FDB820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2743-F8CB-4585-96BA-97BA96CE6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6535800"/>
            <a:ext cx="63000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12D3-16AF-4610-A619-AFF197E8A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18600" y="65311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light/CreatingRadiation/creatingRadiation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eb.mit.edu/8.02t/www/802TEAL3D/visualizations/light/EBlight/EBlight.htm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light/EBlight/EBlight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vangelion.mit.edu/simulations/superposition/Superposition_Sample.html" TargetMode="Externa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28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2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ment Cur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well’s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magnetic w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A234-A684-4910-804B-F57DBD113C4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xwell’s Equation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47560" y="1600200"/>
          <a:ext cx="782028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600200"/>
                    <a:ext cx="782028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80880" y="1600200"/>
            <a:ext cx="8458200" cy="4038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E833-2271-47BA-BFD5-EBCB7D6D04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Electromagnetic Radiation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4C24-994E-4BFF-9861-7E55E71FA9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A Question of Time…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9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472464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5E84-1DCA-44A6-BD7C-71108E315D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D22C-09EA-498C-939F-83A1BA81E7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160"/>
            <a:ext cx="84582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lectromagnetic Radiation:  Plane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066680"/>
            <a:ext cx="64767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72880" y="6172200"/>
            <a:ext cx="32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Link to 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8A80-D9B2-4D7C-B501-81323597B5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09960" y="4038480"/>
            <a:ext cx="4076640" cy="1371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veling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2590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f(x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1143000"/>
            <a:ext cx="368964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91120" y="220968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34000" y="226368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2800" y="297180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(x,t) = f(x-vt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09960" y="4038480"/>
            <a:ext cx="407664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009960" y="4038480"/>
            <a:ext cx="40766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3859560" y="3605040"/>
            <a:ext cx="764280" cy="2303640"/>
            <a:chOff x="3859560" y="3605040"/>
            <a:chExt cx="764280" cy="2303640"/>
          </a:xfrm>
        </p:grpSpPr>
        <p:sp>
          <p:nvSpPr>
            <p:cNvPr id="106" name=""/>
            <p:cNvSpPr/>
            <p:nvPr/>
          </p:nvSpPr>
          <p:spPr>
            <a:xfrm>
              <a:off x="3859560" y="5388120"/>
              <a:ext cx="76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95920" y="360504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13080" y="533412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881600" y="3603600"/>
            <a:ext cx="958320" cy="2362320"/>
            <a:chOff x="4881600" y="3603600"/>
            <a:chExt cx="958320" cy="2362320"/>
          </a:xfrm>
        </p:grpSpPr>
        <p:sp>
          <p:nvSpPr>
            <p:cNvPr id="110" name=""/>
            <p:cNvSpPr/>
            <p:nvPr/>
          </p:nvSpPr>
          <p:spPr>
            <a:xfrm>
              <a:off x="4881600" y="5386320"/>
              <a:ext cx="95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x=vt</a:t>
              </a:r>
              <a:r>
                <a:rPr b="0" lang="en-US" sz="2800" spc="-1" strike="noStrike" baseline="-25000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18320" y="3603600"/>
              <a:ext cx="70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t=t</a:t>
              </a:r>
              <a:r>
                <a:rPr b="0" lang="en-US" sz="2800" spc="-1" strike="noStrike" baseline="-25000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25760" y="5332320"/>
              <a:ext cx="0" cy="2282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99680" y="3603600"/>
            <a:ext cx="1156320" cy="2362320"/>
            <a:chOff x="5899680" y="3603600"/>
            <a:chExt cx="1156320" cy="2362320"/>
          </a:xfrm>
        </p:grpSpPr>
        <p:sp>
          <p:nvSpPr>
            <p:cNvPr id="114" name=""/>
            <p:cNvSpPr/>
            <p:nvPr/>
          </p:nvSpPr>
          <p:spPr>
            <a:xfrm>
              <a:off x="5899680" y="5386320"/>
              <a:ext cx="115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ff"/>
                  </a:solidFill>
                  <a:latin typeface="Arial"/>
                </a:rPr>
                <a:t>x=2vt</a:t>
              </a:r>
              <a:r>
                <a:rPr b="0" lang="en-US" sz="2800" spc="-1" strike="noStrike" baseline="-25000">
                  <a:solidFill>
                    <a:srgbClr val="cc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36400" y="3603600"/>
              <a:ext cx="89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ff"/>
                  </a:solidFill>
                  <a:latin typeface="Arial"/>
                </a:rPr>
                <a:t>t=2t</a:t>
              </a:r>
              <a:r>
                <a:rPr b="0" lang="en-US" sz="2800" spc="-1" strike="noStrike" baseline="-25000">
                  <a:solidFill>
                    <a:srgbClr val="cc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3480" y="5332320"/>
              <a:ext cx="0" cy="228240"/>
            </a:xfrm>
            <a:prstGeom prst="line">
              <a:avLst/>
            </a:prstGeom>
            <a:ln w="507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3520" y="601992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-vt) is traveling wave moving to the r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69E0-824B-48DA-8BA5-F4A4F23D5C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veling Sine Wav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nsider f(x) = y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(k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2120" y="3429000"/>
            <a:ext cx="7619760" cy="1943280"/>
            <a:chOff x="762120" y="3429000"/>
            <a:chExt cx="7619760" cy="1943280"/>
          </a:xfrm>
        </p:grpSpPr>
        <p:grpSp>
          <p:nvGrpSpPr>
            <p:cNvPr id="121" name=""/>
            <p:cNvGrpSpPr/>
            <p:nvPr/>
          </p:nvGrpSpPr>
          <p:grpSpPr>
            <a:xfrm>
              <a:off x="762120" y="3429000"/>
              <a:ext cx="7619760" cy="1943280"/>
              <a:chOff x="762120" y="3429000"/>
              <a:chExt cx="7619760" cy="19432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3429000"/>
                <a:ext cx="7619760" cy="19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990360" y="4800600"/>
                <a:ext cx="6094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90360" y="3429000"/>
                <a:ext cx="3045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4648320"/>
              <a:ext cx="838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608120" y="34783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743200"/>
            <a:ext cx="5331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2254320"/>
            <a:ext cx="239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655640" y="3382920"/>
            <a:ext cx="2743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026880" y="2514600"/>
            <a:ext cx="11638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6480" y="1828800"/>
          <a:ext cx="5668920" cy="10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6480" y="1828800"/>
                    <a:ext cx="56689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" y="55627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(x,t) = f(x+vt)?  Travels to left at velocity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(k(x+vt))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(kx+kv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918C-B893-4D9A-9167-A8841DAB3F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741240" y="4678200"/>
            <a:ext cx="7620120" cy="1943280"/>
            <a:chOff x="741240" y="4678200"/>
            <a:chExt cx="7620120" cy="19432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741240" y="4678200"/>
              <a:ext cx="762012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969840" y="6049800"/>
              <a:ext cx="6098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9840" y="467820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veling Sine Wav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8120" y="47736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22480" y="3992400"/>
            <a:ext cx="5331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520" y="3549600"/>
            <a:ext cx="239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55640" y="4678200"/>
            <a:ext cx="2743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026880" y="3276720"/>
            <a:ext cx="1468440" cy="1325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581280" y="2590920"/>
          <a:ext cx="5391360" cy="21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2590920"/>
                    <a:ext cx="539136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762280" y="952560"/>
          <a:ext cx="3695760" cy="75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62280" y="952560"/>
                    <a:ext cx="3695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886280" y="1781280"/>
          <a:ext cx="424836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86280" y="1781280"/>
                    <a:ext cx="42483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75600" y="1795320"/>
            <a:ext cx="48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x=0, just a function of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CF15-CAD3-4EEE-A14D-8D4B2198C0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veling Sine Wav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114800" y="1219320"/>
          <a:ext cx="4267080" cy="83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219320"/>
                    <a:ext cx="4267080" cy="839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28600" y="1230480"/>
          <a:ext cx="6858000" cy="50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30480"/>
                    <a:ext cx="6858000" cy="50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4557-DE68-4DE4-857F-BBC73E7124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lectromagnetic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6040" y="591012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995720" y="5791320"/>
          <a:ext cx="2167200" cy="93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5720" y="5791320"/>
                    <a:ext cx="21672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228600" y="1447920"/>
            <a:ext cx="8458200" cy="4176720"/>
            <a:chOff x="228600" y="1447920"/>
            <a:chExt cx="8458200" cy="417672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228600" y="1447920"/>
              <a:ext cx="845820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152480" y="47451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0B2D-A220-4EF4-A59A-5383D4F4F0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Finally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Bringing it All Together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42EF-1B4E-4971-8B69-13CAF44BF4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lectromagnetic Radiation:  Plane Waves (</a:t>
            </a:r>
            <a:r>
              <a:rPr b="1" lang="en-US" sz="4400" spc="-1" strike="noStrike" u="sng">
                <a:solidFill>
                  <a:srgbClr val="003366"/>
                </a:solidFill>
                <a:uFillTx/>
                <a:latin typeface="Arial"/>
                <a:ea typeface="新細明體"/>
                <a:hlinkClick r:id="rId1"/>
              </a:rPr>
              <a:t>Link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066680"/>
            <a:ext cx="64767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324480" y="1379520"/>
            <a:ext cx="281952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2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Sine wave traveling to right (+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out of phase oscillators (watch one pos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9960" y="5911920"/>
            <a:ext cx="72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confuse vectors with heights – they are magnitudes of E (gold) and B (b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ECA3-8DD1-4898-AF33-86A1D3444D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av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AD96-0157-4601-B3BA-883EB10379E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roup Work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 Problem 1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n this </a:t>
            </a:r>
            <a:r>
              <a:rPr b="1" lang="en-US" sz="4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ava Apple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FF6E-9362-4FDA-BF27-DFFAECD6F80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roperties of EM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95240" y="1698480"/>
          <a:ext cx="446256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698480"/>
                    <a:ext cx="446256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895480" y="3886200"/>
          <a:ext cx="2133720" cy="12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886200"/>
                    <a:ext cx="213372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791320" y="914400"/>
            <a:ext cx="3200400" cy="2154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280" y="10350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ravel (through vacuum) with speed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30160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t every point in the wave and any instant of time, E and B are in phase with one another,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5181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 and B fields perpendicular to one another, and to the direction of propagation (they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rans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46240" y="6095880"/>
          <a:ext cx="8129520" cy="69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6240" y="6095880"/>
                    <a:ext cx="81295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361F-56BA-46F8-A6C3-2EF8D6BB14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rection of Propag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2000" y="990720"/>
          <a:ext cx="8839080" cy="71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990720"/>
                    <a:ext cx="88390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267000" y="2071800"/>
          <a:ext cx="5486400" cy="4633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733920" y="2019240"/>
          <a:ext cx="4922640" cy="471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019240"/>
                    <a:ext cx="492264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80880" y="2057400"/>
          <a:ext cx="221004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057400"/>
                    <a:ext cx="2210040" cy="8715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3BC1-4E97-4D29-A4E9-D956DB5226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rection of Propag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59CF-13F8-451B-B8F5-D628C068BA2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n Class Problem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lane EM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9CDD-945F-4F04-A655-570B68D53F3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Energy &amp; the Poynting Vector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B1F7-FEE0-4521-883E-11082CC81C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69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nergy in EM Wav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76720" y="838080"/>
          <a:ext cx="487656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838080"/>
                    <a:ext cx="487656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06360" y="114300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nergy dens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190008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3320" y="191916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sider cyli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133720" y="2146320"/>
          <a:ext cx="684216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146320"/>
                    <a:ext cx="684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2210400" y="359568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at is rate of energy flow per unit ar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183360" y="4229280"/>
          <a:ext cx="2895480" cy="116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83360" y="4229280"/>
                    <a:ext cx="2895480" cy="11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394000" y="5410080"/>
          <a:ext cx="2857320" cy="107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94000" y="5410080"/>
                    <a:ext cx="28573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37280" y="5433840"/>
          <a:ext cx="892080" cy="978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37280" y="5433840"/>
                    <a:ext cx="89208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2120760" y="4319640"/>
          <a:ext cx="1624320" cy="949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20760" y="4319640"/>
                    <a:ext cx="16243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19520" y="4224240"/>
          <a:ext cx="2529000" cy="1157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19520" y="4224240"/>
                    <a:ext cx="25290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6877-A5A0-48E4-A23E-4CA8C59176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Poynting Vector and Intensit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352680" y="1981080"/>
          <a:ext cx="5639040" cy="14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981080"/>
                    <a:ext cx="5639040" cy="1400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275640" y="3581280"/>
            <a:ext cx="59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units:  Joules per square meter per se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52280" y="1981080"/>
            <a:ext cx="3124440" cy="27291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9200" y="1143000"/>
            <a:ext cx="89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rection of energy flow = direction of wave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4876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ens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057400" y="4952880"/>
          <a:ext cx="6400800" cy="153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4952880"/>
                    <a:ext cx="6400800" cy="15368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F08A-F10B-47C5-BCF4-33AC4954AE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isplacement Curren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E87A-91EB-4CCB-9E0C-FA113AC4CB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69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nergy Flow:  Resis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09480" y="1066680"/>
          <a:ext cx="167652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167652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896560" y="1447920"/>
            <a:ext cx="54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surface of resistor is IN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resistor3" descr=""/>
          <p:cNvPicPr/>
          <p:nvPr/>
        </p:nvPicPr>
        <p:blipFill>
          <a:blip r:embed="rId3"/>
          <a:stretch/>
        </p:blipFill>
        <p:spPr>
          <a:xfrm>
            <a:off x="1676520" y="2438280"/>
            <a:ext cx="5410080" cy="40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B38E-40D9-488B-A514-8764CA950C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ynting Vec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E595-2BE6-4129-B42F-BCAC5B24D55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69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nergy Flow: Induc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112068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surface of inductor with increasing current is IN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737320" cy="430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457200" y="990720"/>
          <a:ext cx="1676520" cy="120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16765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90E0-75EE-4953-AC29-A9BB3AEB2D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69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nergy Flow: Induc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37320" cy="430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514600" y="112068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surface of inductor with decreasing current is OUT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990720"/>
          <a:ext cx="1676520" cy="120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16765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AF03-9699-4094-9918-AD9DB22374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pere’s Law:  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charging capaci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362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30480" y="1990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057400"/>
            <a:ext cx="617220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mpere’s Law to calculate the magnetic field just above the top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 Red Amperian Area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n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 Green Amperian Area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040" y="2695680"/>
            <a:ext cx="16002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040" y="3133800"/>
            <a:ext cx="16002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438280"/>
            <a:ext cx="1066680" cy="15264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" y="2514600"/>
            <a:ext cx="1981080" cy="1066680"/>
            <a:chOff x="228600" y="2514600"/>
            <a:chExt cx="1981080" cy="1066680"/>
          </a:xfrm>
        </p:grpSpPr>
        <p:sp>
          <p:nvSpPr>
            <p:cNvPr id="55" name=""/>
            <p:cNvSpPr/>
            <p:nvPr/>
          </p:nvSpPr>
          <p:spPr>
            <a:xfrm>
              <a:off x="228600" y="2971800"/>
              <a:ext cx="1981080" cy="152280"/>
            </a:xfrm>
            <a:prstGeom prst="ellipse">
              <a:avLst/>
            </a:prstGeom>
            <a:solidFill>
              <a:srgbClr val="33cc33">
                <a:alpha val="30000"/>
              </a:srgbClr>
            </a:solidFill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28600" y="2514600"/>
              <a:ext cx="913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95640" y="2514600"/>
              <a:ext cx="913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85800" y="2438280"/>
            <a:ext cx="1066680" cy="152640"/>
          </a:xfrm>
          <a:prstGeom prst="ellipse">
            <a:avLst/>
          </a:prstGeom>
          <a:solidFill>
            <a:srgbClr val="ff3300">
              <a:alpha val="3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1240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9520" y="5943600"/>
            <a:ext cx="39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Going 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3276720"/>
          <a:ext cx="67816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67816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602E-3A40-4ACE-836B-CC69146145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69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Displacement Curren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495680" y="3886200"/>
          <a:ext cx="316080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3160800" cy="10778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33520" y="914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e don’t have current between the capacitor plates but we do have a changing E field.  Can we “make” a current out of t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920" y="2438280"/>
            <a:ext cx="342900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3809880" y="2362320"/>
          <a:ext cx="4927680" cy="118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362320"/>
                    <a:ext cx="492768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295280" y="5410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(for historic reasons)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lacement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ECDB-2E10-4856-BA18-839FB854B0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xwell-Ampere’s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09480" y="1828800"/>
          <a:ext cx="7925040" cy="35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925040" cy="3508200"/>
                  </a:xfrm>
                  <a:prstGeom prst="rect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8DCE-E284-4E6D-9B70-638A448C5B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apacito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2123-DBB8-41BD-8E22-42A66334C90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Maxwell’s Equation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FE81-F0AA-4C2F-9E7F-A1829D609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lectromagnetism Revie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876312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 fields are created b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lectric charg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ime changing B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 fields are created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oving electric char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magnetic charg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ime changing E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 (B) fields exert forces on (moving) electric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04200" y="195912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uss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8240" y="238428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aday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8240" y="3443400"/>
            <a:ext cx="24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ere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8240" y="4303800"/>
            <a:ext cx="31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well’s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1160" y="58816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entz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D474-E20C-4AD7-9AD1-2D8E2785B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Displacement current Maxwell's equations EM Waves EM radiation</cp:keywords>
  <dc:language>en-US</dc:language>
  <cp:lastModifiedBy>cc_akasij</cp:lastModifiedBy>
  <dcterms:modified xsi:type="dcterms:W3CDTF">2005-04-07T12:42:18Z</dcterms:modified>
  <cp:revision>2134</cp:revision>
  <dc:subject>Maxwells Equations</dc:subject>
  <dc:title>Presentation 28</dc:title>
</cp:coreProperties>
</file>