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6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15.png" ContentType="image/png"/>
  <Override PartName="/ppt/media/image3.jpeg" ContentType="image/jpeg"/>
  <Override PartName="/ppt/media/image28.wmf" ContentType="image/x-wmf"/>
  <Override PartName="/ppt/media/image37.jpeg" ContentType="image/jpeg"/>
  <Override PartName="/ppt/media/image25.wmf" ContentType="image/x-wmf"/>
  <Override PartName="/ppt/media/image4.jpeg" ContentType="image/jpeg"/>
  <Override PartName="/ppt/media/image38.wmf" ContentType="image/x-wmf"/>
  <Override PartName="/ppt/media/image13.wmf" ContentType="image/x-wmf"/>
  <Override PartName="/ppt/media/image10.jpeg" ContentType="image/jpeg"/>
  <Override PartName="/ppt/media/image30.wmf" ContentType="image/x-wmf"/>
  <Override PartName="/ppt/media/image36.wmf" ContentType="image/x-wmf"/>
  <Override PartName="/ppt/media/image39.wmf" ContentType="image/x-wmf"/>
  <Override PartName="/ppt/media/image8.jpeg" ContentType="image/jpeg"/>
  <Override PartName="/ppt/media/image41.wmf" ContentType="image/x-wmf"/>
  <Override PartName="/ppt/media/image40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12.jpeg" ContentType="image/jpeg"/>
  <Override PartName="/ppt/media/image45.wmf" ContentType="image/x-wmf"/>
  <Override PartName="/ppt/media/image34.wmf" ContentType="image/x-wmf"/>
  <Override PartName="/ppt/media/image46.wmf" ContentType="image/x-wmf"/>
  <Override PartName="/ppt/media/image35.wmf" ContentType="image/x-wmf"/>
  <Override PartName="/ppt/media/image47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11.png" ContentType="image/png"/>
  <Override PartName="/ppt/media/image19.jpeg" ContentType="image/jpeg"/>
  <Override PartName="/ppt/media/image7.jpeg" ContentType="image/jpeg"/>
  <Override PartName="/ppt/media/image31.wmf" ContentType="image/x-wmf"/>
  <Override PartName="/ppt/media/image48.wmf" ContentType="image/x-wmf"/>
  <Override PartName="/ppt/media/image5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FB847-ADD6-4DA0-8223-F7C6222929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9153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B7329-8CA8-42F3-9B6C-425CCFBE7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764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C2C0C-8173-49DD-8AE5-DF2CF9DE9A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044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808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044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808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9DCD8-7375-49B4-B198-8E371F69BC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A2F1-60BC-41C7-8E89-1815C1D557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3A0EE-A498-4C81-8D84-57C5843C4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83515-DD0F-4C77-8D17-B0E4A89DA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1ED3-3200-4A7F-B5F1-C3CF9AD3E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8280" y="304560"/>
            <a:ext cx="889344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A70AD-CFC0-4221-97E4-8C1E41EBDD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D5CC8-B654-4567-844D-A6289DFE1C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764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A13BA-85DA-40BD-BE1F-370033006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D0F12-DAA5-4B11-93B2-A7AAC5EA1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003366"/>
              </a:buClr>
              <a:buFont typeface="Arial"/>
              <a:buChar char="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59280" y="6535800"/>
            <a:ext cx="630360" cy="304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0ED6-5A6E-459C-BFCB-CDFE0F2C1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18600" y="653112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0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eb.mit.edu/8.02t/www/802TEAL3D/visualizations/electrostatics/pentagon/pentagon.ht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eb.mit.edu/8.02t/www/materials/Movies/exp02.mpeg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eb.mit.edu/8.02t/www/802TEAL3D/visualizations/electrostatics/electrostaticforce/electrostaticforce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eb.mit.edu/8.02t/www/802TEAL3D/visualizations/electrostatics/capacitor/capacitor.htm" TargetMode="External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2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wmf"/><Relationship Id="rId1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ass 07:  Outlin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2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r 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uctors &amp; Insulato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t. 2:  Electrostatic For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r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aci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D2B1-4BB1-4690-9B6B-27158D9D658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S Ques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alking down a mountai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8A23A-EECA-45E7-A45A-7226D5EC9B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irection of Electric Field 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1752480"/>
            <a:ext cx="66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is perpendicular to all equipotent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25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72" name="24" descr=""/>
          <p:cNvPicPr/>
          <p:nvPr/>
        </p:nvPicPr>
        <p:blipFill>
          <a:blip r:embed="rId2"/>
          <a:stretch/>
        </p:blipFill>
        <p:spPr>
          <a:xfrm>
            <a:off x="3581280" y="2438280"/>
            <a:ext cx="2546640" cy="266724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1947960" y="880920"/>
            <a:ext cx="5317920" cy="1657440"/>
            <a:chOff x="1947960" y="880920"/>
            <a:chExt cx="5317920" cy="1657440"/>
          </a:xfrm>
        </p:grpSpPr>
        <p:sp>
          <p:nvSpPr>
            <p:cNvPr id="74" name=""/>
            <p:cNvSpPr/>
            <p:nvPr/>
          </p:nvSpPr>
          <p:spPr>
            <a:xfrm>
              <a:off x="1947960" y="880920"/>
              <a:ext cx="1744560" cy="16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92520" y="880920"/>
              <a:ext cx="1596960" cy="16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89480" y="880920"/>
              <a:ext cx="1976400" cy="16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25" descr=""/>
          <p:cNvPicPr/>
          <p:nvPr/>
        </p:nvPicPr>
        <p:blipFill>
          <a:blip r:embed="rId3"/>
          <a:stretch/>
        </p:blipFill>
        <p:spPr>
          <a:xfrm>
            <a:off x="6324480" y="2438280"/>
            <a:ext cx="2514600" cy="2627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8640" y="518148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onstant E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6800" y="5181480"/>
            <a:ext cx="22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oint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5181480"/>
            <a:ext cx="24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lectric dip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387A3-35FC-4A4B-A0CA-4A4BBF866B4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operties of Equipotentials</a:t>
            </a:r>
            <a:br>
              <a:rPr sz="4400"/>
            </a:b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field lines point from high to low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field lines perpendicular to equipotent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no component along equipoten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work to move along equipoten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CDF22-DC6D-4888-9E54-BC7A1E3A99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nductors in Equilibrium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2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ors are equipotential obj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E = 0 in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Net charge inside is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E perpendicular to surf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Excess charge on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3059280" cy="449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828800" y="4267080"/>
                <a:ext cx="205740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σ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E0FFE-959C-4804-94DC-6AB62EB2E6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nductors in Equilibrium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302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a net positive charge anywhere inside a conductor, and it will move to the surface to get as far away as possible from the other charges of like sig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Java applet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14600" y="289548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CB721-07BB-49B0-BEF5-B89E9CFACD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xpt. 2:  Electrostatic Forc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830600" y="6019920"/>
            <a:ext cx="45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Link to Movie of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CA0C-CC9C-4667-A0B4-89A0AFE383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xpt. 2:  Electrostatic Forc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54640" y="5943600"/>
            <a:ext cx="54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Java Applet for Forc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52480" y="1143000"/>
            <a:ext cx="5492880" cy="483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E6C59-46FB-4015-85CD-D12B0BCD22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xperiment 2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lectrostatic Forc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D205-623E-48FA-A623-1874A16BE88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apacitors and Capacitanc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新細明體"/>
              </a:rPr>
              <a:t>Capacitors:  Store Electric Energy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14156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apacitor: two isolated conductors with equal and opposite charges Q and potential differenc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V between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4952880"/>
            <a:ext cx="51055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Units: Coulombs/Volt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ar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495680" y="2743200"/>
          <a:ext cx="3124440" cy="19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2743200"/>
                    <a:ext cx="3124440" cy="198756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57040" y="2743200"/>
            <a:ext cx="3327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Last Time: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Gauss’s Law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9F7D8-035F-4631-BE1B-A902491FAC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143000" y="1504800"/>
          <a:ext cx="641016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504800"/>
                    <a:ext cx="641016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Parallel Plate Capacito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514600" y="1600200"/>
                <a:ext cx="11811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514600" y="5029200"/>
                <a:ext cx="11811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9" name=""/>
          <p:cNvGrpSpPr/>
          <p:nvPr/>
        </p:nvGrpSpPr>
        <p:grpSpPr>
          <a:xfrm>
            <a:off x="5257800" y="1836720"/>
            <a:ext cx="2228760" cy="3413160"/>
            <a:chOff x="5257800" y="1836720"/>
            <a:chExt cx="2228760" cy="3413160"/>
          </a:xfrm>
        </p:grpSpPr>
        <p:graphicFrame>
          <p:nvGraphicFramePr>
            <p:cNvPr id="110" name=""/>
            <p:cNvGraphicFramePr/>
            <p:nvPr/>
          </p:nvGraphicFramePr>
          <p:xfrm>
            <a:off x="5448240" y="1836720"/>
            <a:ext cx="1562040" cy="525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48240" y="1836720"/>
                      <a:ext cx="1562040" cy="5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5257800" y="4724280"/>
            <a:ext cx="1757520" cy="525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57800" y="4724280"/>
                      <a:ext cx="1757520" cy="5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7010280" y="3200400"/>
                  <a:ext cx="4762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 flipV="1">
              <a:off x="6885720" y="2133720"/>
              <a:ext cx="456120" cy="60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3551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355130"/>
                </a:path>
              </a:pathLst>
            </a:custGeom>
            <a:noFill/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85720" y="4343400"/>
              <a:ext cx="456120" cy="60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3551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355130"/>
                </a:path>
              </a:pathLst>
            </a:custGeom>
            <a:noFill/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7" name=""/>
          <p:cNvGraphicFramePr/>
          <p:nvPr/>
        </p:nvGraphicFramePr>
        <p:xfrm>
          <a:off x="1068480" y="3276720"/>
          <a:ext cx="1141200" cy="55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8480" y="3276720"/>
                    <a:ext cx="11412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D8368-0973-4ABE-B248-13053C055D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Parallel Plate Capacito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14300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hen you put opposite charges on plates, charges move to the inner surfaces of the plates to get as close as possible to charges of the opposite 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14600" y="266688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90920" y="58672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Link to capacitor 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C060-B3EF-4205-82AA-1CCACDBC22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Calculating E (Gauss’s Law)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2280" y="4343400"/>
          <a:ext cx="2367000" cy="11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343400"/>
                    <a:ext cx="236700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400800" y="4343400"/>
                <a:ext cx="226836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A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27" name=""/>
          <p:cNvGraphicFramePr/>
          <p:nvPr/>
        </p:nvGraphicFramePr>
        <p:xfrm>
          <a:off x="2895480" y="4343400"/>
          <a:ext cx="314496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4343400"/>
                    <a:ext cx="314496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457200" y="1219320"/>
            <a:ext cx="8126280" cy="2995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5791320"/>
            <a:ext cx="8101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 We only “consider” a single sheet!  Doesn’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ther sheet ma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1B967-D514-411F-89B7-8E7D13B256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Alternate Calculation Method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57560" y="4916520"/>
          <a:ext cx="4147920" cy="11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7560" y="4916520"/>
                    <a:ext cx="4147920" cy="110340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3124080" y="21114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+ + + + + + + + + + + + +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0760" y="2100240"/>
            <a:ext cx="19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op She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759120" y="141084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660920" y="141084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575320" y="141084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502320" y="141084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772080" y="2401560"/>
            <a:ext cx="0" cy="20574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4660560" y="2630520"/>
            <a:ext cx="12600" cy="18288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5587920" y="2630520"/>
            <a:ext cx="12960" cy="18288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502320" y="2630520"/>
            <a:ext cx="0" cy="18288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057400" y="1182600"/>
          <a:ext cx="1654200" cy="110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1182600"/>
                    <a:ext cx="165420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2109960" y="2478240"/>
          <a:ext cx="1395360" cy="110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09960" y="2478240"/>
                    <a:ext cx="1395360" cy="11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3149640" y="329076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  -  -  -  -  -  -  - -  -  -  -  - 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0400" y="3316320"/>
            <a:ext cx="24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ottom She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089240" y="36968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991040" y="36968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05440" y="36968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832440" y="36968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32440" y="1410840"/>
            <a:ext cx="0" cy="2057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918040" y="1410840"/>
            <a:ext cx="0" cy="2057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991040" y="1410840"/>
            <a:ext cx="0" cy="2057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089240" y="1410840"/>
            <a:ext cx="0" cy="2057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934320" y="2478240"/>
          <a:ext cx="1393560" cy="110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4320" y="2478240"/>
                    <a:ext cx="1393560" cy="11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958080" y="3657600"/>
          <a:ext cx="1652400" cy="110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58080" y="3657600"/>
                    <a:ext cx="165240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 flipV="1">
            <a:off x="3924360" y="2552760"/>
            <a:ext cx="0" cy="914400"/>
          </a:xfrm>
          <a:prstGeom prst="line">
            <a:avLst/>
          </a:prstGeom>
          <a:ln w="76320">
            <a:solidFill>
              <a:srgbClr val="66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826160" y="2552760"/>
            <a:ext cx="0" cy="914400"/>
          </a:xfrm>
          <a:prstGeom prst="line">
            <a:avLst/>
          </a:prstGeom>
          <a:ln w="76320">
            <a:solidFill>
              <a:srgbClr val="66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753160" y="2565360"/>
            <a:ext cx="0" cy="914400"/>
          </a:xfrm>
          <a:prstGeom prst="line">
            <a:avLst/>
          </a:prstGeom>
          <a:ln w="76320">
            <a:solidFill>
              <a:srgbClr val="66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667560" y="2577960"/>
            <a:ext cx="0" cy="914400"/>
          </a:xfrm>
          <a:prstGeom prst="line">
            <a:avLst/>
          </a:prstGeom>
          <a:ln w="76320">
            <a:solidFill>
              <a:srgbClr val="66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ABE5F-60D7-4A5B-A27D-0131646B91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Parallel Plate Capacito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320" y="6060960"/>
            <a:ext cx="8991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depends only on geometric factors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52280" y="4495680"/>
          <a:ext cx="2819520" cy="12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495680"/>
                    <a:ext cx="281952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172200" y="4648320"/>
                <a:ext cx="25257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ΔV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A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914400" y="1066680"/>
            <a:ext cx="7118280" cy="327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"/>
          <p:cNvGraphicFramePr/>
          <p:nvPr/>
        </p:nvGraphicFramePr>
        <p:xfrm>
          <a:off x="3897360" y="4594320"/>
          <a:ext cx="136044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97360" y="4594320"/>
                    <a:ext cx="136044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971800" y="4857840"/>
          <a:ext cx="907920" cy="45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71800" y="4857840"/>
                    <a:ext cx="90792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C0C82-133D-49A2-B0AE-39FF079A0A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emonstra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Big Capacito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ED448-130E-450B-AB95-921AF34A863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Spherical Capacito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2240" y="16876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106668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ncentric spherical shells of radii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26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2444760" cy="2590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565440" y="24494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42670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auss’s Law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E ≠ 0 only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a &lt; r &lt;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, where it looks like a point char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895480" y="5334120"/>
                <a:ext cx="274320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6021720" y="251460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0CB1-22CE-4B86-BD6A-50ACAAA44A0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Spherical Capacito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9040" y="5257800"/>
            <a:ext cx="86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 isolat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spherical conductor of radiu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219480" y="1066680"/>
          <a:ext cx="2724120" cy="12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19480" y="1066680"/>
                    <a:ext cx="272412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066680" y="3386160"/>
                <a:ext cx="4467240" cy="14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ΔV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0" name="26" descr=""/>
          <p:cNvPicPr/>
          <p:nvPr/>
        </p:nvPicPr>
        <p:blipFill>
          <a:blip r:embed="rId3"/>
          <a:stretch/>
        </p:blipFill>
        <p:spPr>
          <a:xfrm>
            <a:off x="5867280" y="2286000"/>
            <a:ext cx="2876760" cy="3048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971800" y="5791320"/>
                <a:ext cx="25909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π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92" name=""/>
          <p:cNvGraphicFramePr/>
          <p:nvPr/>
        </p:nvGraphicFramePr>
        <p:xfrm>
          <a:off x="304920" y="1066680"/>
          <a:ext cx="2787480" cy="120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1066680"/>
                    <a:ext cx="278748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6189840" y="1122480"/>
          <a:ext cx="2430360" cy="110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89840" y="1122480"/>
                    <a:ext cx="2430360" cy="11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27880" y="2427120"/>
            <a:ext cx="558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positive or negative? 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9BB5A-87A7-46DC-B531-4E3B1E32DCA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Capacitance of Earth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8280" y="1425600"/>
            <a:ext cx="75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 isola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pherical conductor of radiu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971800" y="1905120"/>
                <a:ext cx="240516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π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72880" y="2819520"/>
                <a:ext cx="45849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/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464080" y="2819520"/>
                <a:ext cx="3267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7400" y="4191120"/>
                <a:ext cx="49467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m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257760" y="5410080"/>
            <a:ext cx="86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arad is REALLY BIG!  We usually use pF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r nF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CBEB-71AC-4B0C-8237-F82CD656DE1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1 Farad Capacito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45080" y="2014560"/>
            <a:ext cx="32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char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994120" y="2624040"/>
          <a:ext cx="2859120" cy="15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4120" y="2624040"/>
                    <a:ext cx="285912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466B5-2172-4F25-A96F-2F985FF0AE7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69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Gauss’s Law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3320" y="1523880"/>
            <a:ext cx="3706560" cy="373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3886200" y="1523880"/>
          <a:ext cx="510552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1523880"/>
                    <a:ext cx="5105520" cy="180036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4112280" y="3763800"/>
            <a:ext cx="492480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actice, use symmet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erical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lindrical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ar (Pillbox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B1AB1-B9B5-4A4D-A479-E67CF7A53F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S Ques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hanging C Dimension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5528D-CD55-4C73-99EA-F552207C623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emonstra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hanging C Dimension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A25D0-2502-4F19-812E-241E336EF67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nergy Stored in Capacito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F441E-28A5-4BE3-B1AF-C813224C0B5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nergy To Charge Capacito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22800" y="255276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038480"/>
            <a:ext cx="8991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or starts uncharg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rry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d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rom bottom to top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w top has charge q = +dq, bottom -d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nish when top has charge q = +Q, bottom -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610840" cy="30276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006240" y="13604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53400" y="32004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3002E-79A1-4A70-9610-10A7ADC8B69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Work Done Charging Capacito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137160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t some point top plate h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bottom h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–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tential difference is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 /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ork done lifting anothe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W = dq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22800" y="255276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8610480" cy="30272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853600" y="32655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01120" y="51055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A3B79-9A88-4D3E-BB0B-C7DEBC8B364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04920" y="9144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22800" y="255276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280" y="1295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 work done to mov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30780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tal energy to charge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 = Q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Work Done Charging Capacito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600200" y="2124000"/>
          <a:ext cx="2332080" cy="5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24000"/>
                    <a:ext cx="23320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914400" y="3733920"/>
          <a:ext cx="3733920" cy="13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733920"/>
                    <a:ext cx="373392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3886200" y="1828800"/>
          <a:ext cx="2987640" cy="112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1828800"/>
                    <a:ext cx="298764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1905120" y="5181480"/>
          <a:ext cx="1904760" cy="153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5120" y="5181480"/>
                    <a:ext cx="1904760" cy="153036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36" name="" descr=""/>
          <p:cNvPicPr/>
          <p:nvPr/>
        </p:nvPicPr>
        <p:blipFill>
          <a:blip r:embed="rId9"/>
          <a:srcRect l="0" t="0" r="36620" b="0"/>
          <a:stretch/>
        </p:blipFill>
        <p:spPr>
          <a:xfrm>
            <a:off x="4876920" y="4038480"/>
            <a:ext cx="4114800" cy="22831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8003160" y="41432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79120" y="55530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8D099-2D12-41DF-A7B1-6660291958A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nergy Stored in Capacito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505320" y="1282680"/>
          <a:ext cx="2057400" cy="13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282680"/>
                    <a:ext cx="205740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2211120" y="1523880"/>
            <a:ext cx="119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066680" y="2797200"/>
                <a:ext cx="6858000" cy="15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Q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ΔV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C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ΔV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1072440" y="4648320"/>
            <a:ext cx="712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is the energy stored?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A301D-FAB1-41CD-AA7E-2176B833837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nergy Stored in Capacito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685800" y="5029200"/>
          <a:ext cx="7589880" cy="14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029200"/>
                    <a:ext cx="7589880" cy="141444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228600" y="3581280"/>
          <a:ext cx="1595520" cy="8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581280"/>
                    <a:ext cx="15955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380880" y="24382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llel-plate capaci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4724280" y="2173320"/>
          <a:ext cx="3962520" cy="112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2173320"/>
                    <a:ext cx="396252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1374840" y="1295280"/>
            <a:ext cx="641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ergy stored in the E field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981080" y="3505320"/>
          <a:ext cx="4470480" cy="939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505320"/>
                    <a:ext cx="447048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477120" y="3733920"/>
          <a:ext cx="2334960" cy="51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77120" y="3733920"/>
                    <a:ext cx="23349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6EB14-6E3A-47CD-9FFF-619517EE49B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1 Farad Capacitor - Energy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70480" y="1295280"/>
            <a:ext cx="32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energ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666880" y="1676520"/>
          <a:ext cx="3375000" cy="23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76520"/>
                    <a:ext cx="3375000" cy="23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611640" y="4343400"/>
            <a:ext cx="617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to capacitor charged to 3kV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324080" y="4886280"/>
          <a:ext cx="6335640" cy="187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24080" y="4886280"/>
                    <a:ext cx="63356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8E841-C2BC-4D8B-AEF1-AE61BB4400F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RS Question: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hanging C Dimensions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Energy Stored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45585-F81F-4072-9899-FD96A0C6375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432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  <a:ea typeface="新細明體"/>
              </a:rPr>
              <a:t>Conductors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43BF-0EDC-455F-B979-AB898FE31C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emonstra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issectible Capacito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31E2F-7F61-4E0D-A49A-5E448CCDE5BE}" type="slidenum">
              <a:t>40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77695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Conductors and Insulator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1720" y="1752480"/>
            <a:ext cx="82296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 conductor contains charges that are free to move (electrons are weakly bound to ato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xample: me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962520"/>
            <a:ext cx="82296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n insulator contains charges that are NOT free to move (electrons are strongly bound to ato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xamples: plastic, paper, w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AF000-8489-48BD-8ACC-A4EAEFE611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nductors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302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ductors have free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 must be zero inside the condu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ductors are equipotential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8160" y="4648320"/>
            <a:ext cx="5105520" cy="144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48006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utral Condu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14480" y="4595760"/>
            <a:ext cx="53352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4672080"/>
            <a:ext cx="53316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4343400"/>
            <a:ext cx="4267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4440" y="3800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5410080"/>
            <a:ext cx="4267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75B5E-95F7-48F4-BA9D-69F42FA1E3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quipotential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AE20-EBFE-4889-BC9D-63E15BD5EED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opographic Map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4442040" cy="3595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6320" y="1219320"/>
            <a:ext cx="4419360" cy="335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A57D2-B4CD-4D6D-A65C-0531EE84D61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quipotential Curv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5486400"/>
            <a:ext cx="880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ll points on equipotential curve are at same potent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ach curve represented by V(x,y) =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4038480" cy="386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EC91E-F3A8-421F-A823-3BAEB89DBDE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20:04:55Z</dcterms:created>
  <dc:creator>Eric Hudson</dc:creator>
  <dc:description/>
  <cp:keywords>Conductors Capacitor</cp:keywords>
  <dc:language>en-US</dc:language>
  <cp:lastModifiedBy>Sapient</cp:lastModifiedBy>
  <dcterms:modified xsi:type="dcterms:W3CDTF">2005-03-31T04:57:53Z</dcterms:modified>
  <cp:revision>1840</cp:revision>
  <dc:subject>Conductors &amp; Capacitors</dc:subject>
  <dc:title>Presentation 07</dc:title>
</cp:coreProperties>
</file>