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jpeg" ContentType="image/jpeg"/>
  <Override PartName="/ppt/media/image3.wmf" ContentType="image/x-wmf"/>
  <Override PartName="/ppt/media/image33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17.jpeg" ContentType="image/jpeg"/>
  <Override PartName="/ppt/media/image4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5.jpeg" ContentType="image/jpeg"/>
  <Override PartName="/ppt/media/image2.wmf" ContentType="image/x-wmf"/>
  <Override PartName="/ppt/media/image26.wmf" ContentType="image/x-wmf"/>
  <Override PartName="/ppt/media/image27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44.wmf" ContentType="image/x-wmf"/>
  <Override PartName="/ppt/media/image38.wmf" ContentType="image/x-wmf"/>
  <Override PartName="/ppt/media/image39.wmf" ContentType="image/x-wmf"/>
  <Override PartName="/ppt/media/image42.jpeg" ContentType="image/jpeg"/>
  <Override PartName="/ppt/media/image4.wmf" ContentType="image/x-wmf"/>
  <Override PartName="/ppt/media/image34.wmf" ContentType="image/x-wmf"/>
  <Override PartName="/ppt/media/image43.jpeg" ContentType="image/jpeg"/>
  <Override PartName="/ppt/media/image35.png" ContentType="image/png"/>
  <Override PartName="/ppt/media/image46.wmf" ContentType="image/x-wmf"/>
  <Override PartName="/ppt/media/image47.wmf" ContentType="image/x-wmf"/>
  <Override PartName="/ppt/media/image48.wmf" ContentType="image/x-wmf"/>
  <Override PartName="/ppt/media/image10.png" ContentType="image/png"/>
  <Override PartName="/ppt/media/image50.wmf" ContentType="image/x-wmf"/>
  <Override PartName="/ppt/media/image9.png" ContentType="image/png"/>
  <Override PartName="/ppt/media/image37.wmf" ContentType="image/x-wmf"/>
  <Override PartName="/ppt/media/image49.wmf" ContentType="image/x-wmf"/>
  <Override PartName="/ppt/media/image13.png" ContentType="image/png"/>
  <Override PartName="/ppt/media/image41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40.wmf" ContentType="image/x-wmf"/>
  <Override PartName="/ppt/media/image7.png" ContentType="image/png"/>
  <Override PartName="/ppt/media/image36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C5C1-04E4-48C3-860B-A9199E961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DC51-17E8-4ACB-8BB4-E0BECE196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BA2D-8F1F-4AFB-867A-3AF128F96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4E83-14F9-495D-AFD3-C38E81FDA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ABD6-D2A8-4AF4-BB1B-26EA4879FF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C284-F463-402E-96C6-653893FB3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C124-DF8E-47FD-AAD9-4DF10FB10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1DF9-D5C6-4B6E-A72D-63F03DFF8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478C-8882-4769-AACF-0FF6C99D1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74F0-1E07-4692-A1B4-74681865E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55B0-99DF-411C-8690-A4F5EBE0E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C2A9-46C9-41C4-AF23-4F81E090F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9280" y="6543360"/>
            <a:ext cx="63036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77BD-3ED5-4430-9B40-BFB688C97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vectorfields/particleSource/particlesource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vectorfields/particleSink/particlesink.ht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vectorfields/particleCirculate/particleCirculate.htm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electrostatics/pcharges/pcharges.htm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32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urmilab.ch/etexts/einstein/specrel/www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hyperlink" Target="http://web.mit.edu/8.02t/www/802TEAL3D/visualizations/electrostatics/MovingChargePosElec/movingChargePosElec.htm" TargetMode="External"/><Relationship Id="rId7" Type="http://schemas.openxmlformats.org/officeDocument/2006/relationships/slideLayout" Target="../slideLayouts/slideLayout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Physics 8.02T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36880" y="1362240"/>
            <a:ext cx="5114880" cy="1076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Welcome To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21120" y="5257800"/>
            <a:ext cx="67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w, please sit anywhere, 9 to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2AE2-202B-4CC1-B183-8108C9EAAE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y The TEAL/Studio Format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 standard assessment measures, TEAL shows a factor of two increase in learning gains as compared to lecture/recitation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see Dori and Belcher, “How Does TEAL Affect Student Learning of E&amp;M Concepts?”,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Journal of the Learning Scienc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14(2) 2004.)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800" y="5791320"/>
            <a:ext cx="85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ottom Line:  Learn More, Retain More, Do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18BA-BA04-4682-88E6-14FC28F4A4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verview of TEAL/Studi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s of 3, Tables of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teach, you discuss, you le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Class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ktop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-Student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89F8-19E5-4771-914E-5579597422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ersonal Response System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(PRS) Ques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hysics Experienc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6160" y="5057640"/>
            <a:ext cx="61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ick up the nearest PR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(under the table in a hold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B306-E318-45C7-9390-C8073B3F26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Your Responsibiliti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7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Class: (You must be present for cred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, Desktop Experiments,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tudy Guide, Review Visu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(Tuesdays 4:15 p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idterms (45%) + Final (2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DE9C-5EAE-4FE8-963A-083899009E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o Encourage Collaboration, Grades Are NOT Curved In 8.02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90720" y="2209680"/>
            <a:ext cx="7466760" cy="3124440"/>
            <a:chOff x="990720" y="2209680"/>
            <a:chExt cx="7466760" cy="3124440"/>
          </a:xfrm>
        </p:grpSpPr>
        <p:grpSp>
          <p:nvGrpSpPr>
            <p:cNvPr id="70" name=""/>
            <p:cNvGrpSpPr/>
            <p:nvPr/>
          </p:nvGrpSpPr>
          <p:grpSpPr>
            <a:xfrm>
              <a:off x="997920" y="2210760"/>
              <a:ext cx="7450200" cy="3121560"/>
              <a:chOff x="997920" y="2210760"/>
              <a:chExt cx="7450200" cy="31215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997920" y="2210760"/>
                <a:ext cx="843480" cy="304920"/>
                <a:chOff x="997920" y="2210760"/>
                <a:chExt cx="843480" cy="3049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997920" y="2210760"/>
                  <a:ext cx="843480" cy="30492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97920" y="2210760"/>
                  <a:ext cx="843480" cy="30492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1842120" y="2210760"/>
                <a:ext cx="1963800" cy="304920"/>
                <a:chOff x="1842120" y="2210760"/>
                <a:chExt cx="1963800" cy="304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842120" y="2210760"/>
                  <a:ext cx="1963800" cy="30492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  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842120" y="2210760"/>
                  <a:ext cx="1963800" cy="30492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3807000" y="2210760"/>
                <a:ext cx="2327760" cy="304920"/>
                <a:chOff x="3807000" y="2210760"/>
                <a:chExt cx="2327760" cy="3049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807000" y="2210760"/>
                  <a:ext cx="2327760" cy="30492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 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807000" y="2210760"/>
                  <a:ext cx="2327760" cy="30492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135480" y="2210760"/>
                <a:ext cx="2312640" cy="304920"/>
                <a:chOff x="6135480" y="2210760"/>
                <a:chExt cx="2312640" cy="3049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135480" y="2210760"/>
                  <a:ext cx="2312640" cy="30492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  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135480" y="2210760"/>
                  <a:ext cx="2312640" cy="30492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997920" y="2515680"/>
                <a:ext cx="843480" cy="563400"/>
                <a:chOff x="997920" y="2515680"/>
                <a:chExt cx="843480" cy="5634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997920" y="2515680"/>
                  <a:ext cx="84348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 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97920" y="2515680"/>
                  <a:ext cx="84348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842120" y="2515680"/>
                <a:ext cx="1963800" cy="563400"/>
                <a:chOff x="1842120" y="2515680"/>
                <a:chExt cx="1963800" cy="5634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842120" y="2515680"/>
                  <a:ext cx="196380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gt;=95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842120" y="2515680"/>
                  <a:ext cx="196380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807000" y="2515680"/>
                <a:ext cx="2327760" cy="563400"/>
                <a:chOff x="3807000" y="2515680"/>
                <a:chExt cx="2327760" cy="5634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807000" y="2515680"/>
                  <a:ext cx="232776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95 &amp; &gt;=90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807000" y="2515680"/>
                  <a:ext cx="232776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6135480" y="2515680"/>
                <a:ext cx="2312640" cy="563400"/>
                <a:chOff x="6135480" y="2515680"/>
                <a:chExt cx="2312640" cy="5634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135480" y="2515680"/>
                  <a:ext cx="231264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90 &amp; &gt;=85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135480" y="2515680"/>
                  <a:ext cx="231264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997920" y="3079080"/>
                <a:ext cx="843480" cy="563040"/>
                <a:chOff x="997920" y="3079080"/>
                <a:chExt cx="843480" cy="5630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997920" y="3079080"/>
                  <a:ext cx="84348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 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997920" y="3079080"/>
                  <a:ext cx="84348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842120" y="3079080"/>
                <a:ext cx="1963800" cy="563040"/>
                <a:chOff x="1842120" y="3079080"/>
                <a:chExt cx="1963800" cy="5630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842120" y="3079080"/>
                  <a:ext cx="196380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85 &amp; &gt;=80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842120" y="3079080"/>
                  <a:ext cx="196380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807000" y="3079080"/>
                <a:ext cx="2327760" cy="563040"/>
                <a:chOff x="3807000" y="3079080"/>
                <a:chExt cx="2327760" cy="563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807000" y="3079080"/>
                  <a:ext cx="232776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80 &amp; &gt;=75 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807000" y="3079080"/>
                  <a:ext cx="232776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135480" y="3079080"/>
                <a:ext cx="2312640" cy="563040"/>
                <a:chOff x="6135480" y="3079080"/>
                <a:chExt cx="2312640" cy="5630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135480" y="3079080"/>
                  <a:ext cx="231264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75 &amp; &gt;=70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135480" y="3079080"/>
                  <a:ext cx="231264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997920" y="3642480"/>
                <a:ext cx="843480" cy="563400"/>
                <a:chOff x="997920" y="3642480"/>
                <a:chExt cx="843480" cy="563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997920" y="3642480"/>
                  <a:ext cx="84348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 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997920" y="3642480"/>
                  <a:ext cx="84348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842120" y="3642480"/>
                <a:ext cx="1963800" cy="563400"/>
                <a:chOff x="1842120" y="3642480"/>
                <a:chExt cx="1963800" cy="563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842120" y="3642480"/>
                  <a:ext cx="196380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70 &amp; &gt;=67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842120" y="3642480"/>
                  <a:ext cx="196380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807000" y="3642480"/>
                <a:ext cx="2327760" cy="563400"/>
                <a:chOff x="3807000" y="3642480"/>
                <a:chExt cx="2327760" cy="5634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807000" y="3642480"/>
                  <a:ext cx="232776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67 &amp; &gt;=64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07000" y="3642480"/>
                  <a:ext cx="232776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6135480" y="3642480"/>
                <a:ext cx="2312640" cy="563400"/>
                <a:chOff x="6135480" y="3642480"/>
                <a:chExt cx="2312640" cy="5634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135480" y="3642480"/>
                  <a:ext cx="231264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64 &amp; &gt;=60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135480" y="3642480"/>
                  <a:ext cx="2312640" cy="56340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997920" y="4205880"/>
                <a:ext cx="843480" cy="563040"/>
                <a:chOff x="997920" y="4205880"/>
                <a:chExt cx="843480" cy="5630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997920" y="4205880"/>
                  <a:ext cx="84348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 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97920" y="4205880"/>
                  <a:ext cx="84348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842120" y="4205880"/>
                <a:ext cx="1963800" cy="563040"/>
                <a:chOff x="1842120" y="4205880"/>
                <a:chExt cx="1963800" cy="5630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842120" y="4205880"/>
                  <a:ext cx="196380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842120" y="4205880"/>
                  <a:ext cx="196380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807000" y="4205880"/>
                <a:ext cx="2327760" cy="563040"/>
                <a:chOff x="3807000" y="4205880"/>
                <a:chExt cx="2327760" cy="563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807000" y="4205880"/>
                  <a:ext cx="232776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60 &amp; &gt;=55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07000" y="4205880"/>
                  <a:ext cx="232776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135480" y="4205880"/>
                <a:ext cx="2312640" cy="563040"/>
                <a:chOff x="6135480" y="4205880"/>
                <a:chExt cx="2312640" cy="563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135480" y="4205880"/>
                  <a:ext cx="231264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 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35480" y="4205880"/>
                  <a:ext cx="231264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997920" y="4769280"/>
                <a:ext cx="843480" cy="563040"/>
                <a:chOff x="997920" y="4769280"/>
                <a:chExt cx="843480" cy="563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997920" y="4769280"/>
                  <a:ext cx="84348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 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97920" y="4769280"/>
                  <a:ext cx="84348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842120" y="4769280"/>
                <a:ext cx="1963800" cy="563040"/>
                <a:chOff x="1842120" y="4769280"/>
                <a:chExt cx="1963800" cy="563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842120" y="4769280"/>
                  <a:ext cx="196380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 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42120" y="4769280"/>
                  <a:ext cx="196380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807000" y="4769280"/>
                <a:ext cx="2327760" cy="563040"/>
                <a:chOff x="3807000" y="4769280"/>
                <a:chExt cx="2327760" cy="563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807000" y="4769280"/>
                  <a:ext cx="232776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lt;55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807000" y="4769280"/>
                  <a:ext cx="232776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135480" y="4769280"/>
                <a:ext cx="2312640" cy="563040"/>
                <a:chOff x="6135480" y="4769280"/>
                <a:chExt cx="2312640" cy="563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135480" y="4769280"/>
                  <a:ext cx="231264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 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35480" y="4769280"/>
                  <a:ext cx="2312640" cy="563040"/>
                </a:xfrm>
                <a:prstGeom prst="rect">
                  <a:avLst/>
                </a:prstGeom>
                <a:noFill/>
                <a:ln w="284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990720" y="2209680"/>
              <a:ext cx="7466760" cy="3124440"/>
            </a:xfrm>
            <a:prstGeom prst="rect">
              <a:avLst/>
            </a:prstGeom>
            <a:noFill/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1230-220F-47E2-B2A2-452C8938BC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onesty Issu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S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work together B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your own, uncopi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Class Assign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sign your own name to submit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ng another’s name is COD of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assigned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nother’s PRS is COD of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2373-C9C5-44E8-A3F2-572181420B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Physics 8.02 Staff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ctur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mo Group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aduate 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Grad TA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E969-57A2-41D4-AC7F-0D756A865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extbook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02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ff"/>
                </a:solidFill>
                <a:uFillTx/>
                <a:latin typeface="Arial"/>
              </a:rPr>
              <a:t>Required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to E &amp; M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ao, Dourmashkin, and Bel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pplemental (not required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way &amp; Jewett 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dition;  Giancoli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er something else?  Let me know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560" y="5867280"/>
            <a:ext cx="83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ortant:  Find something you can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998D-E605-4EF8-9A43-9F54FBDD58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mmon Questions &amp; Answer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7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functional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Mis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Miss HW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Miss Ex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61000" y="1447920"/>
            <a:ext cx="4075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Grad 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Grad 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Grad 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A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3440" y="5775480"/>
            <a:ext cx="37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733920"/>
            <a:ext cx="8153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 dates &amp; times are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chedule early vacation departures, etc. without consulting these tim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C23F-4CF4-4F93-9E63-A49B741A80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PMingLiU"/>
              </a:rPr>
              <a:t>Physics is not Math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E98A-3CC4-4E90-9458-CDB18C78BD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93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1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0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hys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tudio Physics? (&amp; How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and Scalar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vitational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8EC1-5563-48F1-9DB3-3A12E3A0E7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ut we use concepts from 18.02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7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Integ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Integ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Integ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186080" y="1371600"/>
          <a:ext cx="190980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6080" y="1371600"/>
                    <a:ext cx="19098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191120" y="2300400"/>
          <a:ext cx="2577960" cy="82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300400"/>
                    <a:ext cx="257796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94000" y="3200400"/>
          <a:ext cx="236700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4000" y="3200400"/>
                    <a:ext cx="23670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267080" y="4335480"/>
          <a:ext cx="2052720" cy="69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4335480"/>
                    <a:ext cx="2052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BA77-54BF-42A5-BC8B-7619DCFA01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th Background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2265-7D05-40C2-9810-546DC775F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on’t Worry!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any this is new &amp; I will introduce concepts before use (yell at me if no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 are VERY important – mechanics are almost triv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th introduction/review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me will be schedu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slides will be po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75E9-5765-4374-8BD2-F8A253A570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So what physics do we learn in 8.02 anyway????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F40A-5C34-41D5-A264-7E394718CC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at’s the Physics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1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01:  Intro. to basic physics concepts: motion, force, energy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matter interac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our Fundamental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ange:  Gravity (8.01 … Gen.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Range: Strong and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Range: Electromagnetic (8.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B4E8-A5F4-4D5D-B98C-D68ECD29DB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8.02: Electricity and Magnetis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1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new way of think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objects interact at a distanc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earn about E &amp; M Fields:  how they are created &amp; what they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 Picture 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0" y="3886200"/>
          <a:ext cx="646740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86200"/>
                    <a:ext cx="64674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166920" y="6095880"/>
          <a:ext cx="26244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6920" y="6095880"/>
                    <a:ext cx="26244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-720" y="4191120"/>
            <a:ext cx="228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x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00" y="6126120"/>
            <a:ext cx="30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rentz For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390840"/>
            <a:ext cx="85345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2423-DC94-406C-B0F4-4EAE69FD76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  <a:ea typeface="PMingLiU"/>
              </a:rPr>
              <a:t>Today:  Fields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PMingLiU"/>
              </a:rPr>
              <a:t>In General, then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PMingLiU"/>
              </a:rPr>
              <a:t>Gravitational &amp; Electric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C59E-92E5-45E6-BF26-B021F0E567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calar Field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5486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emperature:  Every location has associated value (number with unit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5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9FEE-7345-4E97-BE35-235F281B53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calar Fields - Contour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4864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lors represent surface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our lines show constant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8863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C54F-5AD0-4A85-9159-0EE2226F69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elds are 3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491000" cy="5486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05520" y="2209680"/>
            <a:ext cx="38862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35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= T(x,y,z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35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rd to visualiz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ork in 2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2769-3D22-4343-AC3B-0A87C662B2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PMingLiU"/>
              </a:rPr>
              <a:t>Why Physics?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4391-88C3-4F13-B5EF-D0F4E74EF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ector Field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ctor (magnitude, direction) at every point in sp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1200" y="6095880"/>
            <a:ext cx="675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Example: Wind Velocity Vector Fie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CFC9-305B-4DCB-8794-95BBC59A581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PMingLiU"/>
              </a:rPr>
              <a:t>Vector Field Exampl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 with Fluid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8023-61E0-4373-BB6D-45A9974374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ector Field Exampl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lows With Sources (</a:t>
            </a:r>
            <a:r>
              <a:rPr b="0" lang="en-US" sz="3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ink to animation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65320" y="608796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12DE-8FBE-4323-88F2-85714EF81F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8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ector Field Exampl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lows With Sinks (</a:t>
            </a:r>
            <a:r>
              <a:rPr b="0" lang="en-US" sz="3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ink to animation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65320" y="608796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FB8D-6924-4545-B5AE-F05483FC85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ector Field Exampl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irculating Flows (</a:t>
            </a:r>
            <a:r>
              <a:rPr b="0" lang="en-US" sz="3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ink to animation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65320" y="608796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94B8-20FB-4C9C-8002-2E52525F69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isualizing Vector Field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ree Method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ctor Field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ows (different colors or length) in direction of field on uniform gr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eld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s tangent to field at every point along 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ss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ures with streaks parallel to field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methods illustrated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Vector Field Diagram Java Appl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571D-22F9-4015-B7DA-AEDEED25B7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ector Fields – Field Lin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field line at any point is tangent to field at that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 lines never cross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240B-53C6-4DB9-A11E-AD8E44C89B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ector Fiel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4240" y="4332240"/>
            <a:ext cx="8259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:  Don’t pick up unit until ready to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’ll know when class is 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01B2-6C72-4DA5-A72B-B1DEEAE926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ector Fields – “Grass Seeds”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65320" y="608796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267440" cy="3186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267080" cy="3187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219680" y="459900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/S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2400" y="459900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74880" y="5551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54864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we don’t know absolute direction, we can determine relativ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D246-D06C-4D8E-B32F-0CF5EDC3E4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“Grass Seed” Visualization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2D90-489A-49B2-8C05-7417DF0BA3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93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y Study Physics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/appreciate 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ap Fil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tterfly Win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nse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70A2-AC2F-4F0E-BF0B-9031958082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ird Field Contes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in familiarity with vector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ed in MIT Museum Exhi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urn in with 2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PSet in Separate Bo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81A0-69E3-4A05-87D3-01F86985BC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PMingLiU"/>
              </a:rPr>
              <a:t>Another Vector Field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PMingLiU"/>
              </a:rPr>
              <a:t>Gravitational Fiel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12F9-5AE0-406E-BCD2-FF0811DD3DB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27360" y="2610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343400" y="1447920"/>
          <a:ext cx="2979720" cy="12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447920"/>
                    <a:ext cx="297972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ample Of Vector Field:  Gravit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7120" y="1347840"/>
            <a:ext cx="377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vitational For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4520" y="2971800"/>
            <a:ext cx="362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vitational Fiel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earth-g" descr=""/>
          <p:cNvPicPr/>
          <p:nvPr/>
        </p:nvPicPr>
        <p:blipFill>
          <a:blip r:embed="rId3"/>
          <a:stretch/>
        </p:blipFill>
        <p:spPr>
          <a:xfrm>
            <a:off x="5638680" y="2666880"/>
            <a:ext cx="320040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320760" y="4010040"/>
          <a:ext cx="5073480" cy="110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760" y="4010040"/>
                    <a:ext cx="507348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28600" y="3886200"/>
            <a:ext cx="52578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1160" y="610236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of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0376-8BE6-41F4-9AAA-897BF45A31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27360" y="2610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ample Of Vector Field:  Gravit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5920" y="1447920"/>
            <a:ext cx="362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vitational Fiel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arth-g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20040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457200" y="2244600"/>
          <a:ext cx="190188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44600"/>
                    <a:ext cx="190188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868720" y="480060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of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88800" y="4343400"/>
          <a:ext cx="481320" cy="6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800" y="4343400"/>
                    <a:ext cx="4813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17400" y="44197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vector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46000" y="5029200"/>
                <a:ext cx="13543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1" name=""/>
          <p:cNvGraphicFramePr/>
          <p:nvPr/>
        </p:nvGraphicFramePr>
        <p:xfrm>
          <a:off x="2452680" y="5214960"/>
          <a:ext cx="2652840" cy="1096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52680" y="5214960"/>
                    <a:ext cx="265284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613320" y="2384280"/>
          <a:ext cx="1492200" cy="72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13320" y="2384280"/>
                    <a:ext cx="149220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70720" y="329076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35560" y="329076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1A66-342F-4166-8CF0-636D2E12BFE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Class Proble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05160" y="1295280"/>
            <a:ext cx="3730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gravitational fiel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at poin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:  Where would you put another mass m to make the field      become 0 at 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09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6019920" y="1752480"/>
          <a:ext cx="347400" cy="5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752480"/>
                    <a:ext cx="3474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8267760" y="3606840"/>
          <a:ext cx="347760" cy="55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7760" y="3606840"/>
                    <a:ext cx="34776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230400" y="5943600"/>
            <a:ext cx="87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Solutions will be posted within one day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616B-D709-4CB0-8522-A85B6821B7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PMingLiU"/>
              </a:rPr>
              <a:t>From Gravitational to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PMingLiU"/>
              </a:rPr>
              <a:t>Electric Field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73B0-D5F8-46F9-B4C6-525A4529E02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1840" y="407520"/>
            <a:ext cx="83962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ic Charge (~Mass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wo types of electric charge: positive and 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t of charge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ul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[C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arge of electron (negative) or proton (positiv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arge is quant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is con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523880" y="2895480"/>
          <a:ext cx="548640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95480"/>
                    <a:ext cx="5486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276720" y="4265640"/>
          <a:ext cx="2133360" cy="7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265640"/>
                    <a:ext cx="21333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838080" y="5560920"/>
          <a:ext cx="2819520" cy="6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5560920"/>
                    <a:ext cx="28195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419720" y="5484960"/>
          <a:ext cx="3962160" cy="78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5484960"/>
                    <a:ext cx="39621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344E-9E8C-4446-AFBC-5BD6BC8298B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9400" y="364680"/>
            <a:ext cx="82342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MS Mincho"/>
              </a:rPr>
              <a:t>Electric Force (~Gravity)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000" y="990720"/>
            <a:ext cx="902268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Mincho"/>
              </a:rPr>
              <a:t>The electric force between charg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MS Mincho"/>
              </a:rPr>
              <a:t>q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Mincho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MS Mincho"/>
              </a:rPr>
              <a:t>q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Mincho"/>
              </a:rPr>
              <a:t>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lsive if charges h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same sig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Mincho"/>
              </a:rPr>
              <a:t>attractive if charges have opposite sig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23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095880" cy="2744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28800" y="6035760"/>
            <a:ext cx="5410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6076800"/>
            <a:ext cx="8305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charges repel and opposites attract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84B7-FD6C-4EFA-A567-4DB6996AEF5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6600" y="407520"/>
            <a:ext cx="83962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  <a:ea typeface="MS Mincho"/>
              </a:rPr>
              <a:t>Coulomb's Law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447560"/>
            <a:ext cx="40384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ulomb’s Law: Force by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902040" y="3276720"/>
          <a:ext cx="4986360" cy="1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2040" y="3276720"/>
                    <a:ext cx="498636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800600" y="1371600"/>
          <a:ext cx="38098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3809880" cy="1712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304920" y="3124080"/>
            <a:ext cx="3352680" cy="306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3962520" y="4495680"/>
          <a:ext cx="480960" cy="68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4495680"/>
                    <a:ext cx="4809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191120" y="457200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vector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419720" y="5181480"/>
                <a:ext cx="13539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92" name=""/>
          <p:cNvGraphicFramePr/>
          <p:nvPr/>
        </p:nvGraphicFramePr>
        <p:xfrm>
          <a:off x="5867280" y="5367240"/>
          <a:ext cx="2971800" cy="1096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5367240"/>
                    <a:ext cx="29718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E314-1A9D-4BB5-B5B6-8E2F02E7A36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MS Mincho"/>
              </a:rPr>
              <a:t>Coulomb's Law:  Exampl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60760" y="1905120"/>
          <a:ext cx="410688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760" y="1905120"/>
                    <a:ext cx="410688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7" name=""/>
          <p:cNvGrpSpPr/>
          <p:nvPr/>
        </p:nvGrpSpPr>
        <p:grpSpPr>
          <a:xfrm>
            <a:off x="228600" y="1066680"/>
            <a:ext cx="3112560" cy="2796120"/>
            <a:chOff x="228600" y="1066680"/>
            <a:chExt cx="3112560" cy="2796120"/>
          </a:xfrm>
        </p:grpSpPr>
        <p:pic>
          <p:nvPicPr>
            <p:cNvPr id="298" name="" descr=""/>
            <p:cNvPicPr/>
            <p:nvPr/>
          </p:nvPicPr>
          <p:blipFill>
            <a:blip r:embed="rId3"/>
            <a:stretch/>
          </p:blipFill>
          <p:spPr>
            <a:xfrm>
              <a:off x="228600" y="1066680"/>
              <a:ext cx="3066840" cy="27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133360" y="167616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= 1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6160" y="3276360"/>
              <a:ext cx="1271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6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2120" y="1143000"/>
              <a:ext cx="1271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3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8640" y="3352680"/>
              <a:ext cx="1271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3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886200" y="990720"/>
                <a:ext cx="1822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4343400"/>
          <a:ext cx="2173320" cy="92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4343400"/>
                    <a:ext cx="21733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52480" y="1371600"/>
            <a:ext cx="1067040" cy="1828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981080" y="2286000"/>
          <a:ext cx="5716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2286000"/>
                    <a:ext cx="571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666880" y="5562720"/>
          <a:ext cx="3303720" cy="98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5562720"/>
                    <a:ext cx="330372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514600" y="4114800"/>
          <a:ext cx="6191280" cy="1339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14600" y="4114800"/>
                    <a:ext cx="6191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9F00-77C9-41FF-9A08-B39F11270B5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8893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y Study Physics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5638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magnetic phenomena led directly to Einstein’s discovery of the nature of space and time, see his paper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ON THE ELECTRODYNAMICS_x000b_OF MOVING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Einstein June 30, 1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5627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last class of the term before the review, we will explain to you how this comes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43D6-F696-4C32-B83D-3E69021ED9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1840" y="321840"/>
            <a:ext cx="8396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Superposition Princip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5867280" y="3276720"/>
          <a:ext cx="27432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276720"/>
                    <a:ext cx="27432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6172200" y="5257800"/>
          <a:ext cx="190512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5257800"/>
                    <a:ext cx="1905120" cy="1222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228600" y="129528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Mincho"/>
              </a:rPr>
              <a:t>Many Charges Pres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Mincho"/>
              </a:rPr>
              <a:t>Net force on any charge is vector sum of forces from other individual char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4800" y="32148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1828800" y="320040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869080" y="467352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A3AA-9308-43AF-9C43-C674EE70482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733920" y="2368440"/>
            <a:ext cx="3352680" cy="25844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4280" y="407520"/>
            <a:ext cx="82342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ic Field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(~g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ic field at a point is the force acting on a test charge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at point, divided by the charge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143000" y="2743200"/>
          <a:ext cx="198108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743200"/>
                    <a:ext cx="1981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380520" y="5270400"/>
            <a:ext cx="392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oint charge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029200" y="4813200"/>
          <a:ext cx="2631960" cy="15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4813200"/>
                    <a:ext cx="26319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85800" y="6278400"/>
            <a:ext cx="76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Animation: field from moving point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1EF7-0E2D-4025-8E1A-89517B394D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91840" y="321840"/>
            <a:ext cx="8396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uperposition Princip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22440" y="1992240"/>
            <a:ext cx="49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1523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due to a coll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int charges is the vector sum of the individual electric fields due to each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38080" y="3048120"/>
          <a:ext cx="7620120" cy="18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76201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7E88-141D-48A5-893E-1639B41642A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ummary Thus Fa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666880" y="2436840"/>
          <a:ext cx="22510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436840"/>
                    <a:ext cx="2251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2971800" y="1463760"/>
            <a:ext cx="5262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972040" y="2455920"/>
          <a:ext cx="2027520" cy="11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72040" y="2455920"/>
                    <a:ext cx="20275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075120" y="4114800"/>
          <a:ext cx="161424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5120" y="4114800"/>
                    <a:ext cx="16142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6265800" y="4057560"/>
          <a:ext cx="157788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65800" y="4057560"/>
                    <a:ext cx="1577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2894400" y="5638680"/>
            <a:ext cx="54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easiest way to pictur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3851280" y="4800600"/>
            <a:ext cx="83808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172200" y="4800600"/>
            <a:ext cx="83808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6960" y="27576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5960" y="42670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BFBC-55BB-43BB-A488-CE15D2F8E5A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Electric Field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742B-B03B-4D86-8C76-17C99BFA21D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y Study Physics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/Appreciate 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33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ctric Guit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33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ound Fault Interrup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33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33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dio Tow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E5A7-C435-4AEC-99D0-FDB0DFC766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y Study Physics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/Appreciate 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 to Solve Difficult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Requ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F8FB-D38E-42C3-A4E3-FC3EEDF027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PMingLiU"/>
              </a:rPr>
              <a:t>Why Studio Physics?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B79F-6EDF-4D01-A1C2-7317C037D3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y The TEAL/Studio Format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 with Large Le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cture/recitations are pas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lab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ack of physical intu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&amp;M is abstract, hard to visual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L/Studio Addresses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cture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teractive, Collaborative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orporates desk top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orporates visualization/simu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240" y="6095880"/>
            <a:ext cx="85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ottom Line:  Learn More, Retain More, Do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8B1B-3722-4E20-A2D2-82EE2415E1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Thin Film DOuble Slit Diffraction</cp:keywords>
  <dc:language>en-US</dc:language>
  <cp:lastModifiedBy>Sapient</cp:lastModifiedBy>
  <dcterms:modified xsi:type="dcterms:W3CDTF">2005-03-31T04:51:16Z</dcterms:modified>
  <cp:revision>1542</cp:revision>
  <dc:subject>Intereference</dc:subject>
  <dc:title>Presentation 01</dc:title>
</cp:coreProperties>
</file>