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9.wmf" ContentType="image/x-wmf"/>
  <Override PartName="/ppt/media/image55.wmf" ContentType="image/x-wmf"/>
  <Override PartName="/ppt/media/image53.jpeg" ContentType="image/jpeg"/>
  <Override PartName="/ppt/media/image51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6.wmf" ContentType="image/x-wmf"/>
  <Override PartName="/ppt/media/image44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43.jpeg" ContentType="image/jpeg"/>
  <Override PartName="/ppt/media/image35.png" ContentType="image/png"/>
  <Override PartName="/ppt/media/image30.wmf" ContentType="image/x-wmf"/>
  <Override PartName="/ppt/media/image58.jpeg" ContentType="image/jpeg"/>
  <Override PartName="/ppt/media/image50.jpeg" ContentType="image/jpeg"/>
  <Override PartName="/ppt/media/image13.wmf" ContentType="image/x-wmf"/>
  <Override PartName="/ppt/media/image1.wmf" ContentType="image/x-wmf"/>
  <Override PartName="/ppt/media/image47.wmf" ContentType="image/x-wmf"/>
  <Override PartName="/ppt/media/image10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41.wmf" ContentType="image/x-wmf"/>
  <Override PartName="/ppt/media/image54.png" ContentType="image/png"/>
  <Override PartName="/ppt/media/image20.wmf" ContentType="image/x-wmf"/>
  <Override PartName="/ppt/media/image17.png" ContentType="image/png"/>
  <Override PartName="/ppt/media/image57.wmf" ContentType="image/x-wmf"/>
  <Override PartName="/ppt/media/image61.wmf" ContentType="image/x-wmf"/>
  <Override PartName="/ppt/media/image19.wmf" ContentType="image/x-wmf"/>
  <Override PartName="/ppt/media/image84.wmf" ContentType="image/x-wmf"/>
  <Override PartName="/ppt/media/image21.jpeg" ContentType="image/jpeg"/>
  <Override PartName="/ppt/media/image69.wmf" ContentType="image/x-wmf"/>
  <Override PartName="/ppt/media/image60.wmf" ContentType="image/x-wmf"/>
  <Override PartName="/ppt/media/image62.wmf" ContentType="image/x-wmf"/>
  <Override PartName="/ppt/media/image24.jpeg" ContentType="image/jpeg"/>
  <Override PartName="/ppt/media/image63.wmf" ContentType="image/x-wmf"/>
  <Override PartName="/ppt/media/image65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77.jpeg" ContentType="image/jpeg"/>
  <Override PartName="/ppt/media/image67.wmf" ContentType="image/x-wmf"/>
  <Override PartName="/ppt/media/image85.wmf" ContentType="image/x-wmf"/>
  <Override PartName="/ppt/media/image73.wmf" ContentType="image/x-wmf"/>
  <Override PartName="/ppt/media/image8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32.wmf" ContentType="image/x-wmf"/>
  <Override PartName="/ppt/media/image22.jpeg" ContentType="image/jpeg"/>
  <Override PartName="/ppt/media/image78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26.wmf" ContentType="image/x-wmf"/>
  <Override PartName="/ppt/media/image76.png" ContentType="image/png"/>
  <Override PartName="/ppt/media/image33.wmf" ContentType="image/x-wmf"/>
  <Override PartName="/ppt/media/image52.jpeg" ContentType="image/jpeg"/>
  <Override PartName="/ppt/media/image18.wmf" ContentType="image/x-wmf"/>
  <Override PartName="/ppt/media/image83.wmf" ContentType="image/x-wmf"/>
  <Override PartName="/ppt/media/image5.jpeg" ContentType="image/jpeg"/>
  <Override PartName="/ppt/media/image48.wmf" ContentType="image/x-wmf"/>
  <Override PartName="/ppt/media/image9.wmf" ContentType="image/x-wmf"/>
  <Override PartName="/ppt/media/image39.wmf" ContentType="image/x-wmf"/>
  <Override PartName="/ppt/media/image6.jpeg" ContentType="image/jpeg"/>
  <Override PartName="/ppt/media/image4.wmf" ContentType="image/x-wmf"/>
  <Override PartName="/ppt/media/image16.wmf" ContentType="image/x-wmf"/>
  <Override PartName="/ppt/media/image11.jpeg" ContentType="image/jpeg"/>
  <Override PartName="/ppt/media/image27.wmf" ContentType="image/x-wmf"/>
  <Override PartName="/ppt/media/image12.wmf" ContentType="image/x-wmf"/>
  <Override PartName="/ppt/media/image42.wmf" ContentType="image/x-wmf"/>
  <Override PartName="/ppt/media/image8.png" ContentType="image/png"/>
  <Override PartName="/ppt/media/image23.jpeg" ContentType="image/jpeg"/>
  <Override PartName="/ppt/media/image3.wmf" ContentType="image/x-wmf"/>
  <Override PartName="/ppt/media/image80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6100-5508-4D42-BBA7-BDD57896A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3F9F-EDE0-4523-B3C8-A5AE454BC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5051-6488-4AB9-A14F-6B0EC97EE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2069-DEE4-45F8-8708-2092967725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8AAD-F279-4C0C-9298-3F5137BEF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18E-D199-4848-BAA8-266A48197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F1C6-4836-4B5C-BA71-82ED16B80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C644-BD2D-47F8-8770-C71328B9A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EBA2-1324-489F-98A6-7E862AE68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9ED5-13D6-44A8-945B-A67D1337A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2559-26BF-40FD-A70E-297CD82DE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4E6C-8FA3-4E03-9EA9-331121583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35800"/>
            <a:ext cx="63036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B1B1-77DD-4084-B3A1-157242B6A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eb.mit.edu/8.02t/www/802TEAL3D/visualizations/electrostatics/Molecules2d/molecules2d.htm" TargetMode="Externa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3.wmf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4.wmf"/><Relationship Id="rId1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image" Target="../media/image5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9.wmf"/><Relationship Id="rId1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image" Target="../media/image5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5.wmf"/><Relationship Id="rId1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7.jpeg"/><Relationship Id="rId5" Type="http://schemas.openxmlformats.org/officeDocument/2006/relationships/image" Target="../media/image77.jpeg"/><Relationship Id="rId6" Type="http://schemas.openxmlformats.org/officeDocument/2006/relationships/image" Target="../media/image77.jpeg"/><Relationship Id="rId7" Type="http://schemas.openxmlformats.org/officeDocument/2006/relationships/image" Target="../media/image77.jpeg"/><Relationship Id="rId8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7.jpeg"/><Relationship Id="rId5" Type="http://schemas.openxmlformats.org/officeDocument/2006/relationships/image" Target="../media/image77.jpeg"/><Relationship Id="rId6" Type="http://schemas.openxmlformats.org/officeDocument/2006/relationships/image" Target="../media/image77.jpeg"/><Relationship Id="rId7" Type="http://schemas.openxmlformats.org/officeDocument/2006/relationships/image" Target="../media/image77.jpe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02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: Electric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p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ous Charge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C160-0F22-492F-9A14-4D0DDE4541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Demonstrations: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Instruments for Charging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2B5A-98D8-497F-801F-7A59104A41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lectric Dipol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cial Charge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775F-FCDA-4B87-9878-6B0D6A73C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Times New Roman"/>
              </a:rPr>
              <a:t>Electric Dipole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0666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wo equal but opposite charg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d by a dista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733920" y="3162240"/>
          <a:ext cx="4806720" cy="13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62240"/>
                    <a:ext cx="4806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28800" y="5715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from negative to positive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5638680"/>
          <a:ext cx="428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638680"/>
                    <a:ext cx="428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838080" y="2438280"/>
            <a:ext cx="1804320" cy="2341800"/>
            <a:chOff x="838080" y="2438280"/>
            <a:chExt cx="1804320" cy="2341800"/>
          </a:xfrm>
        </p:grpSpPr>
        <p:sp>
          <p:nvSpPr>
            <p:cNvPr id="97" name=""/>
            <p:cNvSpPr/>
            <p:nvPr/>
          </p:nvSpPr>
          <p:spPr>
            <a:xfrm>
              <a:off x="860040" y="2438280"/>
              <a:ext cx="685800" cy="685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4094280"/>
              <a:ext cx="685800" cy="6858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27080" y="2743200"/>
              <a:ext cx="0" cy="1752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5320" y="3341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5320" y="24382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pole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9480" y="2666520"/>
            <a:ext cx="0" cy="175284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3200400"/>
          <a:ext cx="428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00400"/>
                    <a:ext cx="428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A3E8-90FD-4AA8-9C67-FDC621E15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283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Why Dipoles?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960" y="2333520"/>
            <a:ext cx="829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ure Likes To Make Dipole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27040" y="5715000"/>
            <a:ext cx="26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47AA-5CDB-4102-83AE-BC831C6F66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Dipoles </a:t>
            </a:r>
            <a:r>
              <a:rPr b="1" i="1" lang="en-US" sz="5400" spc="-1" strike="noStrike">
                <a:solidFill>
                  <a:srgbClr val="000066"/>
                </a:solidFill>
                <a:latin typeface="Arial"/>
              </a:rPr>
              <a:t>make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Field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186B-73F8-415C-98FD-29F45D66F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21840"/>
            <a:ext cx="8634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ic Field Created by Dipo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4248000"/>
          <a:ext cx="230796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248000"/>
                    <a:ext cx="23079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0800" y="5562720"/>
          <a:ext cx="256860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00" y="5562720"/>
                    <a:ext cx="25686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800600" y="9907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u shalt use componen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24080" y="4116240"/>
          <a:ext cx="523584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16240"/>
                    <a:ext cx="5235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124080" y="5421240"/>
          <a:ext cx="523260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421240"/>
                    <a:ext cx="52326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9920" y="2320920"/>
          <a:ext cx="3962520" cy="12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9920" y="2320920"/>
                    <a:ext cx="39625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324000" y="914400"/>
            <a:ext cx="4019400" cy="31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6490-7A0B-451C-946C-8201AF9E8C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S Question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ipole Fall-Off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12A3-E3AB-4F88-8C69-723CE7C6A4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oint Dipole Approxim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038480" y="1676520"/>
          <a:ext cx="4648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76520"/>
                    <a:ext cx="4648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62520" y="3809880"/>
          <a:ext cx="46479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809880"/>
                    <a:ext cx="46479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84480" y="5334120"/>
          <a:ext cx="4724640" cy="12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4480" y="5334120"/>
                    <a:ext cx="47246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fig1a" descr=""/>
          <p:cNvPicPr/>
          <p:nvPr/>
        </p:nvPicPr>
        <p:blipFill>
          <a:blip r:embed="rId7"/>
          <a:stretch/>
        </p:blipFill>
        <p:spPr>
          <a:xfrm>
            <a:off x="593640" y="1123920"/>
            <a:ext cx="2835360" cy="2217600"/>
          </a:xfrm>
          <a:prstGeom prst="rect">
            <a:avLst/>
          </a:prstGeom>
          <a:ln w="0">
            <a:noFill/>
          </a:ln>
        </p:spPr>
      </p:pic>
      <p:pic>
        <p:nvPicPr>
          <p:cNvPr id="132" name="02" descr=""/>
          <p:cNvPicPr/>
          <p:nvPr/>
        </p:nvPicPr>
        <p:blipFill>
          <a:blip r:embed="rId8"/>
          <a:stretch/>
        </p:blipFill>
        <p:spPr>
          <a:xfrm>
            <a:off x="533520" y="3962520"/>
            <a:ext cx="2895480" cy="226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61920" y="3276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 Di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3240" y="61102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i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12408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how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1045-AE5F-4DE6-8D13-2EFCDCA2DF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Shockwave for Dipo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15240" cy="3724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5562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8E64-F012-44A2-9502-9D7325EA1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Dipoles </a:t>
            </a:r>
            <a:r>
              <a:rPr b="1" i="1" lang="en-US" sz="5400" spc="-1" strike="noStrike">
                <a:solidFill>
                  <a:srgbClr val="000066"/>
                </a:solidFill>
                <a:latin typeface="Arial"/>
              </a:rPr>
              <a:t>feel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Field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8613-CAC5-496A-8556-E2E84DB843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 Field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 Gravitational &amp; Electric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9313-D243-4926-9A4A-535A22AF61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Dipole in Field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AD97-6F69-408D-AE22-64E0EB115C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667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pole in Uniform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2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57200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952880" y="1219320"/>
          <a:ext cx="1676520" cy="69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219320"/>
                    <a:ext cx="16765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029200" y="2133720"/>
          <a:ext cx="3962520" cy="65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2133720"/>
                    <a:ext cx="39625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8120" y="3637080"/>
          <a:ext cx="5257800" cy="70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3637080"/>
                    <a:ext cx="52578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30760" y="373392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et For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64832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on Dip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640" y="6095880"/>
            <a:ext cx="65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ends to align with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6067440"/>
          <a:ext cx="428400" cy="68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6067440"/>
                    <a:ext cx="42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295800" y="4429080"/>
          <a:ext cx="1976400" cy="76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95800" y="4429080"/>
                    <a:ext cx="197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48120" y="5291280"/>
          <a:ext cx="3429000" cy="76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8120" y="5291280"/>
                    <a:ext cx="3429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46640" y="4421160"/>
          <a:ext cx="1676520" cy="862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46640" y="4421160"/>
                    <a:ext cx="1676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880" y="5291280"/>
          <a:ext cx="259092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880" y="5291280"/>
                    <a:ext cx="2590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515280" y="5367240"/>
          <a:ext cx="224784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15280" y="5367240"/>
                    <a:ext cx="2247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265560" y="4505400"/>
            <a:ext cx="3663720" cy="71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6773-76B3-4257-A0D1-73CE94360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orque on Dipo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371600"/>
            <a:ext cx="65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9907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Field (dipole + background) shows torqu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029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lines transmit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between dipole field and constant field “pulls” dipole into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124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352680" cy="30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E3B6-3192-4437-8099-BFC32A1F7A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S Question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ipole in Non-Uniform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94E-8368-4E09-BD6F-00E463E0F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tinuous Charge Distribution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3368-EC0B-4318-899E-47EF70A9C0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295280"/>
            <a:ext cx="3733560" cy="5181840"/>
            <a:chOff x="76320" y="1295280"/>
            <a:chExt cx="3733560" cy="5181840"/>
          </a:xfrm>
        </p:grpSpPr>
        <p:sp>
          <p:nvSpPr>
            <p:cNvPr id="174" name=""/>
            <p:cNvSpPr/>
            <p:nvPr/>
          </p:nvSpPr>
          <p:spPr>
            <a:xfrm>
              <a:off x="76320" y="1295280"/>
              <a:ext cx="3733560" cy="51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16040" y="1295280"/>
              <a:ext cx="3017880" cy="5181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76" name=""/>
            <p:cNvGraphicFramePr/>
            <p:nvPr/>
          </p:nvGraphicFramePr>
          <p:xfrm>
            <a:off x="914400" y="5465880"/>
            <a:ext cx="1752480" cy="78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5465880"/>
                      <a:ext cx="17524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8" name=""/>
          <p:cNvSpPr/>
          <p:nvPr/>
        </p:nvSpPr>
        <p:spPr>
          <a:xfrm>
            <a:off x="535320" y="144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640" y="304560"/>
            <a:ext cx="90457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inuous Charge Distribu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718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4348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114800" y="1730520"/>
          <a:ext cx="213372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730520"/>
                    <a:ext cx="2133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86920" y="11430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distribution into p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81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766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9880" y="3484440"/>
          <a:ext cx="2514600" cy="116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3484440"/>
                    <a:ext cx="251460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038840" y="2951280"/>
            <a:ext cx="349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field a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93200" y="467352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pos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334120"/>
            <a:ext cx="48006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038480" y="5440320"/>
          <a:ext cx="2441520" cy="96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38480" y="5440320"/>
                    <a:ext cx="24415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248520" y="1711440"/>
          <a:ext cx="1447560" cy="1009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8520" y="1711440"/>
                    <a:ext cx="1447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477120" y="5334120"/>
          <a:ext cx="1981080" cy="111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77120" y="5334120"/>
                    <a:ext cx="1981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324480" y="3549600"/>
          <a:ext cx="2743200" cy="1077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24480" y="3549600"/>
                    <a:ext cx="27432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9840" y="1295280"/>
            <a:ext cx="3740040" cy="5181840"/>
            <a:chOff x="69840" y="1295280"/>
            <a:chExt cx="3740040" cy="5181840"/>
          </a:xfrm>
        </p:grpSpPr>
        <p:sp>
          <p:nvSpPr>
            <p:cNvPr id="201" name=""/>
            <p:cNvSpPr/>
            <p:nvPr/>
          </p:nvSpPr>
          <p:spPr>
            <a:xfrm>
              <a:off x="93600" y="6283440"/>
              <a:ext cx="3716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6"/>
            <a:stretch/>
          </p:blipFill>
          <p:spPr>
            <a:xfrm>
              <a:off x="69840" y="1295280"/>
              <a:ext cx="3664080" cy="502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BFA5-F52B-4CBE-B947-53D6F4DE95AC}" type="slidenum">
              <a:t>25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inuous Sources:  Charge Density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8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292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3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877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010280" y="5707080"/>
                <a:ext cx="1371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2292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010280" y="3429000"/>
          <a:ext cx="15415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429000"/>
                    <a:ext cx="15415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162920" y="1562040"/>
          <a:ext cx="124596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562040"/>
                    <a:ext cx="12459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685800" y="5410080"/>
            <a:ext cx="5181480" cy="1067040"/>
            <a:chOff x="685800" y="5410080"/>
            <a:chExt cx="5181480" cy="1067040"/>
          </a:xfrm>
        </p:grpSpPr>
        <p:graphicFrame>
          <p:nvGraphicFramePr>
            <p:cNvPr id="218" name=""/>
            <p:cNvGraphicFramePr/>
            <p:nvPr/>
          </p:nvGraphicFramePr>
          <p:xfrm>
            <a:off x="2362320" y="5410080"/>
            <a:ext cx="1609560" cy="459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5410080"/>
                      <a:ext cx="1609560" cy="4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2895480" y="601992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685800" y="5943600"/>
              <a:ext cx="518148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4920" y="3276720"/>
            <a:ext cx="6324480" cy="1523880"/>
            <a:chOff x="304920" y="3276720"/>
            <a:chExt cx="6324480" cy="152388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09480" y="3429000"/>
                  <a:ext cx="4568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4" name=""/>
            <p:cNvSpPr/>
            <p:nvPr/>
          </p:nvSpPr>
          <p:spPr>
            <a:xfrm>
              <a:off x="304920" y="3276720"/>
              <a:ext cx="6324480" cy="1066680"/>
            </a:xfrm>
            <a:prstGeom prst="parallelogram">
              <a:avLst>
                <a:gd name="adj" fmla="val 14822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047760" y="434340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6" name=""/>
            <p:cNvGraphicFramePr/>
            <p:nvPr/>
          </p:nvGraphicFramePr>
          <p:xfrm>
            <a:off x="2379600" y="3554640"/>
            <a:ext cx="225720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9600" y="3554640"/>
                      <a:ext cx="22572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8" name=""/>
          <p:cNvGrpSpPr/>
          <p:nvPr/>
        </p:nvGrpSpPr>
        <p:grpSpPr>
          <a:xfrm>
            <a:off x="533520" y="1142640"/>
            <a:ext cx="6019200" cy="1752840"/>
            <a:chOff x="533520" y="1142640"/>
            <a:chExt cx="6019200" cy="175284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533520" y="13716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657600" y="2438280"/>
                  <a:ext cx="402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 rot="16200000">
              <a:off x="3161880" y="-1028880"/>
              <a:ext cx="1219320" cy="5562360"/>
            </a:xfrm>
            <a:prstGeom prst="can">
              <a:avLst>
                <a:gd name="adj" fmla="val 859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2538360" y="1523880"/>
            <a:ext cx="2658600" cy="45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38360" y="1523880"/>
                      <a:ext cx="26586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705720" y="5234040"/>
                <a:ext cx="2060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705720" y="2971800"/>
                <a:ext cx="2139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705720" y="990720"/>
                <a:ext cx="2219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FB26-45D6-415C-93AE-2C3B662BDE59}" type="slidenum">
              <a:t>26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 of Continuous Sources:  Line of charg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8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292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7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34320" y="1752480"/>
                <a:ext cx="1371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2292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5800" y="1371600"/>
            <a:ext cx="5181480" cy="1066320"/>
            <a:chOff x="685800" y="1371600"/>
            <a:chExt cx="5181480" cy="1066320"/>
          </a:xfrm>
        </p:grpSpPr>
        <p:graphicFrame>
          <p:nvGraphicFramePr>
            <p:cNvPr id="248" name=""/>
            <p:cNvGraphicFramePr/>
            <p:nvPr/>
          </p:nvGraphicFramePr>
          <p:xfrm>
            <a:off x="2362320" y="1371600"/>
            <a:ext cx="1609560" cy="45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1371600"/>
                      <a:ext cx="160956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895480" y="1981080"/>
                  <a:ext cx="4032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685800" y="1904760"/>
              <a:ext cx="518148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629400" y="1143000"/>
                <a:ext cx="2060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5562720" cy="3001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629400" y="35812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 to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FEAA-623B-4607-9613-B5F6E84A21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 of Continuous Sources:  Line of charg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8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292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3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877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934320" y="1752480"/>
                <a:ext cx="1371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2292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85800" y="1371600"/>
            <a:ext cx="5181480" cy="1066320"/>
            <a:chOff x="685800" y="1371600"/>
            <a:chExt cx="5181480" cy="1066320"/>
          </a:xfrm>
        </p:grpSpPr>
        <p:graphicFrame>
          <p:nvGraphicFramePr>
            <p:cNvPr id="266" name=""/>
            <p:cNvGraphicFramePr/>
            <p:nvPr/>
          </p:nvGraphicFramePr>
          <p:xfrm>
            <a:off x="2362320" y="1371600"/>
            <a:ext cx="1609560" cy="45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1371600"/>
                      <a:ext cx="160956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895480" y="1981080"/>
                  <a:ext cx="4032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685800" y="1904760"/>
              <a:ext cx="518148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629400" y="1143000"/>
                <a:ext cx="2060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629400" y="35812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 to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5181840" cy="26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8664-9DDF-4A5D-9815-4DCDD1BE3E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 of Continuous Sources:  Ring of Charg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8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292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3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877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724280" y="1219320"/>
          <a:ext cx="18162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19320"/>
                    <a:ext cx="1816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2292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447920" y="1523880"/>
                <a:ext cx="20602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29400" y="35812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 to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33520" y="2514600"/>
            <a:ext cx="5562360" cy="38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6164-3FAB-4D35-8146-8AB680C81A0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avitational &amp; Electric F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666880" y="2436840"/>
          <a:ext cx="2251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436840"/>
                    <a:ext cx="2251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971800" y="1463760"/>
            <a:ext cx="5262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972040" y="2455920"/>
          <a:ext cx="2027520" cy="11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2040" y="2455920"/>
                    <a:ext cx="20275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75120" y="4114800"/>
          <a:ext cx="161424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5120" y="4114800"/>
                    <a:ext cx="1614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265800" y="4057560"/>
          <a:ext cx="1577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65800" y="4057560"/>
                    <a:ext cx="1577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894400" y="563868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easiest way to pictur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51280" y="4800600"/>
            <a:ext cx="83808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172200" y="4800600"/>
            <a:ext cx="83808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6960" y="2757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5960" y="42670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D82A-C66E-46E1-B89E-4964FEB3A6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 of Continuous Sources:  Ring of Charg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8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3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877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724280" y="1219320"/>
          <a:ext cx="18162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19320"/>
                    <a:ext cx="1816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2292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447920" y="1523880"/>
                <a:ext cx="20602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6629400" y="35812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 to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2514600"/>
            <a:ext cx="5556240" cy="37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62FF-F6B3-47B7-BEBA-A6723999293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ple: Ring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54864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648320"/>
            <a:ext cx="838188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xis of ring of char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arge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828800" y="1003320"/>
            <a:ext cx="5715000" cy="35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5A7B-484B-44B2-AAB2-D3083A09F55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5600" y="321840"/>
            <a:ext cx="8394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ing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24240" y="17175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76320" y="1728720"/>
          <a:ext cx="1295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28720"/>
                    <a:ext cx="1295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33880" y="117000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Think abou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120" y="25909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Pictu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880" y="407520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Defin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4830840"/>
          <a:ext cx="194940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30840"/>
                    <a:ext cx="1949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436760" y="5638680"/>
                <a:ext cx="26557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16" name=""/>
          <p:cNvGraphicFramePr/>
          <p:nvPr/>
        </p:nvGraphicFramePr>
        <p:xfrm>
          <a:off x="3051000" y="4746600"/>
          <a:ext cx="22417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1000" y="4746600"/>
                    <a:ext cx="2241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4876920" y="1031760"/>
            <a:ext cx="4114800" cy="30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2BAB-5477-4F8F-8B95-AC6DBE1BDAFF}" type="slidenum">
              <a:t>32</a:t>
            </a:fld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5600" y="321840"/>
            <a:ext cx="8394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ing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876920" y="1031760"/>
            <a:ext cx="4114800" cy="3017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9440" y="117324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Writ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99400" y="1087560"/>
          <a:ext cx="205236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9400" y="1087560"/>
                    <a:ext cx="2052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65120" y="1828800"/>
          <a:ext cx="2498760" cy="119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120" y="1828800"/>
                    <a:ext cx="2498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79520" y="297180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My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817560" y="3429000"/>
          <a:ext cx="2652840" cy="119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7560" y="3429000"/>
                    <a:ext cx="2652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38080" y="5322960"/>
          <a:ext cx="3230640" cy="92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5322960"/>
                    <a:ext cx="3230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79520" y="449568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 Anothe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085160" y="1581120"/>
                <a:ext cx="1904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33" name=""/>
          <p:cNvGraphicFramePr/>
          <p:nvPr/>
        </p:nvGraphicFramePr>
        <p:xfrm>
          <a:off x="2840040" y="1828800"/>
          <a:ext cx="1962000" cy="119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0040" y="1828800"/>
                    <a:ext cx="19620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981600" y="5160960"/>
          <a:ext cx="4230360" cy="119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81600" y="5160960"/>
                    <a:ext cx="42303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59AD-F5B0-414A-B02E-CA5B0EA18E5D}" type="slidenum">
              <a:t>33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5600" y="321840"/>
            <a:ext cx="8394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ing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880" y="11700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 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74840" y="1676520"/>
          <a:ext cx="423216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676520"/>
                    <a:ext cx="42321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379440" y="4267080"/>
            <a:ext cx="83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l case: everything excep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451560" y="5083200"/>
          <a:ext cx="162576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1560" y="5083200"/>
                    <a:ext cx="162576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4876920" y="1031760"/>
            <a:ext cx="4114800" cy="301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085160" y="1581120"/>
                <a:ext cx="1904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1047600" y="2590920"/>
          <a:ext cx="2230560" cy="119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7600" y="2590920"/>
                    <a:ext cx="22305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60480" y="4952880"/>
          <a:ext cx="911160" cy="87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60480" y="4952880"/>
                    <a:ext cx="9111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820880" y="4856040"/>
          <a:ext cx="4595760" cy="103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0880" y="4856040"/>
                    <a:ext cx="45957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819440" y="5929200"/>
          <a:ext cx="949320" cy="69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19440" y="5929200"/>
                    <a:ext cx="9493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899400" y="1087560"/>
          <a:ext cx="2052360" cy="56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99400" y="1087560"/>
                    <a:ext cx="2052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B28F-6C9D-44FA-A360-29F93DD8695C}" type="slidenum">
              <a:t>34</a:t>
            </a:fld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5600" y="321840"/>
            <a:ext cx="8394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ing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3000" y="99072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Clea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1495440"/>
          <a:ext cx="23083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5440"/>
                    <a:ext cx="23083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4114800" cy="30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171360" y="2622600"/>
          <a:ext cx="4002120" cy="154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2622600"/>
                    <a:ext cx="400212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304920" y="4468680"/>
          <a:ext cx="4038480" cy="154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4468680"/>
                    <a:ext cx="4038480" cy="1541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572000" y="5029200"/>
          <a:ext cx="4579920" cy="154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5029200"/>
                    <a:ext cx="457992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4800600" y="411480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 Check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7740720" y="4138560"/>
          <a:ext cx="1265040" cy="53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40720" y="4138560"/>
                    <a:ext cx="12650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C871-614D-4D5A-AB73-A80C66B82E72}" type="slidenum">
              <a:t>35</a:t>
            </a:fld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523880" y="838080"/>
          <a:ext cx="571500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7150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895480" y="1143000"/>
                <a:ext cx="287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752480" y="4724280"/>
                <a:ext cx="37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400800" y="48006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809880" y="3276720"/>
                <a:ext cx="320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495680" y="2133720"/>
                <a:ext cx="349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183200" y="3498840"/>
            <a:ext cx="15840" cy="12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183200" y="3498840"/>
            <a:ext cx="15840" cy="126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4183200" y="3498840"/>
            <a:ext cx="15840" cy="126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4183200" y="3498840"/>
            <a:ext cx="15840" cy="126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4183200" y="3498840"/>
            <a:ext cx="15840" cy="1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486400" y="1066680"/>
                <a:ext cx="185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400800" y="1905120"/>
                <a:ext cx="181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8280" y="209520"/>
            <a:ext cx="8893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-Class:  Line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308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1476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533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es on perpendicular bisector of uniformly charged line of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way.  The charge on the lin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D200-71F7-4FCE-9AB0-CBE973D0B4E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523880" y="838080"/>
            <a:ext cx="5715000" cy="4519440"/>
            <a:chOff x="1523880" y="838080"/>
            <a:chExt cx="5715000" cy="4519440"/>
          </a:xfrm>
        </p:grpSpPr>
        <p:graphicFrame>
          <p:nvGraphicFramePr>
            <p:cNvPr id="390" name=""/>
            <p:cNvGraphicFramePr/>
            <p:nvPr/>
          </p:nvGraphicFramePr>
          <p:xfrm>
            <a:off x="1523880" y="838080"/>
            <a:ext cx="5715000" cy="451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838080"/>
                      <a:ext cx="5715000" cy="45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895480" y="1142640"/>
                  <a:ext cx="287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3428640" y="2057040"/>
                  <a:ext cx="2383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4724280" y="4038480"/>
                  <a:ext cx="237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1752480" y="4724280"/>
                  <a:ext cx="379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400440" y="4800240"/>
                  <a:ext cx="3812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5562360" y="4038480"/>
                  <a:ext cx="5335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724280" y="4800240"/>
                  <a:ext cx="492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714640" y="3657240"/>
                  <a:ext cx="144792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q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 </m:t>
                      </m:r>
                      <m:r>
                        <m:t xml:space="preserve">d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809880" y="3276360"/>
                  <a:ext cx="320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4876560" y="2742840"/>
                  <a:ext cx="19051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4495680" y="2133360"/>
                  <a:ext cx="3492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403" name="" descr=""/>
            <p:cNvPicPr/>
            <p:nvPr/>
          </p:nvPicPr>
          <p:blipFill>
            <a:blip r:embed="rId3"/>
            <a:stretch/>
          </p:blipFill>
          <p:spPr>
            <a:xfrm>
              <a:off x="4182840" y="3498480"/>
              <a:ext cx="1584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4"/>
            <a:stretch/>
          </p:blipFill>
          <p:spPr>
            <a:xfrm>
              <a:off x="4182840" y="3498480"/>
              <a:ext cx="1584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5"/>
            <a:stretch/>
          </p:blipFill>
          <p:spPr>
            <a:xfrm>
              <a:off x="4182840" y="3498480"/>
              <a:ext cx="1584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6"/>
            <a:stretch/>
          </p:blipFill>
          <p:spPr>
            <a:xfrm>
              <a:off x="4182840" y="3498480"/>
              <a:ext cx="1584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7"/>
            <a:stretch/>
          </p:blipFill>
          <p:spPr>
            <a:xfrm>
              <a:off x="4182840" y="3498480"/>
              <a:ext cx="15840" cy="12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486040" y="1066680"/>
                  <a:ext cx="1857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6400440" y="1904760"/>
                  <a:ext cx="181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int:  Line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308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1476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1476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5332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give the integration variabl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 “primed” variab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A427-04AE-4469-97A0-52A0C42333B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 Field from Line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288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905120" y="1219320"/>
          <a:ext cx="539424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5394240" cy="1573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33520" y="304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4012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14440" y="3711600"/>
          <a:ext cx="291456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3711600"/>
                    <a:ext cx="29145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355140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33520" y="5029200"/>
          <a:ext cx="43434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029200"/>
                    <a:ext cx="4343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715000" y="3886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5257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charge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257-8579-4AE7-94A4-5FC5DC23B48E}" type="slidenum">
              <a:t>38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n-Class: Uniformly Charged Disk </a:t>
            </a:r>
            <a:endParaRPr b="1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115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4876920"/>
            <a:ext cx="838188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xis of disk of char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arge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52880" cy="38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5257800" y="3886200"/>
          <a:ext cx="1469880" cy="4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3886200"/>
                    <a:ext cx="14698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90F0-5F16-4FED-A1AB-C16CB0B560D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lectric Field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BBF2-683B-4554-8CE3-495324C80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3160" y="364680"/>
            <a:ext cx="8394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k:  Two Important Limi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8288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4012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5140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00200" y="1143000"/>
          <a:ext cx="5334120" cy="17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43000"/>
                    <a:ext cx="5334120" cy="176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09480" y="3886200"/>
          <a:ext cx="41911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86200"/>
                    <a:ext cx="4191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09480" y="5181480"/>
          <a:ext cx="3886200" cy="13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181480"/>
                    <a:ext cx="38862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33520" y="3230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4129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00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charged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09920" y="4038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CC8F-3867-4265-A1DF-1C28CD9AD8C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 for Plane is Constant???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7520" y="2030400"/>
            <a:ext cx="77961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pol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falls off like 1/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int charg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falls off like 1/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of charg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falls off like 1/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e of charge:  E 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8A16-5B85-4D1B-85F1-4E35049FC90A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840" y="321840"/>
            <a:ext cx="83962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ield Lin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143000"/>
            <a:ext cx="80773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ield line at any point is tangent to field at that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lines point away from positive charges and terminate on negativ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lines never cross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3" descr=""/>
          <p:cNvPicPr/>
          <p:nvPr/>
        </p:nvPicPr>
        <p:blipFill>
          <a:blip r:embed="rId1"/>
          <a:stretch/>
        </p:blipFill>
        <p:spPr>
          <a:xfrm>
            <a:off x="5029200" y="3784680"/>
            <a:ext cx="2971800" cy="284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790800"/>
            <a:ext cx="3048120" cy="28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9840-6E9E-4795-8F13-309C7ECD8A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14600" y="914400"/>
          <a:ext cx="4141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4141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-Class Proble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343400" y="3733920"/>
                <a:ext cx="307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72000" y="2286000"/>
                <a:ext cx="2509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90920" y="3809880"/>
                <a:ext cx="531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3733920"/>
                <a:ext cx="532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419720" y="1066680"/>
                <a:ext cx="33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28600" y="441972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int charges of equal magnitude but opposite signs,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es along the perpendicular bisector of the line joining the charges,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ve that line.  What is the E field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410080" y="1676520"/>
          <a:ext cx="8812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676520"/>
                    <a:ext cx="8812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5880" y="2057400"/>
                <a:ext cx="144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38680" y="1676520"/>
                <a:ext cx="15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1374-2744-433F-BF37-13DBC1684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Two PRS Questions: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 Field of Finite Number of Point Charg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649F-2D0A-4B3B-9B2A-00DFAD2EF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Charging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7170-12F9-4690-95B4-DE073197A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w Do You Charge Object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er (touch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167360"/>
            <a:ext cx="175284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648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243320"/>
            <a:ext cx="51055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66884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191120"/>
            <a:ext cx="53316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0400" y="4267080"/>
            <a:ext cx="5335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B20D-230D-458E-9463-38E84990F0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Thin Film DOuble Slit Diffraction</cp:keywords>
  <dc:language>en-US</dc:language>
  <cp:lastModifiedBy>Sapient</cp:lastModifiedBy>
  <dcterms:modified xsi:type="dcterms:W3CDTF">2005-03-28T09:04:49Z</dcterms:modified>
  <cp:revision>1463</cp:revision>
  <dc:subject>Intereference</dc:subject>
  <dc:title>Presentation 02</dc:title>
</cp:coreProperties>
</file>