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42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15.jpeg" ContentType="image/jpeg"/>
  <Override PartName="/ppt/media/image2.jpeg" ContentType="image/jpeg"/>
  <Override PartName="/ppt/media/image26.wmf" ContentType="image/x-wmf"/>
  <Override PartName="/ppt/media/image46.jpeg" ContentType="image/jpeg"/>
  <Override PartName="/ppt/media/image11.jpeg" ContentType="image/jpeg"/>
  <Override PartName="/ppt/media/image12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40.wmf" ContentType="image/x-wmf"/>
  <Override PartName="/ppt/media/image43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20.jpeg" ContentType="image/jpeg"/>
  <Override PartName="/ppt/media/image44.wmf" ContentType="image/x-wmf"/>
  <Override PartName="/ppt/media/image47.jpeg" ContentType="image/jpeg"/>
  <Override PartName="/ppt/media/image36.wmf" ContentType="image/x-wmf"/>
  <Override PartName="/ppt/media/image6.wmf" ContentType="image/x-wmf"/>
  <Override PartName="/ppt/media/image19.jpeg" ContentType="image/jpeg"/>
  <Override PartName="/ppt/media/image31.jpeg" ContentType="image/jpeg"/>
  <Override PartName="/ppt/media/image10.wmf" ContentType="image/x-wmf"/>
  <Override PartName="/ppt/media/image38.wmf" ContentType="image/x-wmf"/>
  <Override PartName="/ppt/media/image4.jpeg" ContentType="image/jpeg"/>
  <Override PartName="/ppt/media/image8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9B48-5466-4033-90A8-D5E3F15D1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9C6C-A6B8-4071-9A9E-32259FB6B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8CEF-37D2-4703-B57A-1AF98ED00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8080" y="14475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8080" y="3915360"/>
            <a:ext cx="2673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9484-F68C-42FF-B9AD-1F364BAF4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53F4-B901-4266-9FA7-20CB77598B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038E-788B-48BC-8F36-FE5B6A9F5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3EB7-96E6-4E94-80FC-147EBAA2D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4B61-7164-4691-8E61-3B2A534FE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304560"/>
            <a:ext cx="88934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E865-705B-48F7-A3E2-CB729575B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13CE-49A0-4242-9E59-0FB5A7050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7640" y="39153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2B70-490A-478A-9BFE-0EB7D3A70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243000"/>
            <a:ext cx="889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447560"/>
            <a:ext cx="4051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15360"/>
            <a:ext cx="8302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B410-5267-4C45-A071-8C526DF78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6535800"/>
            <a:ext cx="630000" cy="304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4531-2346-482F-A201-5F8296A61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18600" y="65311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magnetostatics/ParallelWires/Parallel_Wires_640.m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eb.mit.edu/8.02t/www/802TEAL3D/visualizations/magnetostatics/SeriesWires/Series_640.m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magnetostatics/MovingChargePosMag/MovingChargePosMag.htm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eb.mit.edu/8.02t/www/802TEAL3D/visualizations/electrostatics/forceq/forceq.htm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ass 15:  Outlin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netic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t. 6:  Magnetic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r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B Fields: Biot-Sav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274F-D4CC-4977-A7AF-A22B096C814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5 Predictions For Experiment 6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AEAA-1CE0-4EA4-9407-BC8D87578A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periment 6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gnetic Force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018A-42AE-4F11-B064-E0D729704D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590560"/>
            <a:ext cx="88930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id-term Course Evalua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2C1A-F81D-4F49-835B-6E63888010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53416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Lab Summary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urrents FEEL Forces in Magnetic Field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Question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at happens if currents are next to each other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B57B-2F28-4EFE-A9F1-0DB4F298130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arallel &amp; Anti-Parallel Current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3104-3D5D-4CCA-AD96-1621CDFB3F6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ow Do They Interact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284120"/>
            <a:ext cx="870264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charges als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gnetic fiel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rrent in one wi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agnetic field t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e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other wi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rest of today’s fo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581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35812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6760" y="63388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i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2960" y="63388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i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579E-1033-461E-A538-D26C5E87FA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Sources of Magnetic Fields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Biot-Savar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3C23-7B7E-4218-9F18-BBA5CAD1529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lectric Field Of Point Charg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 electric charge produces an electric fiel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0" y="2743200"/>
          <a:ext cx="4038480" cy="19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743200"/>
                    <a:ext cx="4038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752480" y="5638680"/>
                <a:ext cx="420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09680" y="5740560"/>
            <a:ext cx="52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nit vector directed from q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114800" y="3429000"/>
                <a:ext cx="368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33520" y="2133720"/>
            <a:ext cx="3922560" cy="30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672B-FB4F-4115-9D57-BFDBC2AF8F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114800" cy="3656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ield Of Moving Charge</a:t>
            </a:r>
            <a:endParaRPr b="1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676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2952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oving charge with velocity v produces magnetic fie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0" y="2057400"/>
          <a:ext cx="4419720" cy="18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057400"/>
                    <a:ext cx="4419720" cy="18748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76920" y="4419720"/>
          <a:ext cx="420480" cy="56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419720"/>
                    <a:ext cx="4204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86400" y="4267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nit vector directed   from q to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23880" y="4343400"/>
                <a:ext cx="473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345200" y="603396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ermeability of fre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5952960"/>
          <a:ext cx="3810240" cy="6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5952960"/>
                    <a:ext cx="381024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020760" y="2035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380960" y="4191120"/>
            <a:ext cx="447840" cy="4665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E57F-CD29-4F02-BB62-369ED6AE01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9360" y="304560"/>
            <a:ext cx="78850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The Biot-Savart Law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urrent element of length ds carrying current I produces a magnetic fie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925800" cy="341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343400" y="3048120"/>
                <a:ext cx="44956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221840" y="579132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hockwa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4ED0-9E8F-41F8-B72A-CFF5BFCDF5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Last Time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ield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&amp; 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Dipol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3EAF-4C00-48C0-8436-C98B9B5703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379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The Right-Hand Rule #2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559040" cy="3503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3103560" cy="51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5257800" y="5715000"/>
          <a:ext cx="2286000" cy="8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5715000"/>
                    <a:ext cx="22860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4C6F-393B-4A0D-BDE1-2A6A5A330F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nimation:  Field Generated by a Moving Charge (Link)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8288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4321-96FD-4396-8F2C-CC661E2AE2E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emonstration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ield Generated by Wir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51E0-A2E2-40C5-9712-6A3534AD22D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ample : Coil of Radius 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371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sider a coil with radi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nd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6880" y="2286000"/>
          <a:ext cx="28958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86000"/>
                    <a:ext cx="28958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62120" y="4800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nd the magnetic field B at the center 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4651-2C99-49F6-B64C-180AF5BAB6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ample : Coil of Radius 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371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sider a coil with radi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nd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2286000"/>
          <a:ext cx="342900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0"/>
                    <a:ext cx="342900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657600" y="2362320"/>
            <a:ext cx="5334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1)  Think about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gs contribute n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paralle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Ring makes field into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2)  Choose a 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3)  Pick your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4)  Write Biot-Sav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E458-7976-456F-B4C5-A7FF3EC09D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ample : Coil of Radius 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676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066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 the circular part of the coi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90920" y="1600200"/>
          <a:ext cx="15192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00200"/>
                    <a:ext cx="15192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000160" y="3733920"/>
                <a:ext cx="441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25600" y="4572000"/>
                <a:ext cx="78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53" name=""/>
          <p:cNvGraphicFramePr/>
          <p:nvPr/>
        </p:nvGraphicFramePr>
        <p:xfrm>
          <a:off x="228600" y="2362320"/>
          <a:ext cx="3657600" cy="25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365760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91120" y="2908440"/>
          <a:ext cx="2859120" cy="11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2908440"/>
                    <a:ext cx="28591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06728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iot-Sav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343400" y="1600200"/>
          <a:ext cx="349236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1600200"/>
                    <a:ext cx="34923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010280" y="2971800"/>
          <a:ext cx="1619280" cy="106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2971800"/>
                    <a:ext cx="1619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749840" y="4089240"/>
          <a:ext cx="2031840" cy="106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49840" y="4089240"/>
                    <a:ext cx="20318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749840" y="5207040"/>
          <a:ext cx="172224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49840" y="5207040"/>
                    <a:ext cx="1722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D30B-F77F-428A-8771-302B257B5E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28600" y="2057400"/>
          <a:ext cx="373392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37339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ample : Coil of Radius 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066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sider a coil with radi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nd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447920" y="4343400"/>
                <a:ext cx="78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72" name=""/>
          <p:cNvGraphicFramePr/>
          <p:nvPr/>
        </p:nvGraphicFramePr>
        <p:xfrm>
          <a:off x="4114800" y="1676520"/>
          <a:ext cx="227340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676520"/>
                    <a:ext cx="227340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317840" y="2857680"/>
          <a:ext cx="3583080" cy="13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7840" y="2857680"/>
                    <a:ext cx="358308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678200" y="4178160"/>
          <a:ext cx="4237200" cy="13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4178160"/>
                    <a:ext cx="42372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313160" y="5562720"/>
          <a:ext cx="30654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3160" y="5562720"/>
                    <a:ext cx="30654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71F9-FB0E-4C06-A114-EE519089F6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Example : Coil of Radius 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676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41148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is is an EASY Biot-Savart 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 vectors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is is what I would expect on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90720" y="1676520"/>
          <a:ext cx="289548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289548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648320" y="2209680"/>
                <a:ext cx="31334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o pag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A2CD-9AF5-49EE-A06C-CFE37A029E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S Questions: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 fields Generated by Current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D406-A70D-477C-B750-EF74181137D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6324480" cy="416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Group Problem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B Field from Coil of Radius R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523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sider a coil with radi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nd carrying a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440" y="2286000"/>
            <a:ext cx="35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 at point 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198520"/>
            <a:ext cx="22096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much harder than what I just did! Why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7856-5EF0-4456-9427-51661DFE88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769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ield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5640" y="1619280"/>
            <a:ext cx="2354400" cy="2533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4199040"/>
            <a:ext cx="2895480" cy="25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495680" y="3429000"/>
          <a:ext cx="281628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429000"/>
                    <a:ext cx="28162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2920" y="1108080"/>
            <a:ext cx="80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ic Dipoles Create and Feel B Fiel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29280" y="2265480"/>
            <a:ext cx="5283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aw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charges feel a for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20F7-44A3-46BA-8EAF-670BB95ED9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ield Pressures and Tensions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 Way To Understand the qVxB Magnetic Forc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C33A-89B5-48C6-981D-6F67A8E3DBD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685800"/>
            <a:ext cx="88930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ension and Pressures Transmitted by E and B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eld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E or B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mit tension along field direction (Field lines want to pull straigh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ert pressure perpendicular to field (Field lines repe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436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860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F8AF-EB86-4A98-8E7B-81D35A4405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280" y="304560"/>
            <a:ext cx="88934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ample of E Pressure/Tens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4417920"/>
            <a:ext cx="86263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itive charge in uniform (downward) 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ic force on the charge is combinat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ssure pushing down from to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nsion pulling down towards bot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9907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937200" y="24382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i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532E-58E2-49BE-9C08-DC082E6DC9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ample of B Pressure/Tens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4500720"/>
            <a:ext cx="86263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itive charge moving out of page in uniform (downwards) B field.  Magnetic force comb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ssure pushing from le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nsion pulling to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724640" cy="3519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37200" y="24382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i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06A7-5F81-4155-AB5C-EC4F82EA73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What Kind of Motion Does this Lead to?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A38C-0E95-4F6B-B355-2E7A07046B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yclotron Motion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581280" cy="34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572000" y="1711440"/>
          <a:ext cx="205740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711440"/>
                    <a:ext cx="20574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952880" y="3733920"/>
          <a:ext cx="3238560" cy="13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3733920"/>
                    <a:ext cx="32385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724280" y="5181480"/>
          <a:ext cx="4038840" cy="1257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24280" y="5181480"/>
                    <a:ext cx="4038840" cy="12574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962160" y="1143000"/>
            <a:ext cx="50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1) r : radius of the cir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3960" y="3124080"/>
            <a:ext cx="53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2) T : period of the mo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0640" y="5334120"/>
            <a:ext cx="44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3)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: cyclotron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586560" y="1781280"/>
          <a:ext cx="2023920" cy="1146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86560" y="1781280"/>
                    <a:ext cx="2023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1D44-1D75-4AB7-9EFD-789C84E2D8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新細明體"/>
              </a:rPr>
              <a:t>Current Carrying Wir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8246-92B4-4DE6-82CF-EB537231D9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79520" y="1676520"/>
          <a:ext cx="2590560" cy="89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76520"/>
                    <a:ext cx="259056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91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orce on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Current-Carrying Wir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257800" y="1752480"/>
            <a:ext cx="32180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154160" y="2514600"/>
          <a:ext cx="3751200" cy="13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4160" y="2514600"/>
                    <a:ext cx="37512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79520" y="5556240"/>
          <a:ext cx="3125520" cy="107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9520" y="5556240"/>
                    <a:ext cx="3125520" cy="10731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146240" y="3886200"/>
          <a:ext cx="3349440" cy="1384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6240" y="3886200"/>
                    <a:ext cx="334944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2C1F-D17A-4E90-8AFA-2AA8C7569A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Demonstration: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"/>
                <a:ea typeface="新細明體"/>
              </a:rPr>
              <a:t>Jumping Wir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FABD-8AA5-4D6D-8C6C-09E5109460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820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Magnetic Force on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新細明體"/>
              </a:rPr>
              <a:t>Current-Carrying Wir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1822320" cy="2819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16398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16398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048440" y="1752480"/>
            <a:ext cx="1704960" cy="3353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54864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is moving charges, and we know that moving charg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orce in a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6AED-E491-4F6E-8C43-25C14C67D7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04:55Z</dcterms:created>
  <dc:creator>Eric Hudson</dc:creator>
  <dc:description/>
  <cp:keywords>Magnetic Fields Biot-Savart</cp:keywords>
  <dc:language>en-US</dc:language>
  <cp:lastModifiedBy>Sapient</cp:lastModifiedBy>
  <dcterms:modified xsi:type="dcterms:W3CDTF">2005-03-28T09:37:35Z</dcterms:modified>
  <cp:revision>1982</cp:revision>
  <dc:subject>Biot-Savart Law</dc:subject>
  <dc:title>Presentation 15</dc:title>
</cp:coreProperties>
</file>