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7.wmf" ContentType="image/x-wmf"/>
  <Override PartName="/ppt/media/image26.wmf" ContentType="image/x-wmf"/>
  <Override PartName="/ppt/media/image46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8.png" ContentType="image/png"/>
  <Override PartName="/ppt/media/image19.wmf" ContentType="image/x-wmf"/>
  <Override PartName="/ppt/media/image17.jpeg" ContentType="image/jpeg"/>
  <Override PartName="/ppt/media/image16.wmf" ContentType="image/x-wmf"/>
  <Override PartName="/ppt/media/image45.jpeg" ContentType="image/jpeg"/>
  <Override PartName="/ppt/media/image1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5.wmf" ContentType="image/x-wmf"/>
  <Override PartName="/ppt/media/image23.jpeg" ContentType="image/jpeg"/>
  <Override PartName="/ppt/media/image2.wmf" ContentType="image/x-wmf"/>
  <Override PartName="/ppt/media/image32.wmf" ContentType="image/x-wmf"/>
  <Override PartName="/ppt/media/image24.jpeg" ContentType="image/jpeg"/>
  <Override PartName="/ppt/media/image33.wmf" ContentType="image/x-wmf"/>
  <Override PartName="/ppt/media/image12.jpeg" ContentType="image/jpeg"/>
  <Override PartName="/ppt/media/image40.wmf" ContentType="image/x-wmf"/>
  <Override PartName="/ppt/media/image34.jpeg" ContentType="image/jpeg"/>
  <Override PartName="/ppt/media/image35.wmf" ContentType="image/x-wmf"/>
  <Override PartName="/ppt/media/image15.png" ContentType="image/png"/>
  <Override PartName="/ppt/media/image36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37.wmf" ContentType="image/x-wmf"/>
  <Override PartName="/ppt/media/image41.wmf" ContentType="image/x-wmf"/>
  <Override PartName="/ppt/media/image39.jpeg" ContentType="image/jpeg"/>
  <Override PartName="/ppt/media/image49.wmf" ContentType="image/x-wmf"/>
  <Override PartName="/ppt/media/image50.wmf" ContentType="image/x-wmf"/>
  <Override PartName="/ppt/media/image13.wmf" ContentType="image/x-wmf"/>
  <Override PartName="/ppt/media/image30.wmf" ContentType="image/x-wmf"/>
  <Override PartName="/ppt/media/image3.jpeg" ContentType="image/jpeg"/>
  <Override PartName="/ppt/media/image28.wmf" ContentType="image/x-wmf"/>
  <Override PartName="/ppt/media/image11.png" ContentType="image/png"/>
  <Override PartName="/ppt/media/image29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A644-38FF-4F6C-B690-2539D87A6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7E3F-3591-40F7-B4FF-D09DDDC40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3177-2C53-4529-8091-B5065FC0A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9001-7DEB-4D4C-A03A-F2E4EE147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DCE-DB8F-44B6-A663-74D9D4C28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3704-1F95-448F-AA32-DC438036E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C408-4208-49B9-8C03-AA2274BBC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0E51-CDEC-46D0-8F99-CE5C62A93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323A-288A-421A-9073-2A7C5F64D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A8D5-6637-4268-9EA2-06EF01727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40F6-F413-4A46-A1A0-BC48AEDC8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D3BD-7F68-47FB-B40E-347C75985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BE9B-0FAE-4D59-8192-29A493EB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eb.mit.edu/8.02t/www/materials/Movies/distant.avi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image" Target="../media/image34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vangelion.mit.edu/Microsoft/simulations/waves/waves2d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.mit.edu/8.02t/www/materials/Movies/closeup.avi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33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13:  Inter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DC00-68E6-451A-8BE4-4CE0225D93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terference – Phase Shif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0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introduce a phase shi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different, out of phase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in phase, but travel different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5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n fil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5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crowave Demon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5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uble-slit or Diffraction gra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B578-E23F-457D-8DB6-58D0EA98B0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terfere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04CA-7E6A-4021-8A96-BA74774293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tra Path Length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87720" y="1600200"/>
          <a:ext cx="302580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1600200"/>
                    <a:ext cx="30258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187720" y="2362320"/>
          <a:ext cx="30258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7720" y="2362320"/>
                    <a:ext cx="30258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3720" y="18032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73720" y="26035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45040" y="1752480"/>
            <a:ext cx="0" cy="198144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83200" y="1684440"/>
            <a:ext cx="45720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18880" y="14479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has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11120" y="2362320"/>
          <a:ext cx="3025800" cy="15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1120" y="2362320"/>
                    <a:ext cx="30258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1523520" y="22860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73120" y="1598760"/>
          <a:ext cx="952560" cy="6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3120" y="1598760"/>
                    <a:ext cx="952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3962520"/>
          <a:ext cx="8001000" cy="249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962520"/>
                    <a:ext cx="80010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564880" y="228600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 Phas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18120" y="2666880"/>
            <a:ext cx="45720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4191120"/>
            <a:ext cx="26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±1, ±2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7782-232C-4E38-922B-A749FC45C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638440" y="2362320"/>
          <a:ext cx="2397240" cy="15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2362320"/>
                    <a:ext cx="239724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tra Path Length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87720" y="1600200"/>
          <a:ext cx="3025800" cy="15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7720" y="1600200"/>
                    <a:ext cx="30258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193840" y="2362320"/>
          <a:ext cx="3025800" cy="15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3840" y="2362320"/>
                    <a:ext cx="30258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473720" y="18032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3720" y="26035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5040" y="1752480"/>
            <a:ext cx="0" cy="198144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83200" y="1684440"/>
            <a:ext cx="45720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18880" y="14479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has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76240" y="2362320"/>
          <a:ext cx="3025800" cy="15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6240" y="2362320"/>
                    <a:ext cx="30258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H="1">
            <a:off x="1066320" y="228600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1598760"/>
          <a:ext cx="952560" cy="68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1598760"/>
                    <a:ext cx="952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2120" y="3809880"/>
          <a:ext cx="7616880" cy="275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3809880"/>
                    <a:ext cx="761688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565240" y="228600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Phas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18120" y="2666880"/>
            <a:ext cx="45720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1040" y="4876920"/>
            <a:ext cx="26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±1, ±2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333D-397A-4171-A371-2AE8364439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e1ff"/>
                </a:solidFill>
                <a:latin typeface="Arial"/>
              </a:rPr>
              <a:t>Thin Film Interference - Iridescence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Equal Volume Double Bubble"/>
          <p:cNvPicPr/>
          <p:nvPr/>
        </p:nvPicPr>
        <p:blipFill>
          <a:blip r:embed="rId1"/>
          <a:stretch/>
        </p:blipFill>
        <p:spPr>
          <a:xfrm>
            <a:off x="3581280" y="2209680"/>
            <a:ext cx="196560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47920" y="5257800"/>
            <a:ext cx="85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courtesy of John M. Sullivan, University of Illinois and Technical University of Berl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4936-6411-48AA-B032-E36CDC8C91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e1ff"/>
                </a:solidFill>
                <a:latin typeface="Arial"/>
              </a:rPr>
              <a:t>Thin Film Interference - Iridescence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362320"/>
            <a:ext cx="3886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b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terfly W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on Pud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5D15-E97F-4224-996B-4168599EF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in Film:  Extra Path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971800"/>
            <a:ext cx="464832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733920"/>
            <a:ext cx="464832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676520"/>
            <a:ext cx="380880" cy="1295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74280" y="1663560"/>
            <a:ext cx="381240" cy="129564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971800"/>
            <a:ext cx="228600" cy="7621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03240" y="1828800"/>
            <a:ext cx="635040" cy="1866960"/>
          </a:xfrm>
          <a:prstGeom prst="line">
            <a:avLst/>
          </a:prstGeom>
          <a:ln w="63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048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5640" y="306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5520" y="12952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path length ~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00400" y="1828800"/>
          <a:ext cx="5410080" cy="113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828800"/>
                    <a:ext cx="54100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0160" y="4800600"/>
            <a:ext cx="83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on concrete, non-reflective coating on gl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E80F-4BCE-4EB6-8ADE-C95C742222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ase Shift = Extra Path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4419720"/>
          <a:ext cx="304776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419720"/>
                    <a:ext cx="3047760" cy="19317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47360" y="1279440"/>
            <a:ext cx="70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xact relationship betwe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2057400"/>
          <a:ext cx="6622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057400"/>
                    <a:ext cx="6622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98760" y="4572000"/>
          <a:ext cx="5538960" cy="17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8760" y="4572000"/>
                    <a:ext cx="55389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3F53-5057-4A92-BD37-52708102C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wo Transmitt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7A2C-140A-486E-9460-8F79DB9315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icrowave Interfere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295280"/>
            <a:ext cx="64771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m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43000" y="1068480"/>
            <a:ext cx="668664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3A44-6A32-41DD-9A21-CAF4CD33A4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 Microwaves (mw)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25320" y="1447920"/>
          <a:ext cx="77425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447920"/>
                    <a:ext cx="77425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7432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his time: Visible (red) ligh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4160" y="3581280"/>
          <a:ext cx="88898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3581280"/>
                    <a:ext cx="88898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33520" y="48006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How in the world do we measure 1/10,000 of a c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D6D-365E-4176-9741-94CC36760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Two In-Phase Sources: Geometr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0897" t="0" r="0" b="0"/>
          <a:stretch/>
        </p:blipFill>
        <p:spPr>
          <a:xfrm>
            <a:off x="228600" y="914400"/>
            <a:ext cx="4800600" cy="452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5105520" y="914400"/>
          <a:ext cx="3962160" cy="19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914400"/>
                    <a:ext cx="396216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105520" y="3124080"/>
          <a:ext cx="3886200" cy="5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124080"/>
                    <a:ext cx="3886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181480" y="3886200"/>
          <a:ext cx="3810240" cy="622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3886200"/>
                    <a:ext cx="3810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6720" y="5418000"/>
          <a:ext cx="7972560" cy="121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720" y="5418000"/>
                    <a:ext cx="797256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114800" y="7848720"/>
          <a:ext cx="102888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7848720"/>
                    <a:ext cx="1028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E092-E318-452B-B926-544BB0336F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Interference for Two Sources in Phase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3960" y="175752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tru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038480" y="2486160"/>
          <a:ext cx="47037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486160"/>
                    <a:ext cx="4703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62520" y="3733920"/>
          <a:ext cx="4711680" cy="110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733920"/>
                    <a:ext cx="471168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29680" y="510552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stru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971800" y="5105520"/>
          <a:ext cx="2563920" cy="54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105520"/>
                    <a:ext cx="25639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38080" y="5638680"/>
          <a:ext cx="5861160" cy="12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58611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28600" y="1676520"/>
            <a:ext cx="359424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7081920" y="1752480"/>
          <a:ext cx="1379520" cy="493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81920" y="1752480"/>
                    <a:ext cx="13795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89C-6CE9-4899-A9D3-63FD258CB7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In-Class: Lecture Demo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4070520"/>
            <a:ext cx="8534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rom our lecture demo, we meas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 ~ 1.16 m; d ~ 0.24 m;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destructiv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~ ?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stimate the wavelength &amp; frequency of our microwa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1000080"/>
            <a:ext cx="3657600" cy="271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3892680" y="1486080"/>
          <a:ext cx="4870440" cy="102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2680" y="1486080"/>
                    <a:ext cx="487044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2933640"/>
          <a:ext cx="305748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933640"/>
                    <a:ext cx="30574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962520" y="25527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 = 0 (the first minimum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028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E995-B4AF-4A29-8A1B-D66C45A3E8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124080" cy="2855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93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How we measure 1/10,000 of a cm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0384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maller by 10,000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 can be smaller (0.1 mm instead of 0.24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y will only be 10 times smaller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ill meas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806400"/>
            <a:ext cx="54864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ow do you measure the wavelength of l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same experiment we just did (with l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95800" y="2819520"/>
          <a:ext cx="40766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5800" y="2819520"/>
                    <a:ext cx="4076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40CA-E85C-41D9-A90B-CA854C1B5A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he Light Equivalent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wo Sli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D080-8A14-4A1F-9107-341CEEEABD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Young’s Double-Slit Experimen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05720" cy="4565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5765760"/>
            <a:ext cx="6934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right Fringes: Con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ark Fringes: 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14C9-57BA-4007-B279-4D6635474C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PRS Question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ouble Slit Path Differenc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52C0-3D52-4E5F-9695-9982BF002B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ecture 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ouble Sli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1CA9-A2D3-4FD7-85CC-573C7AED8B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iffrac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140D-0FCA-4367-B140-28A32D4FB2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6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ffraction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548080" cy="3581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278080" cy="3429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838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The bending of waves as they pass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ertain obsta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867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spreading after passing though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8294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preading after passing though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2880" y="53341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Dif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6800" y="5257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F176-FF62-47FE-BDF7-E6D3961127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We Use Interferenc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his is also how we know that light is a wave phenomen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C77A-BF67-4237-97FB-066BAA89F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6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Single-Slit Diffrac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7524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4419720" y="2514600"/>
          <a:ext cx="4127400" cy="96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514600"/>
                    <a:ext cx="41274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419720" y="3809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structive interfer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097160" y="5486400"/>
          <a:ext cx="491184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7160" y="5486400"/>
                    <a:ext cx="4911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28600" y="914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rivation” (Motivation) by Di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19810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vide slit into two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48320" y="4216320"/>
          <a:ext cx="3440160" cy="97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4216320"/>
                    <a:ext cx="34401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763560" y="6186600"/>
            <a:ext cx="71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confused – this is DESTRUCTI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8336-5A00-468E-A538-61D432D0DE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tensity Distribu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867280" cy="47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52280" y="1447920"/>
          <a:ext cx="876456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447920"/>
                    <a:ext cx="87645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940D-4F66-48EF-8D56-60CE48160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Putting it Togeth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7B4D-5F2A-4EAA-B911-468008048B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PRS Ques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Two Slits with Width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2158-54FF-4ADC-B114-0954715DC1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wo Slits With Finite Width </a:t>
            </a:r>
            <a:r>
              <a:rPr b="1" i="1" lang="en-US" sz="4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8380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33760" cy="4008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57200" y="990720"/>
            <a:ext cx="8458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With more than one slit having finite wid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, we must consid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Diffraction due to the individual sl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Interference of waves from different slit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6A19-3BA0-49E0-A1DB-4BA3E85F9F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Two Slits With Finite width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a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8380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4000" cy="295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724280" y="1523880"/>
            <a:ext cx="0" cy="2057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0160" y="106668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Order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30640" y="2286000"/>
            <a:ext cx="455760" cy="1498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50480" y="174132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der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72200" y="2209680"/>
          <a:ext cx="243828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09680"/>
                    <a:ext cx="2438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2286000"/>
          <a:ext cx="2362320" cy="6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2286000"/>
                    <a:ext cx="23623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352680" y="2438280"/>
            <a:ext cx="304920" cy="281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7800" y="189396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iff.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B873-9951-4344-9E19-CE2B425CD1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ecture 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ouble Slits with Width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CE1D-BB52-4039-BB4C-36DAC96D53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abinet’s Princip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0880" y="1447920"/>
            <a:ext cx="2438640" cy="1600200"/>
            <a:chOff x="380880" y="1447920"/>
            <a:chExt cx="2438640" cy="1600200"/>
          </a:xfrm>
        </p:grpSpPr>
        <p:sp>
          <p:nvSpPr>
            <p:cNvPr id="265" name=""/>
            <p:cNvSpPr/>
            <p:nvPr/>
          </p:nvSpPr>
          <p:spPr>
            <a:xfrm>
              <a:off x="380880" y="1447920"/>
              <a:ext cx="2438640" cy="160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600200"/>
              <a:ext cx="14479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970360" y="130968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I:  Put in a slit, get dif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1600200"/>
            <a:ext cx="1447560" cy="1295280"/>
            <a:chOff x="838080" y="1600200"/>
            <a:chExt cx="1447560" cy="1295280"/>
          </a:xfrm>
        </p:grpSpPr>
        <p:sp>
          <p:nvSpPr>
            <p:cNvPr id="269" name=""/>
            <p:cNvSpPr/>
            <p:nvPr/>
          </p:nvSpPr>
          <p:spPr>
            <a:xfrm>
              <a:off x="838080" y="1600200"/>
              <a:ext cx="144756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560" y="1600200"/>
              <a:ext cx="2286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47920" y="1600200"/>
            <a:ext cx="22860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19335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II:  Fill up slit, get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440" y="2604960"/>
            <a:ext cx="59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III:  Remove slit, get dif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5053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uperposition, the E field with the slit and the E field with just the filling must be exact opposites in order to canc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429000" y="4495680"/>
          <a:ext cx="2890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495680"/>
                    <a:ext cx="2890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05640" y="569124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intensities are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562720" y="5562720"/>
          <a:ext cx="23032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562720"/>
                    <a:ext cx="23032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DF08-B544-4FFB-BF9B-54FD9DCCCD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13:  To D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1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load Excel Fi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S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 different slits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Use known wid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zeroes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estru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imate wavelength of re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binet says just single slit).  U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rom 1) and zeroes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estru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imate thickness of 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S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 different slits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Use known spac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zeroe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imate wavelength of red 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 Track Spac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iffraction Grating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imate track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8E63-6508-4A6B-80B7-6226B5F317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terference:  The difference between waves and bullets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548080" cy="358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27808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6920" y="5410080"/>
            <a:ext cx="2971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Interfer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light were ma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p of bul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9240" y="5484960"/>
            <a:ext cx="465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erference:  If ligh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wave we see sp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 addition and sub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B9BB-5975-4CD3-B05B-B5C7D27729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terference:  The difference between waves and bullets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interference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18148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914C-FE98-466F-B4C6-7C11B1A3D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nterfere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914400"/>
            <a:ext cx="883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Combination of two or more waves to form composite wave – use superposition princi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ves can ad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tr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stru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267080"/>
            <a:ext cx="80773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ditions for 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the sources must maintain a constant phase with respect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nochroma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the sources consist of waves of a single wave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237200" cy="121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2612880"/>
            <a:ext cx="3200400" cy="15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34E5-EA24-4928-9E6F-A1AD75BEE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icrowave Interferenc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9693-BB59-4D71-A90F-A49B2F95A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terference – Phase Shif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973160"/>
          <a:ext cx="302580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73160"/>
                    <a:ext cx="30258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" y="2735280"/>
          <a:ext cx="3025800" cy="15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35280"/>
                    <a:ext cx="30258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886200" y="1905120"/>
          <a:ext cx="3025800" cy="275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905120"/>
                    <a:ext cx="30258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809880" y="5257800"/>
          <a:ext cx="30258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257800"/>
                    <a:ext cx="3025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743200" y="217656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9764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14880" y="2125800"/>
            <a:ext cx="0" cy="19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9240" y="1600200"/>
            <a:ext cx="47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here as function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2680" y="2057400"/>
            <a:ext cx="45720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480" y="990720"/>
            <a:ext cx="86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traveling waves, moving through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4527720"/>
          <a:ext cx="3025800" cy="15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4527720"/>
                    <a:ext cx="30258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01800" y="5289480"/>
          <a:ext cx="3025800" cy="156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1800" y="5289480"/>
                    <a:ext cx="30258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743200" y="473076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1560" y="55054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4680000"/>
            <a:ext cx="0" cy="19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9240" y="4495680"/>
            <a:ext cx="47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here as function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352680" y="4952880"/>
            <a:ext cx="45720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222640"/>
            <a:ext cx="23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5073480"/>
            <a:ext cx="23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DDED-56DC-4001-983A-DBA9AAF3F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icrowave Interfere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295280"/>
            <a:ext cx="64771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60339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 to m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248520" cy="46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B985-D27B-434B-ABEE-C03E426BB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Interference EM Waves</cp:keywords>
  <dc:language>en-US</dc:language>
  <cp:lastModifiedBy>amro</cp:lastModifiedBy>
  <dcterms:modified xsi:type="dcterms:W3CDTF">2005-04-12T04:54:30Z</dcterms:modified>
  <cp:revision>2255</cp:revision>
  <dc:subject>Interference</dc:subject>
  <dc:title>Presentation 33</dc:title>
</cp:coreProperties>
</file>